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8F4-57A4-4C55-A61B-9FD9E1A1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B242-4642-423C-B600-AF05BB25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A5E-7E18-4793-A452-2CD73115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661-0FB0-4F2D-92B8-9980C526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C5B2-5CC9-499F-8A64-5CE426A7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6A6A-88C3-4C04-85A5-B42B93B0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1E00-0073-42FD-9A0A-4BD54A5C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B76E-86B8-4761-8262-F21FA09B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0167-5D3E-4B40-AC35-C8A35114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CE6B-7635-4AB8-A6EA-54BC3668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84CD-597F-42F1-8127-D06C37F2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8BA6-2B66-4CEB-8188-A7323215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9CF7-753F-4E40-87E9-FFB9595E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DE51-E7E4-4E8C-88AB-677D785E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E519-9691-4695-AFB4-E1E30174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F88C-E4CD-4E82-AE9C-6BE85134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5E32-1B13-4D5C-9D86-5B69FAA1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152-A212-41A7-96B1-2F6A9A0E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E39-5B5F-4758-A7C7-E42730EE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6A7-2F9C-4632-8940-0797CBA6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325-D93F-4C72-B645-2F39E276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1644-CAC7-46E5-A3E7-274D2BFF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34D-57DD-4923-8145-47BBBCA0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0288-BFB1-4D64-A9BA-293CFA77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6502-39A2-4F2B-8674-C1882419A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A67B-F9B6-4461-8FD2-003BC8046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80;&#1074;&#1086;&#1090;&#1085;&#1099;&#1077;" TargetMode="External"/><Relationship Id="rId2" Type="http://schemas.openxmlformats.org/officeDocument/2006/relationships/hyperlink" Target="http://ru.wikipedia.org/wiki/&#1056;&#1072;&#1089;&#1090;&#1077;&#1085;&#1080;&#1103;" TargetMode="External"/><Relationship Id="rId3" Type="http://schemas.openxmlformats.org/officeDocument/2006/relationships/hyperlink" Target="http://ru.wikipedia.org/wiki/&#1043;&#1088;&#1080;&#1073;&#1099;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0;&#1085;&#1080;&#1089;&#1090;&#1077;&#1088;&#1089;&#1090;&#1074;&#1086;_&#1087;&#1088;&#1080;&#1088;&#1086;&#1076;&#1085;&#1099;&#1093;_&#1088;&#1077;&#1089;&#1091;&#1088;&#1089;&#1086;&#1074;_&#1080;_&#1101;&#1082;&#1086;&#1083;&#1086;&#1075;&#1080;&#1080;_&#1056;&#1086;&#1089;&#1089;&#1080;&#1081;&#1089;&#1082;&#1086;&#1081;_&#1060;&#1077;&#1076;&#1077;&#1088;&#1072;&#1094;&#1080;&#1080;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9051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Мастер-класс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Брейн-ринг «Большая охота»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360" y="44953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ый руководитель: Марценюкова Наталья Борис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КОУ СОШ п. Зер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Мандаринк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10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ндаринка — небольшая утка массой 0,4—0,7 кг. Брачный наряд самца мандаринки выделяется среди других уток ярким окрасом оперения. Самец имеет хохол на голове и более ярко раскрашен, чем самка. Существуют и другие, устаревшие, названия — «мандаринская утка» или «китайская ут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Самец и самка в зоопарке Карлсруэ"/>
          <p:cNvPicPr/>
          <p:nvPr/>
        </p:nvPicPr>
        <p:blipFill>
          <a:blip r:embed="rId1"/>
          <a:stretch/>
        </p:blipFill>
        <p:spPr>
          <a:xfrm>
            <a:off x="4648320" y="1981080"/>
            <a:ext cx="42004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Красный волк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62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довольно крупный зверь с длиной тела 76—110 см, хвоста — 45—50 см и массой 17—21 кг. В его облике сочетаются черты волка, лисицы ишакала. От обычного волка красный волк отличается окраской, пушистой шерстью и более длинным хвостом, почти достигающим земли. Характерна укороченная, заострённая морда. Уши большие, стоячие, с закругленными вершинами, высоко посажены на гол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7960" y="1828800"/>
            <a:ext cx="3959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7" descr="245"/>
          <p:cNvPicPr/>
          <p:nvPr/>
        </p:nvPicPr>
        <p:blipFill>
          <a:blip r:embed="rId1"/>
          <a:stretch/>
        </p:blipFill>
        <p:spPr>
          <a:xfrm>
            <a:off x="4800600" y="3352680"/>
            <a:ext cx="40766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845820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4 гейм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В гостях у дедушки Крылов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ылов, Иван Андреевич(1768-1844) - знаменитый русский баснописец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ANd9GcS63XRh8z2R_Ac3DQEKW3CNpGLeHJC5sihmtWyrY-qRDqzFyfvY"/>
          <p:cNvPicPr/>
          <p:nvPr/>
        </p:nvPicPr>
        <p:blipFill>
          <a:blip r:embed="rId1"/>
          <a:stretch/>
        </p:blipFill>
        <p:spPr>
          <a:xfrm>
            <a:off x="5029200" y="1905120"/>
            <a:ext cx="3438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Ворона из басни «Ворона и лисица»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Picture 7" descr="ANd9GcTeUVZBc21AaD1Ds7nB23Y9g6eB1xPq5jW1wbXxKOzeFQpWsjiEBA"/>
          <p:cNvPicPr/>
          <p:nvPr/>
        </p:nvPicPr>
        <p:blipFill>
          <a:blip r:embed="rId1"/>
          <a:stretch/>
        </p:blipFill>
        <p:spPr>
          <a:xfrm>
            <a:off x="1447920" y="1981080"/>
            <a:ext cx="60958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76560" y="244440"/>
            <a:ext cx="3965400" cy="455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Осел из басни «Осел и соловей»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62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krylov16"/>
          <p:cNvPicPr/>
          <p:nvPr/>
        </p:nvPicPr>
        <p:blipFill>
          <a:blip r:embed="rId1"/>
          <a:stretch/>
        </p:blipFill>
        <p:spPr>
          <a:xfrm>
            <a:off x="228600" y="609480"/>
            <a:ext cx="47242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Любите и охраняйте всё, что нас окружает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История создания Красной книги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3962160"/>
            <a:ext cx="3700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67080" y="1904760"/>
            <a:ext cx="465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ая кни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увидела свет в 1963 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́сная кни́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аннотированный список редких и находящихся под угрозой исчезновения </a:t>
            </a:r>
            <a:r>
              <a:rPr b="0" lang="ru-RU" sz="1800" spc="-1" strike="noStrike" u="sng">
                <a:solidFill>
                  <a:srgbClr val="a3ffff"/>
                </a:solidFill>
                <a:uFillTx/>
                <a:latin typeface="Arial"/>
                <a:hlinkClick r:id="rId1"/>
              </a:rPr>
              <a:t>живот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1800" spc="-1" strike="noStrike" u="sng">
                <a:solidFill>
                  <a:srgbClr val="a3ffff"/>
                </a:solidFill>
                <a:uFillTx/>
                <a:latin typeface="Arial"/>
                <a:hlinkClick r:id="rId2"/>
              </a:rPr>
              <a:t>раст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1800" spc="-1" strike="noStrike" u="sng">
                <a:solidFill>
                  <a:srgbClr val="a3ffff"/>
                </a:solidFill>
                <a:uFillTx/>
                <a:latin typeface="Arial"/>
                <a:hlinkClick r:id="rId3"/>
              </a:rPr>
              <a:t>гриб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Красные книги бывают различного уровня — международные, национальные и региона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организационная задача охраны редких и находящихся под угрозой исчезновения видов — их инвентаризация и учёт как в глобальном масштабе, так и в отдельных странах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ANd9GcRkCYuks7p3hARINzszDcEc6AtRJGoNIxvHymOb5ZmYTFmRsRrmYg"/>
          <p:cNvPicPr/>
          <p:nvPr/>
        </p:nvPicPr>
        <p:blipFill>
          <a:blip r:embed="rId4"/>
          <a:stretch/>
        </p:blipFill>
        <p:spPr>
          <a:xfrm>
            <a:off x="307800" y="1981080"/>
            <a:ext cx="3241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1 гейм.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Звери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ANd9GcSxu-NOu3z4T6wnv8KxXmIel-ctXKZ5Gd9E6A01lLk1lMGCheLq95coHJ1x"/>
          <p:cNvPicPr/>
          <p:nvPr/>
        </p:nvPicPr>
        <p:blipFill>
          <a:blip r:embed="rId1"/>
          <a:stretch/>
        </p:blipFill>
        <p:spPr>
          <a:xfrm>
            <a:off x="1143000" y="1905120"/>
            <a:ext cx="69343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Бурундук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10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рундуки́ — род грызунов из семейства беличьих. К бурундукам относятся 25 видов, большинство из которых обитает в Северной Америке, за исключением одного евразийского вида — азиатского, или сибирского, бурунду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ANd9GcQzgZZRtA2O1VXHxsd11pCfR4-S0IP-jeCqYVgJBrxhG8y_IFO-rg"/>
          <p:cNvPicPr/>
          <p:nvPr/>
        </p:nvPicPr>
        <p:blipFill>
          <a:blip r:embed="rId1"/>
          <a:stretch/>
        </p:blipFill>
        <p:spPr>
          <a:xfrm>
            <a:off x="4876920" y="1905120"/>
            <a:ext cx="38862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Крокодил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62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коди́лы — отряд водных позвоночных. В рамках кладистики крокодилы рассматриваются как единственный выживший субклад более широкого клада круротарз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ANd9GcQQpfInbR8cjKlUyzavL2WDaAH88NqD1KVekFXZpx8xztNAO7g-jA"/>
          <p:cNvPicPr/>
          <p:nvPr/>
        </p:nvPicPr>
        <p:blipFill>
          <a:blip r:embed="rId1"/>
          <a:stretch/>
        </p:blipFill>
        <p:spPr>
          <a:xfrm>
            <a:off x="5029200" y="2286000"/>
            <a:ext cx="38862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2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ейм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Пернатые друзья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5" descr="птенцы сокола сапсана в гнезде"/>
          <p:cNvPicPr/>
          <p:nvPr/>
        </p:nvPicPr>
        <p:blipFill>
          <a:blip r:embed="rId1"/>
          <a:stretch/>
        </p:blipFill>
        <p:spPr>
          <a:xfrm>
            <a:off x="1600200" y="1981080"/>
            <a:ext cx="4495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Клест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62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сты́ — род птиц семейства вьюрковых, отряда воробьинообразных. Обитают в лесах Северного полушария, питаются главным образом семенами хвойных растений. Могут гнездоваться летом и зим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ANd9GcTkyX_0PPeku5LPHWSTjAmZpZL5KXircrxIds56m7IdfbWeQB-s"/>
          <p:cNvPicPr/>
          <p:nvPr/>
        </p:nvPicPr>
        <p:blipFill>
          <a:blip r:embed="rId1"/>
          <a:stretch/>
        </p:blipFill>
        <p:spPr>
          <a:xfrm>
            <a:off x="4952880" y="1905120"/>
            <a:ext cx="39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Ястребиная сов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200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стребиная сова — среднего размера длиннохвостая сова, сверху шоколадно-бурая с белыми пятнами, снизу почти белая с резкими тонкими поперечными полосками. Глаза и клюв жёлтые, «ушек» нет. Полёт быстрый, прямолинейный, обычно невысоко над землё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ANd9GcTGresM5qJoLIZsLY_yL-8gW9VKQB2NZ0FmO_2R9ZIkUEgE3PTQ"/>
          <p:cNvPicPr/>
          <p:nvPr/>
        </p:nvPicPr>
        <p:blipFill>
          <a:blip r:embed="rId1"/>
          <a:stretch/>
        </p:blipFill>
        <p:spPr>
          <a:xfrm>
            <a:off x="4114800" y="2343240"/>
            <a:ext cx="472428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3 гейм.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Красная книга Росси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33560" y="1870200"/>
            <a:ext cx="511164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научную основу Красной книги России была взята Красная книга РСФСР, хотя речь шла о принципиально новом издании. Работа по созданию Красной книги России была возложена на вновь созданное </a:t>
            </a:r>
            <a:r>
              <a:rPr b="0" lang="en-US" sz="2400" spc="-1" strike="noStrike" u="sng">
                <a:solidFill>
                  <a:srgbClr val="a3ffff"/>
                </a:solidFill>
                <a:uFillTx/>
                <a:latin typeface="Arial"/>
                <a:hlinkClick r:id="rId1"/>
              </a:rPr>
              <a:t>Министерство природных ресурсов и экологии РФ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В 1992 году при министерстве была создана Комиссия по редким и исчезающим видам животных и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ANd9GcQRD6kXglh4r-kQj4Huneuz-FUOxj6KjQPQxfO2rzp6PH5M_ngY"/>
          <p:cNvPicPr/>
          <p:nvPr/>
        </p:nvPicPr>
        <p:blipFill>
          <a:blip r:embed="rId2"/>
          <a:stretch/>
        </p:blipFill>
        <p:spPr>
          <a:xfrm>
            <a:off x="152280" y="1870200"/>
            <a:ext cx="3326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2:49:43Z</dcterms:created>
  <dc:creator>Admin</dc:creator>
  <dc:description/>
  <dc:language>en-US</dc:language>
  <cp:lastModifiedBy>Admin</cp:lastModifiedBy>
  <dcterms:modified xsi:type="dcterms:W3CDTF">2013-02-03T11:09:5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