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C69-11F9-40A9-9253-8C28BBA4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9247-2427-43E3-AD89-46C3CA01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515-2B8B-47E1-881D-77A500C6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631-40CA-424D-B8A6-2136B641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C94E-6F1D-4A70-94A6-589B8436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4D3-9198-4849-9F1B-6C90B8D3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9B5-EC01-442A-ADA4-5D9379E3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2FA-940E-4F5D-8BF8-97B9E7EC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3D9-9202-4433-88BC-27E0D2CF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D1B-884F-480B-B2D5-AA452B93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31C-DA9A-4F23-A16C-2B1F35FF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CA2-752F-4A8A-ADAB-F4D57193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B7F3-E0D5-4720-81D3-12EB275B4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7724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7030a0"/>
                </a:solidFill>
                <a:latin typeface="Calibri"/>
              </a:rPr>
              <a:t>ОГАОУ СПО «Ровеньский политехнический техникум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7030a0"/>
                </a:solidFill>
                <a:latin typeface="Calibri"/>
              </a:rPr>
              <a:t>«Семья и семейные ценности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j0090386"/>
          <p:cNvPicPr/>
          <p:nvPr/>
        </p:nvPicPr>
        <p:blipFill>
          <a:blip r:embed="rId2"/>
          <a:stretch/>
        </p:blipFill>
        <p:spPr>
          <a:xfrm>
            <a:off x="380880" y="4703760"/>
            <a:ext cx="27432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толян\Desktop\viewer1.png"/>
          <p:cNvPicPr/>
          <p:nvPr/>
        </p:nvPicPr>
        <p:blipFill>
          <a:blip r:embed="rId1"/>
          <a:stretch/>
        </p:blipFill>
        <p:spPr>
          <a:xfrm>
            <a:off x="0" y="11160"/>
            <a:ext cx="913608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Картинка 6 из 36512"/>
          <p:cNvPicPr/>
          <p:nvPr/>
        </p:nvPicPr>
        <p:blipFill>
          <a:blip r:embed="rId1"/>
          <a:stretch/>
        </p:blipFill>
        <p:spPr>
          <a:xfrm>
            <a:off x="0" y="0"/>
            <a:ext cx="4060800" cy="380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Картинка 19 из 36512"/>
          <p:cNvPicPr/>
          <p:nvPr/>
        </p:nvPicPr>
        <p:blipFill>
          <a:blip r:embed="rId2"/>
          <a:stretch/>
        </p:blipFill>
        <p:spPr>
          <a:xfrm>
            <a:off x="4060800" y="3052800"/>
            <a:ext cx="5083200" cy="380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артинка 31 из 36512"/>
          <p:cNvPicPr/>
          <p:nvPr/>
        </p:nvPicPr>
        <p:blipFill>
          <a:blip r:embed="rId3"/>
          <a:stretch/>
        </p:blipFill>
        <p:spPr>
          <a:xfrm>
            <a:off x="0" y="3809880"/>
            <a:ext cx="4067280" cy="304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Картинка 36 из 36512"/>
          <p:cNvPicPr/>
          <p:nvPr/>
        </p:nvPicPr>
        <p:blipFill>
          <a:blip r:embed="rId4"/>
          <a:stretch/>
        </p:blipFill>
        <p:spPr>
          <a:xfrm>
            <a:off x="4060800" y="19080"/>
            <a:ext cx="50832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853440" y="620640"/>
            <a:ext cx="166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Сем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66760" y="1773360"/>
            <a:ext cx="8471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«С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частливая, спортивная, современна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«Е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диная, единственная, единомысля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«М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лая, музыкальная, многоде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«Я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ясная, языковедческая, яр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800240" y="272520"/>
            <a:ext cx="38862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статочно не соблюдать традиции, отталкивать их, насмехаться над ними, чтобы разрушить сем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2590560"/>
            <a:ext cx="4419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емейные  традиции - это все то, чего люди придерживаются в кругу своей семьи, каких бы размеров она ни бы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Администратор\Рабочий стол\конкурс\984176934.jpg"/>
          <p:cNvPicPr/>
          <p:nvPr/>
        </p:nvPicPr>
        <p:blipFill>
          <a:blip r:embed="rId1"/>
          <a:stretch/>
        </p:blipFill>
        <p:spPr>
          <a:xfrm>
            <a:off x="5029200" y="388620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4419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ждение семьи сопровождается красивой традицией – бракосочетанием, молодоженам преподносят хлеб с солью, желают долгих лет счаст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809880" cy="3611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7315200" y="12952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380880" y="2590920"/>
            <a:ext cx="41148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наше время довольно часто нарушается такая традиция: молодые люди живут в «гражданском браке», что само по себе сложно назвать семь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428920" y="319572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мейные  традиции и ритуа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емейные  трапезы (обеды, ужины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чало нового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3886200" cy="3810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3962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74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8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сли у вас заведено каждый день перед сном читать ребенку кни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1"/>
          <a:stretch/>
        </p:blipFill>
        <p:spPr>
          <a:xfrm>
            <a:off x="533520" y="3581280"/>
            <a:ext cx="3581280" cy="28195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в воскресенье вы всей семьей выезжаете на природу, значит, вы храните и соблюдаете традиции вашей сем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4724280" y="3611520"/>
            <a:ext cx="388620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местный досу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143496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7315200" y="1447920"/>
            <a:ext cx="143496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533520" y="2666880"/>
            <a:ext cx="4038480" cy="365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4"/>
          <a:stretch/>
        </p:blipFill>
        <p:spPr>
          <a:xfrm>
            <a:off x="4648320" y="2666880"/>
            <a:ext cx="3962160" cy="3479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5"/>
          <a:stretch/>
        </p:blipFill>
        <p:spPr>
          <a:xfrm>
            <a:off x="3429000" y="137160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1828800" y="1447920"/>
            <a:ext cx="1428840" cy="1181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7"/>
          <a:stretch/>
        </p:blipFill>
        <p:spPr>
          <a:xfrm>
            <a:off x="7315200" y="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8"/>
          <a:stretch/>
        </p:blipFill>
        <p:spPr>
          <a:xfrm>
            <a:off x="762120" y="1143000"/>
            <a:ext cx="9144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Users\толян\Desktop\viewer.png"/>
          <p:cNvPicPr/>
          <p:nvPr/>
        </p:nvPicPr>
        <p:blipFill>
          <a:blip r:embed="rId1"/>
          <a:stretch/>
        </p:blipFill>
        <p:spPr>
          <a:xfrm>
            <a:off x="11160" y="-33480"/>
            <a:ext cx="9132840" cy="684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олян</dc:creator>
  <dc:description/>
  <dc:language>en-US</dc:language>
  <cp:lastModifiedBy>толян</cp:lastModifiedBy>
  <dcterms:modified xsi:type="dcterms:W3CDTF">2012-08-31T14:13:47Z</dcterms:modified>
  <cp:revision>31</cp:revision>
  <dc:subject/>
  <dc:title>"Всему начало - отчий дом«</dc:title>
</cp:coreProperties>
</file>