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6B5-5E73-4B2E-BBA9-35ED78ED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530-0AEA-4502-8008-91885309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811-D7DC-40E6-AEA5-8845EF5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547-577E-4DAA-89CC-D52582B5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DBA-8B6E-413A-8C4D-54620AF6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CF9-A6A4-48E3-A0AD-D6F7A59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941-8CEF-4741-ABAB-F7E64ECE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4D3-A97C-44C5-9CAA-BB88A41F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12A-0267-468A-B9F7-AD72F8C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165-AF15-440A-8031-B2C75DB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44F-F61E-4CBF-8B68-14CFA1C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9AF-4B5B-4B28-AA7B-B293842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dca0"/>
            </a:gs>
            <a:gs pos="100000">
              <a:srgbClr val="f9f3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B2A6-9C1A-4A40-ABCB-B4B16D7DC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840" y="1152360"/>
            <a:ext cx="9613800" cy="335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-463680" y="1060560"/>
            <a:ext cx="1086336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378000" y="1347840"/>
            <a:ext cx="82422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457200"/>
          <a:ext cx="8534160" cy="6095880"/>
        </p:xfrm>
        <a:graphic>
          <a:graphicData uri="http://schemas.openxmlformats.org/drawingml/2006/table">
            <a:tbl>
              <a:tblPr/>
              <a:tblGrid>
                <a:gridCol w="1008000"/>
                <a:gridCol w="1254240"/>
                <a:gridCol w="1253880"/>
                <a:gridCol w="1254240"/>
                <a:gridCol w="1255680"/>
                <a:gridCol w="1254240"/>
                <a:gridCol w="1253880"/>
              </a:tblGrid>
              <a:tr h="87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Ч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Ч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990720" y="1905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ambria"/>
              </a:rPr>
              <a:t>«Макияж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09480" y="486000"/>
            <a:ext cx="8077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1. Нанесение тонального крема - база под макия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2. Корректировка или моделирование лица при помощи пу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3. Контур г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4. Контур гл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5. Тени для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6. Окрашивание ресн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7. Пом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  <a:ea typeface="Times New Roman"/>
              </a:rPr>
              <a:t>8. Сухие рум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378000" y="1182600"/>
            <a:ext cx="82422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3760" y="1420920"/>
            <a:ext cx="97534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ната школьника</cp:lastModifiedBy>
  <dcterms:modified xsi:type="dcterms:W3CDTF">2012-04-28T06:45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