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gif" ContentType="image/gif"/>
  <Override PartName="/ppt/media/image11.jpeg" ContentType="image/jpeg"/>
  <Override PartName="/ppt/media/image23.jpeg" ContentType="image/jpeg"/>
  <Override PartName="/ppt/media/image29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41.gif" ContentType="image/gif"/>
  <Override PartName="/ppt/media/image12.jpeg" ContentType="image/jpeg"/>
  <Override PartName="/ppt/media/image10.gif" ContentType="image/gif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05C-B9F7-432F-A68B-827091AA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50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36960"/>
            <a:ext cx="8150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228-AE99-4E51-8662-6EF4E015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182880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3696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393696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0A62-90DB-4345-8526-602D60DF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2624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828800"/>
            <a:ext cx="2624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400" y="1828800"/>
            <a:ext cx="2624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36960"/>
            <a:ext cx="2624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36960"/>
            <a:ext cx="2624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400" y="3936960"/>
            <a:ext cx="2624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FC9-D789-49C4-8A7F-157DB48E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ADB7-BA72-44A4-9039-7D0DE3CA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160" y="1828800"/>
            <a:ext cx="81500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946A-4794-403D-BEFD-2BC47369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5004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574D-4985-407C-9AB8-312597F2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769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9160" y="1828800"/>
            <a:ext cx="39769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2AB7-7DE5-4AA0-B905-E63BFBC5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863B-11C6-4A5D-BF10-82F40F84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160" y="447840"/>
            <a:ext cx="8150040" cy="54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2AD3-E5FD-4DCF-BA3D-25F9EE4B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9160" y="1828800"/>
            <a:ext cx="39769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93696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BB7C-8DB2-4E9D-B1EB-0F426273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828800"/>
            <a:ext cx="81500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0DE-A538-4F82-8F8E-44D9F168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769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9160" y="182880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09160" y="393696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05B5-8820-4383-987F-E9C0114A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182880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936960"/>
            <a:ext cx="8150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097C-9AAF-4A5B-B384-A179E552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50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160" y="3936960"/>
            <a:ext cx="8150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97EF-555E-4E68-906A-53AE821C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9160" y="182880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160" y="393696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09160" y="393696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4EB6-F368-4E3F-9425-33321E9E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2624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828800"/>
            <a:ext cx="2624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4400" y="1828800"/>
            <a:ext cx="2624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160" y="3936960"/>
            <a:ext cx="2624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36960"/>
            <a:ext cx="2624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4400" y="3936960"/>
            <a:ext cx="2624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2949-DB5A-4E7C-8720-8993F88E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5004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2CD1-F323-4054-9710-7460357B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769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1828800"/>
            <a:ext cx="39769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4AC-5247-4F5C-846B-BD50735C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AD8-DDBE-4370-8642-F9B8D7A8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447840"/>
            <a:ext cx="8150040" cy="54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340C-1242-48B9-9C2E-41A7CFEA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1828800"/>
            <a:ext cx="39769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3696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25A-B33B-4D55-A178-5FCED2E6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769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182880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393696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3AF-0944-4DC2-BD71-B48D72D2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1828800"/>
            <a:ext cx="397692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36960"/>
            <a:ext cx="815004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5C3-07EC-459C-A56E-3B951FA0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3560" cy="5940360"/>
            <a:chOff x="228600" y="228600"/>
            <a:chExt cx="8683560" cy="594036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3560" cy="594036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6600" cy="576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004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81500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160" y="1828800"/>
            <a:ext cx="815004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520" y="624816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56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320E1-BCF3-40E3-8387-6F948D6821C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4840" cy="5559480"/>
            <a:chOff x="380880" y="457200"/>
            <a:chExt cx="8394840" cy="555948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4840" cy="55594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6360" cy="540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196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836640"/>
            <a:ext cx="6778440" cy="25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400" y="6248160"/>
            <a:ext cx="2051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160"/>
            <a:ext cx="28846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7800" y="625752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2D31A2-8BF7-4F33-AE78-5EED146B880C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0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800" spc="-1" strike="noStrike">
                <a:solidFill>
                  <a:srgbClr val="ffffff"/>
                </a:solidFill>
                <a:latin typeface="Times New Roman"/>
              </a:rPr>
              <a:t>«Всё, </a:t>
            </a:r>
            <a:br>
              <a:rPr sz="6800"/>
            </a:br>
            <a:r>
              <a:rPr b="1" i="1" lang="ru-RU" sz="6800" spc="-1" strike="noStrike">
                <a:solidFill>
                  <a:srgbClr val="ffffff"/>
                </a:solidFill>
                <a:latin typeface="Times New Roman"/>
              </a:rPr>
              <a:t>что мы можем – помнить…»</a:t>
            </a:r>
            <a:r>
              <a:rPr b="0" lang="ru-RU" sz="6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800"/>
            </a:br>
            <a:br>
              <a:rPr sz="6800"/>
            </a:br>
            <a:br>
              <a:rPr sz="68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БОУ Дивеевская СОШ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7 января 2012 год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неклассное мероприятие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162400" y="3773520"/>
            <a:ext cx="3097440" cy="13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03640" y="3133800"/>
            <a:ext cx="321660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0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2200" y="452520"/>
            <a:ext cx="5619600" cy="5640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647800" y="6165720"/>
            <a:ext cx="62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мецкие концентрационные лагеря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лагеря смерти 1939 – 1945 гг. в границах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территории современной Польш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481800" cy="4464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647800" y="6308640"/>
            <a:ext cx="63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Немецкие лагеря, функционировавшие исключительно как фабрики смерти на оккупированных польских землях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4680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47800" y="6238800"/>
            <a:ext cx="62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33000"/>
            <a:ext cx="8153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онцлагерь Аушви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3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224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6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Генрих Гиммлер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125360"/>
            <a:ext cx="419400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  <a:ea typeface="Arial"/>
              </a:rPr>
              <a:t>создан 27 апреля 1940 г. по приказу Гиммлера в предместье польского города </a:t>
            </a:r>
            <a:r>
              <a:rPr b="1" i="1" lang="ru-RU" sz="2700" spc="-1" strike="noStrike">
                <a:solidFill>
                  <a:srgbClr val="ffffff"/>
                </a:solidFill>
                <a:latin typeface="Arial"/>
                <a:ea typeface="Arial"/>
              </a:rPr>
              <a:t>Освенцим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  <a:ea typeface="Arial"/>
              </a:rPr>
              <a:t>Это был самый большой из созданных немцами лагерей во всей оккупированной ими Европ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924360" cy="3095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47800" y="6237360"/>
            <a:ext cx="63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328680"/>
            <a:ext cx="80802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орота концлагеря Аушвиц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Arbeit macht frei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496000" cy="4464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647800" y="6237360"/>
            <a:ext cx="63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00720" y="620640"/>
            <a:ext cx="431928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Ограждение лагеря, по которому был пропущен электрический ток, и  караульные вышки должны были изолировать лагерь и не дать заключенным бежать.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321080" cy="5759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647800" y="6308640"/>
            <a:ext cx="62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319280" cy="561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2880" y="2923920"/>
            <a:ext cx="40035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Сохранившиеся со времен войны печи крематориев в лагере Майданек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47800" y="6238800"/>
            <a:ext cx="63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55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55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ела жертв, уничтоженных в лагере Аушвиц-Биркена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5185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66840" y="2900520"/>
            <a:ext cx="857160" cy="27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4103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ети в Освенцим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00360" y="333000"/>
            <a:ext cx="4392360" cy="57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 1 миллиона 300 тысяч узников Освенцима дети подростки не старше 18 лет составили около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34 00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 них - 220 000 еврейских детей, 11 тысяч цыганских; несколько тысяч белорусских, украинских, русских, польски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инство еврейских детей уничтожались сразу же после прибытия. 12 сентября 1944 г., например, 12 300 детей из Каунаса были направлены в газовые кам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ачале октября  в Аушвице было 2 510 мальчиков и девочек. 10 января 45-го их оставалось 61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103640" cy="3600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5589720"/>
            <a:ext cx="61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5759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647800" y="6165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620120" cy="5162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16120" y="6199200"/>
            <a:ext cx="62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84360" y="3195720"/>
            <a:ext cx="5715000" cy="2923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6680" y="503280"/>
            <a:ext cx="4208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Ангел смерт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3280" y="1655640"/>
            <a:ext cx="82072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Йозеф Менгеле – немецкий врач, проводивший опыты на узниках лагеря Освенцим во время Второй мировой вой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олее 40 тысяч человек он отправил в газовые кам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67280" y="6264360"/>
            <a:ext cx="395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-3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« Об отношении немцев к евреям я читал в листовках, но в них ничего не говорилось об уничтожении детей, женщин и стариков. О судьбе евреев Европы я узнал уже в Освенциме. Я приехал туда 29 января 1945 года. "Меня, не раз видевшего своими глазами гибель людей на фронте, поразила такая невиданная жестокость нацистов к заключенным лагеря, превратившимся в живых скелетов. …Потом я увидел детей… Жуткая картина: вздутые от голода животы, блуждающие глаза; руки как плети, тоненькие ножки; голова огромная, а все остальное как бы не человеческое – как будто пришито. Ребятишки молчали и показывали только номера, вытатуированные на ру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Слез у этих людей не было. Я видел, они пытаются утереть глаза, а глаза оставались сухими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асилий Яковлевич Петренко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Герой Советского Союза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(«До и после Освенцима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33360"/>
            <a:ext cx="8153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Жертвы фашиз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967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647800" y="6308640"/>
            <a:ext cx="63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0440" y="739800"/>
            <a:ext cx="7315200" cy="5308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775640" y="3189240"/>
            <a:ext cx="857160" cy="27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843280" y="333360"/>
            <a:ext cx="590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венадцатилетняя ленинградка Таня Савичева начала вести свой дневник чуть раньше Анны Франк, жертвы Холокоста. Они были почти ровесницами и писали об одном и том же - об ужасе фашизма. И погибли эти две девочки, не дождавшись Победы: Таня – в июле 1944, Анна – в марте 1945 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Дневник Анны Франк» был опубликован после войны и рассказал о своем авторе всему миру. «Дневник Тани Савичевой» не был издан, в нем всего 7 страшных записей о гибели ее большой семьи в блокадном Ленинграде. Эта маленькая записная книжка была предъявлена на Нюрнбергском процессе, в качестве документа, обвиняющего фаш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268720" cy="3024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2266920" cy="3024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647800" y="6238800"/>
            <a:ext cx="63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67280" y="476280"/>
            <a:ext cx="4681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5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5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Arial"/>
              </a:rPr>
              <a:t>Анна Франк умерла от тифа в немецком концлагере Берген-Бельзен на Люнебургской пустоши 12 марта 1945 года, через несколько дней после освобождения. Из восьмерых обитателей убежища Холокост пережил только отец Анны, который и опубликовал дневник своей дочери в 1947 году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3671640" cy="5040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47800" y="6238800"/>
            <a:ext cx="63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95280" y="10476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7 январ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1945 г.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-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день освобождения узни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нацистского лагеря уничтож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Аушвиц (Освенци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войсками 1-го Украинского фро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19280" y="2216160"/>
            <a:ext cx="5977080" cy="3959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647800" y="6238800"/>
            <a:ext cx="63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Холокост глазами детей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889440" cy="5185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4032000" cy="5185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647800" y="630864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71520" y="360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647800" y="6238800"/>
            <a:ext cx="63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920000" y="3384720"/>
            <a:ext cx="857160" cy="27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стор Мартин Нимеллер, узник нацистских концлагере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начала они пришли за евреями. Я молчал - я не был евреем. Затем они пришли за коммунистами. Я молчал - я не был коммунистом. Затем они пришли за профсоюзными работниками. Я молчал - я не был профсоюзным работником. Затем они пришли за мной. Не осталось никого, кто мог бы  помочь мне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47800" y="6308640"/>
            <a:ext cx="63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816360" cy="5473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38680" y="2022480"/>
            <a:ext cx="2533680" cy="3809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16120" y="6213600"/>
            <a:ext cx="63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494480" y="3168720"/>
            <a:ext cx="857520" cy="27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48000" y="293760"/>
            <a:ext cx="367164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олокост на территории Советского Сою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404640"/>
            <a:ext cx="48243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Бабий Яр: их расстреливали 104 недели - по вторникам и суббот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ыми о трагедии Бабьего Яра написали "Известия" - 19 ноября 1941 года. Тогда газета сообщила: "Немцы казнили 52 тысячи евреев". По нынешним данным украинского фонда "Память Бабьего Яра" и киевского музея Великой Отечественной войны, в Яре погибло гораздо больше людей, чем считалось раньше. В первые дни расстрелов - с 29 сентября по 3 октября 1941 года - более 30 тысяч человек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пастись из Яра сумели лишь 29 человек. По их словам, до последнего момента жертвы верили, что их никто не собирается убивать, что евреев просто решили отправить в Палестину.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и расстрелянных - евреи, украинские националисты, военнопленные, коммунисты, подпольщики, три киевских цыганских  табора, душевнобольные из ближайшей больницы имени Павлова. Их тела заполнили Бабий Яр, тянувшийся на 3,5 километра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591000" cy="2476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219640" y="3933720"/>
            <a:ext cx="360216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Евгений Евтушенк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00720" y="1484280"/>
            <a:ext cx="43192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"Над Бабьим Яром памятников 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рутой обрыв как грубое надгроб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не страшно. Мне сегодня столько ле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к самому еврейскому народу...".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4248000" cy="3238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647800" y="6165720"/>
            <a:ext cx="63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74560" y="333360"/>
            <a:ext cx="85694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амятник, расстрелянным в Бабьем Яр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27640" y="1700280"/>
            <a:ext cx="4392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2 июля 1976 года в заметке "Монумент жертвам фашизма" "Известия" сообщили об открытии памятника над Бабьим Яром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 временем Бабий Яр стал самым крупным кладбищем Европы — здешняя земля хранит память о 200 (по некоторым источникам 220) тысячах человек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960720" cy="4392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647800" y="6238800"/>
            <a:ext cx="63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5327640" cy="3467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651640" y="1197000"/>
            <a:ext cx="3171600" cy="4753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042920" y="3933720"/>
            <a:ext cx="403380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560" y="2565000"/>
            <a:ext cx="8435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Память о Холокосте необходима, чтобы наши дети никогда не были жертвами, палачами или равнодушными наблюдателями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7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(И.Бауэр, исследователь Холокоста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152360" y="2276640"/>
            <a:ext cx="6616800" cy="4343400"/>
            <a:chOff x="1152360" y="2276640"/>
            <a:chExt cx="6616800" cy="434340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1152360" y="2276640"/>
              <a:ext cx="6616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152360" y="2276640"/>
              <a:ext cx="661680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1417320" cy="1782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50920" y="5157720"/>
            <a:ext cx="2065320" cy="1371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6551640" y="1655640"/>
            <a:ext cx="2065320" cy="1371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7186680" y="4756320"/>
            <a:ext cx="1417680" cy="178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398680" y="287280"/>
            <a:ext cx="4424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усть небо будет голубым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усть в небе не клубится дым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усть пушки грозные молчат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пулеметы не строчат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тоб жили люди, города..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р нужен на земле всегд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392720" cy="3952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174920" cy="3745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616120" y="6272280"/>
            <a:ext cx="63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68360" y="4149720"/>
            <a:ext cx="857160" cy="27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365960" cy="3987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16120" y="6288120"/>
            <a:ext cx="63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ЕТИ –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ЖЕРТВЫ ХОЛОКОС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2120" y="3456000"/>
            <a:ext cx="857520" cy="27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616120" y="6288120"/>
            <a:ext cx="63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-19440"/>
            <a:ext cx="864216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«Наша страна исторически формировалась как союз многих народов и культур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   И основу духовности самого</a:t>
            </a: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российского народа испокон веков составляла идея общего мира – общего для людей различных национальностей и конфессий».  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                                                                  В.В.Путин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 Black"/>
              </a:rPr>
              <a:t>Это надо знать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108000" y="907560"/>
            <a:ext cx="9252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Холокост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(от греческого слова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olocaustos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– всесожжение, жертвоприношение с помощью огня)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 - наиболее распространенный термин, обозначающий преследование и уничтожение 6 миллионов евреев нацистами и их пособниками после прихода к власти Гитлера и до окончания Второй мировой войны (1933 – 1945 гг.)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Антисемитизм 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– одна из форм национальной нетерпимости, выражающаяся во враждебном отношении к еврея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Гетто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 – в годы Холокоста часть города, окруженная колючей проволокой или стенами, где обязаны были проживать евреи из прилегающих районов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Геноцид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стребление отдельных групп населения по расовым, национальным, этническим и религиозным признакам, а также умышленное создание жизненных условий, рассчитанных на их уничтожение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47800" y="6308640"/>
            <a:ext cx="63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4762800" cy="3809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352440"/>
            <a:ext cx="86421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«Нет геноцида против «кого-то», геноцид всегда против всех».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М.Я. Гефтер, историк, философ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16120" y="6310440"/>
            <a:ext cx="63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2707920"/>
            <a:ext cx="856908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Самым страшным проявлением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 Холокоста стали </a:t>
            </a:r>
            <a:r>
              <a:rPr b="1" i="1" lang="ru-RU" sz="2700" spc="-1" strike="noStrike" u="sng">
                <a:solidFill>
                  <a:srgbClr val="ffffff"/>
                </a:solidFill>
                <a:uFillTx/>
                <a:latin typeface="Arial"/>
              </a:rPr>
              <a:t>лагеря смерти</a:t>
            </a:r>
            <a:r>
              <a:rPr b="1" lang="ru-RU" sz="27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 созданные фашистами для физического истребления  людей, объявленных «недочеловеками», к которым нацисты относили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славян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евреев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цыган и многих, многих, многих других.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032360" cy="244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647800" y="6308640"/>
            <a:ext cx="62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ё, что мы можем – помни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0:14:29Z</dcterms:created>
  <dc:creator>УТИНА СВЕТЛАНА</dc:creator>
  <dc:description/>
  <dc:language>en-US</dc:language>
  <cp:lastModifiedBy>Учитель</cp:lastModifiedBy>
  <dcterms:modified xsi:type="dcterms:W3CDTF">2004-01-01T02:05:31Z</dcterms:modified>
  <cp:revision>15</cp:revision>
  <dc:subject/>
  <dc:title>ВСЁ, ЧТО МЫ МОЖЕМ - ПОМНИТЬ...</dc:title>
</cp:coreProperties>
</file>