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C43-056D-41DF-93C2-0B7FD114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6B5-0F0B-4067-8B9D-A4D4A0F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736-04AE-4307-A795-C7196146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494-3678-42E7-9C92-7A35E989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945-E0EE-47D2-B24C-39FB20D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89A-F68B-4541-9F29-855EAA1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FD8-CFC6-4A9A-B32E-4F329100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3C8-9910-4797-8A21-4F71294D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8FC-363E-4B8A-8287-26959B20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2C8-9B59-46B2-A5B4-9779A924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B3C-9ACF-473D-9E4B-8E90F695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015-6BE2-4D57-B531-9C32EF6D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A462-2559-486A-BFAA-E6F9E5A64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714680" y="0"/>
            <a:ext cx="612108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ной кр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214880" y="20718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учитель английского языка Опенченко Татьяна Владимировна; учитель химии и биологии Коротаева Галина Васи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Изображение 525"/>
          <p:cNvPicPr/>
          <p:nvPr/>
        </p:nvPicPr>
        <p:blipFill>
          <a:blip r:embed="rId1"/>
          <a:stretch/>
        </p:blipFill>
        <p:spPr>
          <a:xfrm>
            <a:off x="-109440" y="0"/>
            <a:ext cx="9362880" cy="68486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 (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 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Изображение 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GA05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Изображение 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Изображение 14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Изображение 53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фотография 017"/>
          <p:cNvPicPr/>
          <p:nvPr/>
        </p:nvPicPr>
        <p:blipFill>
          <a:blip r:embed="rId1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6:12:21Z</dcterms:created>
  <dc:creator>Пользователь</dc:creator>
  <dc:description/>
  <dc:language>en-US</dc:language>
  <cp:lastModifiedBy>Lerer-1</cp:lastModifiedBy>
  <dcterms:modified xsi:type="dcterms:W3CDTF">2012-09-08T08:12:1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