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applause.wav" ContentType="audio/x-wav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wind.wav" ContentType="audio/x-wav"/>
  <Override PartName="/ppt/media/image1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199-3783-420F-8205-7DEEFC62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FD5-0909-4A68-92B5-0ED82612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338-731C-43EF-9472-9A617DA9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432-FB16-42EF-9085-2D97683C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F417-FE84-4D8B-99CF-EF9B8C60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6AE4-4EC9-4D8B-B24C-223F5B3C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4172-8D2F-4562-9F73-5D5E1C55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7EB1-9689-4C92-881B-FFAFBC6E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8EA2-F1AD-440F-BE83-9B51C341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83B9-BC7F-4CED-A0EA-649263E4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47BE-B553-4CE2-8470-A96C119E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387-7707-414C-8C84-8A0A9A99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1616-9A71-453F-9C38-81770649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A4D7-6C36-4DAA-842C-407EA075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C100-5A0F-47F4-893D-F035FA9D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4C0D-2B4F-4AE4-AD76-52C30A52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0B8F-BFF4-4920-8D3A-7315491E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6E4-7C22-4DCB-93F0-61B60846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F37-7A09-4D1C-95A0-413D34C2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589-53BA-4C0C-9B0F-3E3FF5C7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DB8-B262-47C2-9EBD-59F4C6A5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A88-68CE-4FC0-AC7E-B286A1B6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699-DCB1-4D26-8FDA-3C635D2F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914-7209-452A-8484-1F5FCB45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25C9-45F2-40BA-A374-7402C5FBE14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3326-083A-439F-ACCD-B19851C7DE4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ultura.kubangov.ru/www/kultura.nsf/91ec8d66fd21aa2fc32570bf004b76c4/820677bb17d3abb7c32570c800636b45!OpenDocument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ubanmakler.ru/9/index.htm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476360" y="765000"/>
            <a:ext cx="67676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Краснодарскому краю – 75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БОУ СОШ №16  классный руководитель 7 класса Григорьева Л.Н. 2012г.</a:t>
            </a: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64360" cy="4729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3124080" cy="4005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9016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Деятели культу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773360"/>
            <a:ext cx="1905120" cy="2009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796000" y="1700280"/>
            <a:ext cx="1905120" cy="2000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5400" cy="104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547640" y="4292640"/>
            <a:ext cx="1791000" cy="2047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5724360" y="4292640"/>
            <a:ext cx="2016360" cy="2087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61800" y="13413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Григорий Пономаренк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1268280"/>
            <a:ext cx="16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Иван Варав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84200" y="393372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Виктор Захарченк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386064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Александр Гиндин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7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149400"/>
            <a:ext cx="8064720" cy="655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0018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8" descr="Sky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06280" y="1557360"/>
            <a:ext cx="691704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БЕРЕГ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РОССИ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                               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НАЧИНАЕТС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ЗДЕС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476360" y="260280"/>
            <a:ext cx="6829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А КУБАНИ ЕСТЬ ВСЕ: ЛЕС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ПОЛ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ГОР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МОР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ЦЕЛЕБНЫЕ В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ДРЕВНИЕ ЛЕДН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И САМЫЕ ПРИВЕТЛИВЫЕ ЛЮДИ - КУБАН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omb dir="horz"/>
    <p:sndAc>
      <p:stSnd>
        <p:snd r:embed="rId2" name="wind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648320" y="3939840"/>
            <a:ext cx="4038480" cy="2190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4221000"/>
            <a:ext cx="3166920" cy="2365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384360" cy="2549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508720" y="260280"/>
            <a:ext cx="327168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796000" y="4005360"/>
            <a:ext cx="3157560" cy="2652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916360" y="2349360"/>
            <a:ext cx="3373200" cy="254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59280" y="692280"/>
            <a:ext cx="3084480" cy="2344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3311280" cy="2460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00360" cy="268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716360" y="3716280"/>
            <a:ext cx="3589560" cy="267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21283200">
            <a:off x="468360" y="333360"/>
            <a:ext cx="3960720" cy="2643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654000">
            <a:off x="5148360" y="549360"/>
            <a:ext cx="3516120" cy="2320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456000" cy="2579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 rot="529800">
            <a:off x="5076360" y="3789000"/>
            <a:ext cx="3384720" cy="243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 Земли сельскохозяйственного назначения Кубани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3483000"/>
            <a:ext cx="3876480" cy="2919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 Рисовые чеки и хозяйства Краснодарского края "/>
          <p:cNvPicPr/>
          <p:nvPr/>
        </p:nvPicPr>
        <p:blipFill>
          <a:blip r:embed="rId3"/>
          <a:stretch/>
        </p:blipFill>
        <p:spPr>
          <a:xfrm>
            <a:off x="250920" y="260280"/>
            <a:ext cx="3744720" cy="2813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796000" y="189000"/>
            <a:ext cx="2441520" cy="3240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26920" y="3141720"/>
            <a:ext cx="2632320" cy="3235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120000" cy="436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489800" cy="4988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257800" cy="64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18:50:48Z</dcterms:created>
  <dc:creator/>
  <dc:description/>
  <dc:language>en-US</dc:language>
  <cp:lastModifiedBy>Admin</cp:lastModifiedBy>
  <dcterms:modified xsi:type="dcterms:W3CDTF">2005-12-31T23:13:26Z</dcterms:modified>
  <cp:revision>9</cp:revision>
  <dc:subject/>
  <dc:title>Слайд 1</dc:title>
</cp:coreProperties>
</file>