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31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Samsung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2-04-15T14:50:13.957000000" idx="1">
    <p:pos x="5310" y="79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82A-B5E6-4A94-BBD1-67C71EC1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C13-D572-4D62-BF44-1827B479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D6D-3AD6-431F-9D94-375F2BB6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42C-A061-4E39-8002-8F2BFB3C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9037-B7E5-4965-BDB3-2EA03BD6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9037-254E-4ACA-9026-23FA3A42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DC1F-FC8E-4FE7-8DF1-6DC7BC9F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A0D7-B13A-4B09-8E72-5291651B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BA6E-9DB1-4EB6-A762-A949F8B2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4782-F689-4DF6-B336-F24A5875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14D8-C218-4EDC-A7AA-19CF186F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F11-B2C7-4AFB-A90D-24750214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DEFA-1D8E-43B3-B11F-FECB411C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94A8-6782-4C36-92B0-C0A8E415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75F2-DE56-45EB-8D22-9933E03E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4418-FAA4-4774-857B-AC164D58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3FEF-75BF-400E-94E6-8B504A35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27A-5659-42D7-A892-FC65F04B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FCA-C8EF-4ACD-87DC-564AB0CD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C59-4A94-46F9-9329-4D3C18B3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F05-4FD9-4A79-81E1-C948E86C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93A-A234-4966-A777-8F076A7B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4DB-E905-4778-98CE-F9C638A4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824-9034-43E7-8AD5-FF8D8E8A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9E4037-460B-4276-990F-518778E2334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878BEA-4A95-4A73-A62D-703B07A1F32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<Relationship Id="rId5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ectangle 1" descr=""/>
          <p:cNvPicPr/>
          <p:nvPr/>
        </p:nvPicPr>
        <p:blipFill>
          <a:blip r:embed="rId1"/>
          <a:stretch/>
        </p:blipFill>
        <p:spPr>
          <a:xfrm>
            <a:off x="749160" y="365040"/>
            <a:ext cx="7785360" cy="5922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0" y="1052280"/>
            <a:ext cx="8424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аботка учебного кейса по разделу: «Кулинария». Тема: «Блюда из яиц»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ма : « Перспективы использования инноваций образовательных технологий и методов обучения в условиях модернизации и стандартизации образования»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924360" y="4653000"/>
            <a:ext cx="3413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781440" y="616572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гоград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5796000" y="4149720"/>
            <a:ext cx="3000240" cy="22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Работу выполнил</a:t>
            </a:r>
            <a:r>
              <a:rPr b="1" lang="ru-RU" sz="1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 слушатель курса № 235 учитель технологии МКОУ Р</a:t>
            </a:r>
            <a:r>
              <a:rPr b="1" lang="ru-RU" sz="16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аздольненская СОШ</a:t>
            </a:r>
            <a:r>
              <a:rPr b="1" i="1" lang="ru-RU" sz="1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Дубина Светла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Проверил:</a:t>
            </a:r>
            <a:r>
              <a:rPr b="1" lang="en-GB" sz="1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Д.т.н., профес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1" lang="en-GB" sz="1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Каунов Александр Михайл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900000" y="765000"/>
          <a:ext cx="7344000" cy="5545440"/>
        </p:xfrm>
        <a:graphic>
          <a:graphicData uri="http://schemas.openxmlformats.org/drawingml/2006/table">
            <a:tbl>
              <a:tblPr/>
              <a:tblGrid>
                <a:gridCol w="5332680"/>
                <a:gridCol w="2011320"/>
              </a:tblGrid>
              <a:tr h="5796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ичная обработка я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6880" rIns="568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рить качество я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56880" rIns="568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мыть яйца (очень грязные – с солью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ка я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6880" rIns="568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кипятить во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>
                  <a:txBody>
                    <a:bodyPr lIns="56880" rIns="568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орожно снять крышку с кастрюли от себя, придерживая её прихват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960">
                <a:tc>
                  <a:txBody>
                    <a:bodyPr lIns="56880" rIns="568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устить яйца в кипящую воду. Яйца всмятку варят 3-3, минуты, в мешочек – 4,5-5 минут, вкрутую – 8-10 мину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56880" rIns="568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ключить нагревательный прибор и вынуть яйца, держа дуршлаг прихват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6880" rIns="568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аренные яйца охладить холодной водой, чтобы сохранить натуральный цвет желтка и облегчить очистку я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формление готового блюда и подача на ст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56880" rIns="5688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тереть яйца, положить их на тарелку. Подать готовое блюдо на ст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2" name="Picture 8" descr="11"/>
          <p:cNvPicPr/>
          <p:nvPr/>
        </p:nvPicPr>
        <p:blipFill>
          <a:blip r:embed="rId1"/>
          <a:stretch/>
        </p:blipFill>
        <p:spPr>
          <a:xfrm>
            <a:off x="6588000" y="3716280"/>
            <a:ext cx="1368720" cy="1104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22"/>
          <p:cNvPicPr/>
          <p:nvPr/>
        </p:nvPicPr>
        <p:blipFill>
          <a:blip r:embed="rId2"/>
          <a:stretch/>
        </p:blipFill>
        <p:spPr>
          <a:xfrm>
            <a:off x="6659640" y="1989000"/>
            <a:ext cx="1297080" cy="134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33"/>
          <p:cNvPicPr/>
          <p:nvPr/>
        </p:nvPicPr>
        <p:blipFill>
          <a:blip r:embed="rId3"/>
          <a:stretch/>
        </p:blipFill>
        <p:spPr>
          <a:xfrm>
            <a:off x="6588000" y="836640"/>
            <a:ext cx="1440000" cy="863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44"/>
          <p:cNvPicPr/>
          <p:nvPr/>
        </p:nvPicPr>
        <p:blipFill>
          <a:blip r:embed="rId4"/>
          <a:stretch/>
        </p:blipFill>
        <p:spPr>
          <a:xfrm>
            <a:off x="6516720" y="4941720"/>
            <a:ext cx="1440000" cy="10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1332000" y="765000"/>
            <a:ext cx="691200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рабочего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удование рабочего стола, удобное размещение нагревательных приборов, мойки, а также хорошее освещение. Посуду, инвентарь, приспособления и продукты располагают так, чтобы ими удобно было пользоваться при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2268360" y="4254480"/>
            <a:ext cx="424836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611280" y="404640"/>
            <a:ext cx="770580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олняя посуду жидкостью, не доливайте её до края, чтобы при кипении жидкость не выплёскивалась. Засыпайте в кипящую жидкость сахар, крупу и другие продукты осторожно, чтобы брызги не попали в лицо. Снимая крышку с горячей посуды, берите её прихваткой и открывайте постепенно, от себя, чтобы не обжечь паром лицо и руки. На сковороду с горячим жиром продукты клади аккуратно (от себя), чтобы не разбрызгивался жир. Снимая горячую посуду с плиты, пользуйся прихватками. Не используй посуду с прогнувшимся дном и сломанными ру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1042920" y="907920"/>
            <a:ext cx="770580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ентарь и посуда: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стрюля, миска, дуршлаг, тарелка, ложка, овоскоп, подставка для яиц, сковорода, стакан, нож, вилка, доска разделочная, лопатка повар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492360" y="2852640"/>
            <a:ext cx="2546640" cy="252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611280" y="2843280"/>
            <a:ext cx="2448000" cy="2631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3"/>
          <a:stretch/>
        </p:blipFill>
        <p:spPr>
          <a:xfrm>
            <a:off x="6443640" y="2852640"/>
            <a:ext cx="23655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 flipV="1" rot="10800000">
            <a:off x="395280" y="379440"/>
            <a:ext cx="835344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ования к качеству блюд, приготовленных из я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6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аренные яйца должны быть чистыми, целыми (без трещин), хорошо очищаться от скорлупы. Яйца, сваренные всмятку, должны быть жидкими. У яиц, сваренных «в мешочек», белок мягкий, а желток полужидкий. Яйца, сваренные вкрутую, – мягкие, сохранившие свой естественн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6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Яичница-глазунья должна иметь слегка загустевший белок и сохранивший форму жел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6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уральные (или с гарниром) яичницы и омлеты должны быть слегка загустевшими, неподгоревшими, без посторонних привкусов и запа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6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люда из яиц готовят непосредственно перед подачей на ст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684360" y="333360"/>
            <a:ext cx="7343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юда из я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684360" y="981000"/>
            <a:ext cx="6480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лет с помидорами и сы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511520" cy="338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6"/>
          <p:cNvSpPr/>
          <p:nvPr/>
        </p:nvSpPr>
        <p:spPr>
          <a:xfrm>
            <a:off x="5292720" y="2924280"/>
            <a:ext cx="367200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йцо - 4 шт.; помидоры - 3-4 шт.; сыр - 100г; молоко - примерно 3-4 ст.л.; мука - 1 ст.л.; соль, зелень, масло сливочное - по вку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3059280" y="1628640"/>
            <a:ext cx="338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2976480" cy="223200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9"/>
          <p:cNvSpPr/>
          <p:nvPr/>
        </p:nvSpPr>
        <p:spPr>
          <a:xfrm>
            <a:off x="3708360" y="1197000"/>
            <a:ext cx="4896000" cy="12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идоры надрезать крестообразно и обдать кипятком, после чего кожица легко снимется. Помидоры без шкурки порезать куби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3024000" cy="22687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12"/>
          <p:cNvSpPr/>
          <p:nvPr/>
        </p:nvSpPr>
        <p:spPr>
          <a:xfrm>
            <a:off x="3708360" y="3933720"/>
            <a:ext cx="504036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 натереть на мелкой терке. Белки отделить от желтков. Желтки взбить венчиком отдельно, добавить молоко, муку, тертый сыр, примешать аккуратно взбитые в устойчивую пену белки. Посолить по вку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4"/>
          <p:cNvSpPr/>
          <p:nvPr/>
        </p:nvSpPr>
        <p:spPr>
          <a:xfrm>
            <a:off x="611280" y="404640"/>
            <a:ext cx="626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при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1" descr=""/>
          <p:cNvPicPr/>
          <p:nvPr/>
        </p:nvPicPr>
        <p:blipFill>
          <a:blip r:embed="rId1"/>
          <a:stretch/>
        </p:blipFill>
        <p:spPr>
          <a:xfrm>
            <a:off x="250920" y="548640"/>
            <a:ext cx="3673440" cy="2754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4211640" y="1341360"/>
            <a:ext cx="43210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огреть сливочное масло и обжаривать на нем томатные кубики, пока жидкость не выпарится наполов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3552840" cy="26654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7"/>
          <p:cNvSpPr/>
          <p:nvPr/>
        </p:nvSpPr>
        <p:spPr>
          <a:xfrm>
            <a:off x="4356000" y="4076640"/>
            <a:ext cx="410364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ть яично-молочную смесь в помидоры, немного перемешать, накрыть крышкой и готовить омлет в течение нескольких минут. Готовый омлет выложить на тарелку и украсить зел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38080" y="1905120"/>
            <a:ext cx="39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323640">
              <a:lnSpc>
                <a:spcPct val="100000"/>
              </a:lnSpc>
              <a:spcBef>
                <a:spcPts val="700"/>
              </a:spcBef>
              <a:buClr>
                <a:srgbClr val="0e594d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1476360" y="404640"/>
            <a:ext cx="44640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млет с гриб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127400" cy="30970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2411280" y="1197000"/>
            <a:ext cx="3961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7"/>
          <p:cNvSpPr/>
          <p:nvPr/>
        </p:nvSpPr>
        <p:spPr>
          <a:xfrm>
            <a:off x="4788000" y="2421000"/>
            <a:ext cx="34560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потребуются: яйцо - 4 шт.; молоко - около 1 стакана; мука - 1 ст.л.; соль, перец молотый - по вкусу; грибы (опята или шампиньоны) - 100г; лук репчатый - 1 шт.; масло для обжар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-252360" y="1845000"/>
            <a:ext cx="8358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556000" y="333360"/>
            <a:ext cx="568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пригот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450960" cy="2521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3311280" cy="24843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6"/>
          <p:cNvSpPr/>
          <p:nvPr/>
        </p:nvSpPr>
        <p:spPr>
          <a:xfrm>
            <a:off x="4643280" y="1413000"/>
            <a:ext cx="403236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 мелко нарезать, обжарить до прозрачности на растительном или сливочном масле. Добавить отваренные грибы, предварительно порезав на небольшие кусочки. Все перемешать и жарить до золотистого цвета л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7"/>
          <p:cNvSpPr/>
          <p:nvPr/>
        </p:nvSpPr>
        <p:spPr>
          <a:xfrm>
            <a:off x="4788000" y="4076640"/>
            <a:ext cx="43560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ки отделить от желтков. Белки взбить в пену. Желтки взбить венчиком отд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28800" y="4428720"/>
            <a:ext cx="80071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64" name="Group 1"/>
          <p:cNvGrpSpPr/>
          <p:nvPr/>
        </p:nvGrpSpPr>
        <p:grpSpPr>
          <a:xfrm>
            <a:off x="-757080" y="0"/>
            <a:ext cx="9456480" cy="1047600"/>
            <a:chOff x="-757080" y="0"/>
            <a:chExt cx="9456480" cy="104760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699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3"/>
            <p:cNvSpPr/>
            <p:nvPr/>
          </p:nvSpPr>
          <p:spPr>
            <a:xfrm>
              <a:off x="-757080" y="332280"/>
              <a:ext cx="869904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Прямоугольник 8"/>
          <p:cNvSpPr/>
          <p:nvPr/>
        </p:nvSpPr>
        <p:spPr>
          <a:xfrm>
            <a:off x="539640" y="476280"/>
            <a:ext cx="45720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и себе бед да ба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ыла у них курочка ря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сла курочка яичк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ичко не прост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бил, бил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разби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ба била, била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разби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ка беж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иком махн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ичко уп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азб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и баба плач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очка кудах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Не плачь, дед, не плачь, б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снесу вам яичко друг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олотое — простое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3816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376360" cy="1783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3"/>
          <a:stretch/>
        </p:blipFill>
        <p:spPr>
          <a:xfrm>
            <a:off x="395280" y="4292640"/>
            <a:ext cx="2460600" cy="184464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5"/>
          <p:cNvSpPr/>
          <p:nvPr/>
        </p:nvSpPr>
        <p:spPr>
          <a:xfrm>
            <a:off x="3280320" y="1557360"/>
            <a:ext cx="37119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ить белки с желт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3348000" y="2492280"/>
            <a:ext cx="316872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ить молоко (расчет - 1 скорлупка молока на одно яйцо), муку, посолить и поперчить по вку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3419640" y="4437000"/>
            <a:ext cx="43560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ть яично-молочную смесь в грибы, немного перемешать, накрыть крышкой и готовить омлет в течение нескольких минут. Готовый омлет выложить на тарелку и украсить зел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2843280" y="189000"/>
            <a:ext cx="468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блюд из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3276720" y="2565360"/>
            <a:ext cx="2158920" cy="1886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2"/>
          <a:stretch/>
        </p:blipFill>
        <p:spPr>
          <a:xfrm>
            <a:off x="6012000" y="2492280"/>
            <a:ext cx="2089080" cy="1801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3"/>
          <a:stretch/>
        </p:blipFill>
        <p:spPr>
          <a:xfrm>
            <a:off x="3276720" y="4581360"/>
            <a:ext cx="2232000" cy="1667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"/>
          <p:cNvPicPr/>
          <p:nvPr/>
        </p:nvPicPr>
        <p:blipFill>
          <a:blip r:embed="rId4"/>
          <a:stretch/>
        </p:blipFill>
        <p:spPr>
          <a:xfrm>
            <a:off x="3203640" y="765000"/>
            <a:ext cx="2232000" cy="1670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5"/>
          <a:stretch/>
        </p:blipFill>
        <p:spPr>
          <a:xfrm>
            <a:off x="6156360" y="4508640"/>
            <a:ext cx="2087640" cy="1662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"/>
          <p:cNvPicPr/>
          <p:nvPr/>
        </p:nvPicPr>
        <p:blipFill>
          <a:blip r:embed="rId6"/>
          <a:stretch/>
        </p:blipFill>
        <p:spPr>
          <a:xfrm>
            <a:off x="6012000" y="765000"/>
            <a:ext cx="2089080" cy="1573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"/>
          <p:cNvPicPr/>
          <p:nvPr/>
        </p:nvPicPr>
        <p:blipFill>
          <a:blip r:embed="rId7"/>
          <a:stretch/>
        </p:blipFill>
        <p:spPr>
          <a:xfrm>
            <a:off x="539640" y="2708280"/>
            <a:ext cx="2232000" cy="1682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/>
          <p:cNvPicPr/>
          <p:nvPr/>
        </p:nvPicPr>
        <p:blipFill>
          <a:blip r:embed="rId8"/>
          <a:stretch/>
        </p:blipFill>
        <p:spPr>
          <a:xfrm>
            <a:off x="539640" y="4724280"/>
            <a:ext cx="2232000" cy="1608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"/>
          <p:cNvPicPr/>
          <p:nvPr/>
        </p:nvPicPr>
        <p:blipFill>
          <a:blip r:embed="rId9"/>
          <a:stretch/>
        </p:blipFill>
        <p:spPr>
          <a:xfrm>
            <a:off x="468360" y="692280"/>
            <a:ext cx="233028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3"/>
          <p:cNvSpPr/>
          <p:nvPr/>
        </p:nvSpPr>
        <p:spPr>
          <a:xfrm>
            <a:off x="1835280" y="0"/>
            <a:ext cx="6337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е для самопрове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907920"/>
          <a:ext cx="8424720" cy="5327640"/>
        </p:xfrm>
        <a:graphic>
          <a:graphicData uri="http://schemas.openxmlformats.org/drawingml/2006/table">
            <a:tbl>
              <a:tblPr/>
              <a:tblGrid>
                <a:gridCol w="3095640"/>
                <a:gridCol w="3672000"/>
                <a:gridCol w="792000"/>
                <a:gridCol w="865080"/>
              </a:tblGrid>
              <a:tr h="91440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ы от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метьте знаком (+) правильный отв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авьте по 1 баллу за каждый правильный отв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ие блюда готовят из яиц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Пюре, щи, каш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Омлет, яйца всмятку, в мешочек, вкрут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ие виды тепловой обработки применяют при приготовлении яиц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Припускание, бланшир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Варку, жаренье, запек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обы отличить сырое яйцо от вареного, его нужно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Покрути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Разби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пустить в стакан со сладкой вод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каких частей состоит яйц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Скорлупа, пуга, плёнка, белок, желт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Скорлупа, меланж, плёнка, белок, жел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6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им путём проверяют качество яиц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Путём просвечивания через овоскоп или опускания в подсоленную вод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Путём опускания в кипяток или разбивания и осмот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3"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баллов за УЭ № 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 gridSpan="3"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баллов за УЭ №1+УЭ №2+УЭ №3+ УЭ №4+УЭ№5+УЭ №6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1"/>
          <p:cNvGrpSpPr/>
          <p:nvPr/>
        </p:nvGrpSpPr>
        <p:grpSpPr>
          <a:xfrm>
            <a:off x="457200" y="574560"/>
            <a:ext cx="8385120" cy="773280"/>
            <a:chOff x="457200" y="574560"/>
            <a:chExt cx="8385120" cy="773280"/>
          </a:xfrm>
        </p:grpSpPr>
        <p:pic>
          <p:nvPicPr>
            <p:cNvPr id="249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574560"/>
              <a:ext cx="8385120" cy="7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3"/>
            <p:cNvSpPr/>
            <p:nvPr/>
          </p:nvSpPr>
          <p:spPr>
            <a:xfrm>
              <a:off x="457200" y="574560"/>
              <a:ext cx="838512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 txBox="1"/>
          <p:nvPr/>
        </p:nvSpPr>
        <p:spPr>
          <a:xfrm>
            <a:off x="1136520" y="1989000"/>
            <a:ext cx="725184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Варк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  - нагревание пищевых веществ в жидкости (воде, бульоне, молоке ) при температуре 100 и более градусов. Наиболее полезна варка на пару, так как в готовом блюде сохраняются все витамины и полезные пищевые вещества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Жарение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продукты нагревают на сильном жару без воды на масле или других жирах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Запекание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– жарение в духовке.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лет-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юдо из взбитых яиц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анж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яичный порошок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оскоп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прибор для проверки качества яиц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95280" y="1583640"/>
            <a:ext cx="874872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Технология: 5 кл. / под ред. В. Д. Симоненко. – М.: Вентана-Граф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611280" y="2637000"/>
            <a:ext cx="7489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Интернет -сайт Готовим.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2"/>
          <p:cNvSpPr/>
          <p:nvPr/>
        </p:nvSpPr>
        <p:spPr>
          <a:xfrm>
            <a:off x="611280" y="3284640"/>
            <a:ext cx="8532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Школа и производство: научно-методический журнал. – 2002. – № 6; 2003. – №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ectangle 1" descr=""/>
          <p:cNvPicPr/>
          <p:nvPr/>
        </p:nvPicPr>
        <p:blipFill>
          <a:blip r:embed="rId1"/>
          <a:stretch/>
        </p:blipFill>
        <p:spPr>
          <a:xfrm>
            <a:off x="-6480" y="291960"/>
            <a:ext cx="9436320" cy="15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2"/>
          <p:cNvGraphicFramePr/>
          <p:nvPr/>
        </p:nvGraphicFramePr>
        <p:xfrm>
          <a:off x="684360" y="3213000"/>
          <a:ext cx="7673760" cy="4307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213000"/>
                    <a:ext cx="767376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Box 6"/>
          <p:cNvSpPr/>
          <p:nvPr/>
        </p:nvSpPr>
        <p:spPr>
          <a:xfrm>
            <a:off x="1763640" y="2060640"/>
            <a:ext cx="461160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блюда можно приготовить из  яиц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1" descr=""/>
          <p:cNvPicPr/>
          <p:nvPr/>
        </p:nvPicPr>
        <p:blipFill>
          <a:blip r:embed="rId1"/>
          <a:stretch/>
        </p:blipFill>
        <p:spPr>
          <a:xfrm>
            <a:off x="1182600" y="841320"/>
            <a:ext cx="7669440" cy="968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081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Подберите и изучите информацию 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уриных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йцах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 способах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х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приготовления, а также опишите рецепты приготовле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блюд из яиц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457200" y="174600"/>
            <a:ext cx="8385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51280" y="2924280"/>
          <a:ext cx="4824360" cy="3679560"/>
        </p:xfrm>
        <a:graphic>
          <a:graphicData uri="http://schemas.openxmlformats.org/drawingml/2006/table">
            <a:tbl>
              <a:tblPr/>
              <a:tblGrid>
                <a:gridCol w="3139920"/>
                <a:gridCol w="1684440"/>
              </a:tblGrid>
              <a:tr h="367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ение я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– скорлупа, 2 – пуга, 3 – плёнка, 4 – белок, 5 – плёнка, 6 – желток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6"/>
          <p:cNvSpPr/>
          <p:nvPr/>
        </p:nvSpPr>
        <p:spPr>
          <a:xfrm>
            <a:off x="155880" y="20160"/>
            <a:ext cx="25992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1Яйцо"/>
          <p:cNvPicPr/>
          <p:nvPr/>
        </p:nvPicPr>
        <p:blipFill>
          <a:blip r:embed="rId1"/>
          <a:stretch/>
        </p:blipFill>
        <p:spPr>
          <a:xfrm>
            <a:off x="1187280" y="270828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156600" y="20160"/>
            <a:ext cx="22032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56240" y="59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8"/>
          <p:cNvSpPr/>
          <p:nvPr/>
        </p:nvSpPr>
        <p:spPr>
          <a:xfrm>
            <a:off x="1187280" y="765000"/>
            <a:ext cx="633744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оретическая информаци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иное яйцо – это ценный пищевой продукт. В него входят многие питательные вещества, полезные для человека. По своим питательным свойствам куриное яйцо не уступает мя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1" descr=""/>
          <p:cNvPicPr/>
          <p:nvPr/>
        </p:nvPicPr>
        <p:blipFill>
          <a:blip r:embed="rId1"/>
          <a:stretch/>
        </p:blipFill>
        <p:spPr>
          <a:xfrm>
            <a:off x="963720" y="615960"/>
            <a:ext cx="7819920" cy="12492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4"/>
          <p:cNvSpPr/>
          <p:nvPr/>
        </p:nvSpPr>
        <p:spPr>
          <a:xfrm>
            <a:off x="900000" y="620640"/>
            <a:ext cx="727236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яичным продуктам относятся яичный порошок и меланж (замороженная смесь белка с желтком). Эти продукты особенно удобны для использования на заводах и фабриках пищевой промышленности, на предприятиях общественного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11200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4" descr=""/>
          <p:cNvPicPr/>
          <p:nvPr/>
        </p:nvPicPr>
        <p:blipFill>
          <a:blip r:embed="rId1"/>
          <a:stretch/>
        </p:blipFill>
        <p:spPr>
          <a:xfrm>
            <a:off x="1060560" y="542880"/>
            <a:ext cx="6065640" cy="2749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2843280" y="306864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5" descr=""/>
          <p:cNvPicPr/>
          <p:nvPr/>
        </p:nvPicPr>
        <p:blipFill>
          <a:blip r:embed="rId1"/>
          <a:stretch/>
        </p:blipFill>
        <p:spPr>
          <a:xfrm>
            <a:off x="426960" y="268200"/>
            <a:ext cx="838224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1258920" y="4005360"/>
          <a:ext cx="6423120" cy="1993680"/>
        </p:xfrm>
        <a:graphic>
          <a:graphicData uri="http://schemas.openxmlformats.org/drawingml/2006/table">
            <a:tbl>
              <a:tblPr/>
              <a:tblGrid>
                <a:gridCol w="2136600"/>
                <a:gridCol w="428652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чество 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ение яйца в стакане с вод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еж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д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ей свеж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ередине стак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веж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поверхности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Прямоугольник 10"/>
          <p:cNvSpPr/>
          <p:nvPr/>
        </p:nvSpPr>
        <p:spPr>
          <a:xfrm>
            <a:off x="1042920" y="1413000"/>
            <a:ext cx="727416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о яиц проверяют путём просвечивания их через овоскоп или опускания в подсоленную воду. Для этого в стакан с водой всыпьте столовую ложку соли, размешайте. Опустите в стакан яйцо и определите его качество в соответствии с таблиц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 flipV="1" rot="10800000">
            <a:off x="539280" y="1099080"/>
            <a:ext cx="7993080" cy="38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езно зн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06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йца, взятые из холодильника, нельзя сразу класть в кипяток, так как может треснуть скорлупа. Их следует предварительно подержать в тёплой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06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скорлупа слегка треснута, яйцо надо варить в солёной воде, чтобы белок не выт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06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ы отличить сырое яйцо от вареного, его нужно покрутить. Вареное яйцо хорошо вращается, а сырое, сделав 1-2 оборота, останавл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piriT</dc:creator>
  <dc:description/>
  <dc:language>en-US</dc:language>
  <cp:lastModifiedBy>Samsung</cp:lastModifiedBy>
  <dcterms:modified xsi:type="dcterms:W3CDTF">2012-08-29T18:36:48Z</dcterms:modified>
  <cp:revision>64</cp:revision>
  <dc:subject/>
  <dc:title>Творческий проект</dc:title>
</cp:coreProperties>
</file>