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5B2-ED7D-4AF9-86A2-6868CA7A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F3D-9368-48B1-96C9-CB45AD1B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EDD-3BEE-42BB-9FB0-9C814934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435-2A7E-46FC-A781-62C0E4FD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9156-0F85-46DF-BA3E-F35787FC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1AFC-25D6-49F1-A5A8-EF13C211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7FBA-7F59-4121-887F-6E9D0FB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AC2A-5563-43C2-86D5-FEC4526D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2848-BE5E-4C63-941E-658FE3B9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3857-9A89-4372-AF17-5857B5B8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9E9C-B4DC-494C-9D64-24B6C5EB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20C-3416-413A-A318-54EA1C0C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67ED-4CEE-48A4-80D6-6BDDAB1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9ECF-196E-4898-82F6-B3AE263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AB0D-FF79-416C-9558-8B87B752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2058-6161-4C00-AAD0-50183214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6F6F-7643-460E-8557-5751613F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B1D-39F4-42B5-A0D7-BB630229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E39-013A-496E-AB82-0955C7F9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302-ADB0-49CA-9702-0487D2A6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A2C-9BCE-4377-9E75-90448590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B9A-12AC-4E8F-98E8-E593595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5BE-01A1-4028-8281-292CA1AF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9FF-28CF-4156-8203-B9BD3627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7A0-09DA-49DC-8988-906A6C91C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ABCB-F987-4B30-8A09-F4423229B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08360" y="465372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16360" y="2060640"/>
            <a:ext cx="374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фганская война – это горе, страдания и материнские слёзы. Это израненные                                                                                                           и    погибшие молодые солдаты, это искалеченные судьбы. Кому нужна была эта война? До сих пор на этот вопрос нет четкого от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44625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08360" y="465372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1890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наших солдат не было невыполнимых задач, будь то бой в городе или горная война. Не было для них неприступных крепостей… И в этом как нельзя лучше проявились лучшие качества русского во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1487160"/>
            <a:ext cx="4680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е подлежат вове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ереоценк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и мужеств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и преданность солда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Которые прош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Через Герат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Через душман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Жуткие застенк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Через ночные рей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 бо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Через Салан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енты – серпантины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е по год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зрослевшие мужчины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крывавшие ранения сво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Через Пандшер кровавый и Кабу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желалабад и долгое молчанье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е запятнав ни совести, ни звань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е проклиная время и судьб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Они верны остались до кон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Одной присяге, воинскому долгу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ыть может, и живут они недолг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Что в шрама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 рубцах сплошных сердца!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3935" t="0" r="9733" b="-6164"/>
          <a:stretch/>
        </p:blipFill>
        <p:spPr>
          <a:xfrm>
            <a:off x="755640" y="2205000"/>
            <a:ext cx="316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92400" cy="3860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 rot="10800000">
            <a:off x="4714560" y="-1351440"/>
            <a:ext cx="34830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ис Альбертович Мишин родился 12 января 1967 года в деревне Кинеры Козловского района Чувашской  Республики. Учился в Кинерской основной общеобразовательной школе. Был прилежным учеником. Любил книги, спо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гда подтянутый, скромный, вежливый мальчик пользовался большим авторитетом среди своих товарищей. У него было много друзей. Его уважали за доброту, честность, трудолюб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 rot="5400000">
            <a:off x="-1513080" y="2528640"/>
            <a:ext cx="583272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Школьные год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2565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2852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529080" cy="445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48360" y="2852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4653000"/>
            <a:ext cx="3024000" cy="459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ис Мишин (сидит) со своим лучшим школьным другом Вечеркиным 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2426040"/>
            <a:ext cx="3168360" cy="2288520"/>
          </a:xfrm>
          <a:prstGeom prst="rect">
            <a:avLst/>
          </a:prstGeom>
          <a:solidFill>
            <a:srgbClr val="b7e7ff"/>
          </a:solidFill>
          <a:ln w="936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Давай на прощан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Дадим обещань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Запомним навеки       друз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И где мы ни буд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нигде не забуд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ияние школьных             ог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111111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53964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рис со своими однокласс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71640" y="403560"/>
            <a:ext cx="77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Б. Мишин  собирался стать химиком, поэтому после окончания школы он сразу поступил в Чебоксарский  химико - механический техникум .Учился старательно, к будущей профессии готовился основательно. Семь благодарностей было объявлено ему за годы учебы в техникуме, вручен знак ЦК ВЛКСМ « Золотые рук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20554800">
            <a:off x="900000" y="3860280"/>
            <a:ext cx="1675080" cy="208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1068600">
            <a:off x="6457680" y="3728880"/>
            <a:ext cx="1584360" cy="216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1471680" cy="216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843280" y="3500280"/>
            <a:ext cx="14335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6000" y="657720"/>
            <a:ext cx="7621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а у Бориса мечта- служить в воздушно- десантных войсках. И обязательно в Афганиста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звали его в армию 24 июня 1986 года. Попал в учебный полк, за короткое время стал командиром отделения, часто прыгал с парашютом. О том, как он служил, свидетельствует  благодарственное письмо из части, в котором командование сердечно благодарит родителей молодого воина за достойное воспитание сына, сообщает, что за время службы Борис в совершенстве освоил вверенную ему технику и оруж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 rot="20840400">
            <a:off x="1353960" y="3641400"/>
            <a:ext cx="2376720" cy="266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926400">
            <a:off x="5579640" y="3645000"/>
            <a:ext cx="2328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08360" y="465372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92360" y="36774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765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133720"/>
            <a:ext cx="8424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лет продолжалась афганская вой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1978-1989 г.г.) . За этот период в составе ограниченного контингента советских войск в Афганистане прошли службу более 500 000 военнослужащих, в том числе 60 000 офице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ойна без жертв не бывает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боях погибло 111 парней из Чувашии, 176 получили ранения, 54 стали инвалидами. Народ помнит героев Афганист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улиц, 12 скверов в городах и селах республики носят их им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35252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9e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Бой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закончен давно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Бой закончен давно,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Только память не знает покоя.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Иногда лишь в кино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Мы увидим сюжеты афганского бо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Душит красная пыль,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Она в лёгких засела навечно.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Страшный сон или быль –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Спор об этом идёт бесконеч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А ночью – холод,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В полдень – зной.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Ветров сухих раздолье.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В Россию хочется домой,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Где средь берез приволь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Холодеет душа,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Помощь вряд ли появится скоро.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По тропе не спеша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Батальон направляется в го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Скалы вверх, пропасть вниз.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Между ними петляет разведка.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Не сорвись, удержись.</a:t>
            </a:r>
            <a:br>
              <a:rPr sz="1600"/>
            </a:br>
            <a:r>
              <a:rPr b="0" i="1" lang="en-US" sz="1600" spc="-1" strike="noStrike">
                <a:solidFill>
                  <a:srgbClr val="336600"/>
                </a:solidFill>
                <a:latin typeface="Arial"/>
              </a:rPr>
              <a:t>Моджахеды стреляют здесь метк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8592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6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4:51:14Z</dcterms:created>
  <dc:creator>Максим</dc:creator>
  <dc:description/>
  <dc:language>en-US</dc:language>
  <cp:lastModifiedBy>Учитель</cp:lastModifiedBy>
  <dcterms:modified xsi:type="dcterms:W3CDTF">2012-01-18T10:25:31Z</dcterms:modified>
  <cp:revision>17</cp:revision>
  <dc:subject/>
  <dc:title>Слайд 1</dc:title>
</cp:coreProperties>
</file>