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9C4-514F-46AA-8D13-5ED013E8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645-77FD-45B0-86CF-2604ED9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88F-C5A9-4DAC-A7F9-286465A5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ACF-FAC7-49E2-8B81-D6869C9D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83D-1516-4949-9188-8ACDD1B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497-3AFF-4A4F-80A5-79A78A8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376-2623-4DC2-A052-E6007E9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652-B5E2-4855-A2B5-4A50D79F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9DE-F5B8-4969-9157-550784C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20B-5C65-409D-8CFD-EB98095E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734-0509-47E1-B064-1C7E451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C1E-9C8A-45B3-BAFA-7610421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990-6A79-449E-A7A5-C7B4ECE1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n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2;&#1086;&#1079;&#1079;&#1074;&#1072;&#1085;&#1080;&#1077;-&#1052;&#1080;&#1085;&#1080;&#1085;&#1072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95440" y="981000"/>
            <a:ext cx="79531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атриот земли Русской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зьма Мини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496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37372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ик Минину и Пожарскому в Моск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608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805360"/>
            <a:ext cx="82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зьма Минин на Памятнике «1000-летие Росс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Великом Новго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Памятник Кузьме Минину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83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5734080"/>
            <a:ext cx="85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ик Кузьме Минину в Горо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2133720"/>
            <a:ext cx="741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исхожд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узьма́ Ми́нич Заха́рьев Сухору́к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3880" y="1197000"/>
            <a:ext cx="3587760" cy="5184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зьма Минин - сын солеварщика Мины Анкудинова из Балах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Минин" — первоначально было отчеством и лишь впоследствии стало родовой фамил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частие в ополчении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сентября 1611 года Минин был избран земским старостой и возглавил движение за организацию Второго опол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8840" y="836640"/>
            <a:ext cx="4276800" cy="47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73408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ковский К. Е.  «Воззвание Мин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11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587700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звание Минина к нижегородцам в 161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51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Угрюмов. «Минин взывает к князю Пожарскому о спасении От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1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5589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А. Чориков «Призыв  Минина к Пожар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411120"/>
            <a:ext cx="7272360" cy="4889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58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И. Скотти  «Минин и Пожар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ь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96400" y="1671120"/>
            <a:ext cx="6992640" cy="3839400"/>
            <a:chOff x="896400" y="1671120"/>
            <a:chExt cx="6992640" cy="3839400"/>
          </a:xfrm>
        </p:grpSpPr>
        <p:sp>
          <p:nvSpPr>
            <p:cNvPr id="61" name=""/>
            <p:cNvSpPr/>
            <p:nvPr/>
          </p:nvSpPr>
          <p:spPr>
            <a:xfrm>
              <a:off x="896400" y="1671120"/>
              <a:ext cx="2509200" cy="605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узьма Мин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44160" y="1671120"/>
              <a:ext cx="268992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атьяна Семён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72080" y="2277360"/>
              <a:ext cx="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99120" y="2277360"/>
              <a:ext cx="108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2080" y="2883960"/>
              <a:ext cx="32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6320" y="2883960"/>
              <a:ext cx="1080" cy="6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9920" y="3490200"/>
              <a:ext cx="250956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фед (Мефодий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40920" y="3691800"/>
              <a:ext cx="896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37680" y="3490200"/>
              <a:ext cx="215136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нна Тихон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6320" y="40964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13360" y="4096440"/>
              <a:ext cx="108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6320" y="4501080"/>
              <a:ext cx="32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9120" y="4501080"/>
              <a:ext cx="108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02720" y="4904280"/>
              <a:ext cx="1972080" cy="60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мер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032000" cy="497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88000" y="2492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обница Кузьмы Минина в Спасо-Преображенском Соборе крем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51:48Z</dcterms:created>
  <dc:creator>1</dc:creator>
  <dc:description/>
  <dc:language>en-US</dc:language>
  <cp:lastModifiedBy>*</cp:lastModifiedBy>
  <dcterms:modified xsi:type="dcterms:W3CDTF">2012-01-21T14:10:03Z</dcterms:modified>
  <cp:revision>4</cp:revision>
  <dc:subject/>
  <dc:title>Слайд 1</dc:title>
</cp:coreProperties>
</file>