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CEB-BAD3-4466-B147-4A8596F2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533-5D32-4AC5-9D01-87370CF4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B1A-4EA3-468F-B4CB-EAEC3B93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240-2AF0-4362-8459-6F0AC18D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B43-2D9A-49C0-AE04-26F28997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DC3-BD26-4B3A-8810-04CBC424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684-7E26-4565-8EBB-66FFD8B9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FF1-0091-499F-ADF4-7F1F18F0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E7F-109C-46A0-BFEC-DD00531B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E67-C23C-4D4E-A4AD-FE283654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99E-FCBB-462D-A5D7-1987FDFD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BA3-6515-457C-AFA2-9503C8AC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CDB9-7A67-41D8-8C76-92ED8834F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2803" t="2823" r="30167" b="5525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80820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05264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istral"/>
              </a:rPr>
              <a:t>БЕДА ГДЕ-ТО РЯДО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person holding head"/>
          <p:cNvPicPr/>
          <p:nvPr/>
        </p:nvPicPr>
        <p:blipFill>
          <a:blip r:embed="rId2"/>
          <a:stretch/>
        </p:blipFill>
        <p:spPr>
          <a:xfrm>
            <a:off x="2484360" y="2205000"/>
            <a:ext cx="43722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Новый рисунок (6)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611280" y="18900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istral"/>
              </a:rPr>
              <a:t>УЗДНИКИ КОНЦЛАГЕРЯ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narkomany_prt2_011"/>
          <p:cNvPicPr/>
          <p:nvPr/>
        </p:nvPicPr>
        <p:blipFill>
          <a:blip r:embed="rId1">
            <a:lum bright="12000"/>
          </a:blip>
          <a:srcRect l="2444" t="0" r="8415" b="0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24000" y="2602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istral"/>
              </a:rPr>
              <a:t>НЕТ. ДЕТИ ПОДЗЕМЕЛЬЯ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narkomany_prt2_0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39640" y="189000"/>
            <a:ext cx="81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istral"/>
              </a:rPr>
              <a:t>ЭТО, НАВЕРНОЕ, БОЛЬН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narkomany_prt2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84360" y="5661000"/>
            <a:ext cx="799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istral"/>
              </a:rPr>
              <a:t>ПОКА ЕЩЁ ЖИВОЙ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narkomany_prt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684360" y="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istral"/>
              </a:rPr>
              <a:t>ТАК ОН И УМЕР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0" descr=""/>
          <p:cNvPicPr/>
          <p:nvPr/>
        </p:nvPicPr>
        <p:blipFill>
          <a:blip r:embed="rId1"/>
          <a:stretch/>
        </p:blipFill>
        <p:spPr>
          <a:xfrm>
            <a:off x="6858000" y="3368520"/>
            <a:ext cx="2286000" cy="258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"/>
          <p:cNvPicPr/>
          <p:nvPr/>
        </p:nvPicPr>
        <p:blipFill>
          <a:blip r:embed="rId2"/>
          <a:srcRect l="0" t="0" r="7708" b="0"/>
          <a:stretch/>
        </p:blipFill>
        <p:spPr>
          <a:xfrm>
            <a:off x="6141960" y="620640"/>
            <a:ext cx="3002040" cy="207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"/>
          <p:cNvPicPr/>
          <p:nvPr/>
        </p:nvPicPr>
        <p:blipFill>
          <a:blip r:embed="rId3"/>
          <a:stretch/>
        </p:blipFill>
        <p:spPr>
          <a:xfrm>
            <a:off x="900000" y="549360"/>
            <a:ext cx="3252960" cy="207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rcRect l="0" t="391" r="0" b="2313"/>
          <a:stretch/>
        </p:blipFill>
        <p:spPr>
          <a:xfrm>
            <a:off x="-36360" y="0"/>
            <a:ext cx="1079280" cy="6885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-608400" y="0"/>
            <a:ext cx="113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Согласны- употребление наркотиков может быть привлек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486080" y="47628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Но ты уже знаешь, что оно влечет з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172680" y="9079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Кто делает выб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 rot="2011800">
            <a:off x="4761720" y="141264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одит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24480" y="12682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руз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 rot="19591800">
            <a:off x="4130640" y="1628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Шко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301200" y="201600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 может ты с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-231480" y="2637000"/>
            <a:ext cx="103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пособен ли ты сказать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НЕТ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, даже когда это трудн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641960" y="3068640"/>
            <a:ext cx="677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Только ты можешь позаботиться о себ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если ты действительно этого хоч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342880" y="4221000"/>
            <a:ext cx="53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висимость - это боле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3251520" y="4724280"/>
            <a:ext cx="17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3674520" y="507204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хроничес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4163760" y="5445000"/>
            <a:ext cx="36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грессирующ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5438520" y="5935680"/>
            <a:ext cx="27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мер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1" descr=""/>
          <p:cNvPicPr/>
          <p:nvPr/>
        </p:nvPicPr>
        <p:blipFill>
          <a:blip r:embed="rId5"/>
          <a:stretch/>
        </p:blipFill>
        <p:spPr>
          <a:xfrm>
            <a:off x="1258920" y="3789360"/>
            <a:ext cx="16286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TwoTone"/>
          <p:cNvPicPr/>
          <p:nvPr/>
        </p:nvPicPr>
        <p:blipFill>
          <a:blip r:embed="rId1"/>
          <a:srcRect l="5367" t="3799" r="6095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258920" y="26028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облемы, которые возникают при злоупотреблении наркоти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1413000"/>
          <a:ext cx="7775640" cy="5184720"/>
        </p:xfrm>
        <a:graphic>
          <a:graphicData uri="http://schemas.openxmlformats.org/drawingml/2006/table">
            <a:tbl>
              <a:tblPr/>
              <a:tblGrid>
                <a:gridCol w="2592360"/>
                <a:gridCol w="2590920"/>
                <a:gridCol w="2592360"/>
              </a:tblGrid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ы в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лига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ум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од из шк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в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ажение всех систем и орг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иц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б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Ч/СП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 сем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и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 уменьшение продолжительности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иту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несение телесных пов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со здоровьем будущих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, хранение, продажа наркот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онение к употреблению наркот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rcRect l="0" t="391" r="0" b="2313"/>
          <a:stretch/>
        </p:blipFill>
        <p:spPr>
          <a:xfrm>
            <a:off x="-36360" y="0"/>
            <a:ext cx="1079280" cy="688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547640" y="155520"/>
            <a:ext cx="7417080" cy="64278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 rot="19999200">
            <a:off x="1993680" y="693360"/>
            <a:ext cx="56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istral"/>
              </a:rPr>
              <a:t>ПОМОГИТЕ!..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TwoTone"/>
          <p:cNvPicPr/>
          <p:nvPr/>
        </p:nvPicPr>
        <p:blipFill>
          <a:blip r:embed="rId1"/>
          <a:srcRect l="5367" t="3799" r="6095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971640" y="981000"/>
            <a:ext cx="7848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Ситуация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Я была на вечеринке в незнакомой  компании, и меня уговорили принять наркотики (уколоться). Мне стало интересно, и я согласилась. Теперь я думаю: «А вдруг я уже наркоманка?» Ребята из этой компании меня разыскивали, приходили в школу. Я вынуждена прятаться, сижу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ЧТО МНЕ ТЕПЕРЬ 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TwoTone"/>
          <p:cNvPicPr/>
          <p:nvPr/>
        </p:nvPicPr>
        <p:blipFill>
          <a:blip r:embed="rId1"/>
          <a:srcRect l="5367" t="3799" r="6095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39640" y="476280"/>
            <a:ext cx="835344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Ситуация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ы дружим уже больше года. В последнее время моя девушка очень изменилась, у нее появились новые подозрительные друзья, они о чем-то шепчутся, куда-то исчезают ненадолго, а возвращаются веселые и беззаботные. Она созналась, что уже несколько месяцев балуется ханкой и это ей нр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Этой новостью я поделился с другом, у которого в прошлом году от передозировки умер брат. Друг советует обратиться за помощью ко взрослым. Но я боюсь, что своими действиями испорчу наши отно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К МНЕ ПОСТУП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woTone"/>
          <p:cNvPicPr/>
          <p:nvPr/>
        </p:nvPicPr>
        <p:blipFill>
          <a:blip r:embed="rId1"/>
          <a:srcRect l="5367" t="3799" r="6095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826920" y="189000"/>
            <a:ext cx="806616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нформационн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ркотики – это токсические вещества, вызывающие поражения многих органов, снижающие иммунитет и приводящие к ранней смерти. Слово «наркотик» происходит от греческого слова narkotikos — приводящий в оцепенение. Наркотики - природные и синтетические вещества, вызывающие нарком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РКОМАНИЯ (от греч. narke — оцепенение и мания), болезнь, характеризующаяся непреодолимым влечением к наркотикам (напр., морфину), вызывающим в малых дозах эйфорию, в больших — оглушение, наркотический сон. Систематическое употребление наркотика вызывает потребность в увеличении доз. Воздержание сопровождается абстинентным синдромом. При наркомании поражаются внутренние органы, возникают неврологические и психические расстройства, развивается социальная деград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rcRect l="4650" t="2757" r="0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60360" y="494172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istral"/>
              </a:rPr>
              <a:t>ВЫБОР ЗА ВАМИ!..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rcRect l="0" t="0" r="5365" b="0"/>
          <a:stretch/>
        </p:blipFill>
        <p:spPr>
          <a:xfrm>
            <a:off x="6014880" y="836640"/>
            <a:ext cx="3165480" cy="6021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rcRect l="0" t="391" r="0" b="2313"/>
          <a:stretch/>
        </p:blipFill>
        <p:spPr>
          <a:xfrm>
            <a:off x="-36360" y="0"/>
            <a:ext cx="121896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116000" y="0"/>
            <a:ext cx="8028000" cy="9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Мы точно знаем, что: ни один наркоман, погибающ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в притоне или общественном туалете от передозиров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не планировал для себя такого, когда вводил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первую дозу или затягивался первым </a:t>
            </a:r>
            <a:r>
              <a:rPr b="1" lang="en-US" sz="2800" spc="-1" strike="noStrike">
                <a:solidFill>
                  <a:srgbClr val="ff3300"/>
                </a:solidFill>
                <a:latin typeface="Monotype Corsiva"/>
              </a:rPr>
              <a:t>“</a:t>
            </a: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косяком</a:t>
            </a:r>
            <a:r>
              <a:rPr b="1" lang="en-US" sz="2800" spc="-1" strike="noStrike">
                <a:solidFill>
                  <a:srgbClr val="ff3300"/>
                </a:solidFill>
                <a:latin typeface="Monotype Corsiva"/>
              </a:rPr>
              <a:t>”</a:t>
            </a: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Он думал так: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жизни надо все попробовать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ин раз не страшно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 буду контролировать себя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едь друг сказал, что он колется, и все о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ей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чем я хуже других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гда почувствую, что начин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висимость - брошу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т этого вещества зависимости не бывает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 мне все по - фигу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 гори оно все огнем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А возможно, он не думал вообщ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3" descr=""/>
          <p:cNvPicPr/>
          <p:nvPr/>
        </p:nvPicPr>
        <p:blipFill>
          <a:blip r:embed="rId1"/>
          <a:stretch/>
        </p:blipFill>
        <p:spPr>
          <a:xfrm>
            <a:off x="7162920" y="3716280"/>
            <a:ext cx="1942920" cy="310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0" t="391" r="0" b="2313"/>
          <a:stretch/>
        </p:blipFill>
        <p:spPr>
          <a:xfrm>
            <a:off x="-36360" y="0"/>
            <a:ext cx="121896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2379600" y="0"/>
            <a:ext cx="611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Стадии развития зависим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828000" y="333360"/>
            <a:ext cx="43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Этап 1.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ервые опы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187280" y="692280"/>
            <a:ext cx="77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Для этого этапа характ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стественное любопытство, жел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сто попробовать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ктивный поиск новых видов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йфа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еумение сказать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ЕТ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трах прослыть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белой вороной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”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“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аменькиным сынком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еосознанное желание убежать от сложн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Желание сделать свою жизнь интересной и наполнен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удности с пониманием собственных г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046160" y="3645000"/>
            <a:ext cx="60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Есть два пути после первых опы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187280" y="4005360"/>
            <a:ext cx="6193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лностью прекратить употребление; около 50%    людей так и поступ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должить употребление, что неминуемо ведет к переходу    на следующий этап развития зависимости от наркот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его не дано…У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"/>
          <p:cNvPicPr/>
          <p:nvPr/>
        </p:nvPicPr>
        <p:blipFill>
          <a:blip r:embed="rId1"/>
          <a:stretch/>
        </p:blipFill>
        <p:spPr>
          <a:xfrm>
            <a:off x="7161120" y="2565360"/>
            <a:ext cx="1982880" cy="429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rcRect l="0" t="391" r="0" b="2313"/>
          <a:stretch/>
        </p:blipFill>
        <p:spPr>
          <a:xfrm>
            <a:off x="-36360" y="0"/>
            <a:ext cx="121896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138680" y="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Этап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332000" y="476280"/>
            <a:ext cx="7812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Для этого этапа характ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сознанное желание получить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йф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при употреблении наркот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ланирование употреб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иск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дходящей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комп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ркотики становятся необходимым атрибутом веселья и отды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ркотики начинают использовать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редство против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омплексов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лекарство от стр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пособ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путник сексуальных отно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Формируется особая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тусовка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- свои наркотики, своя музы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тиль одежды, юмор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403280" y="4221000"/>
            <a:ext cx="5616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Закон до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Если человек продолжает употреблять вещества изменяющие состояние сознания он переходит с меньших доз на большие, и с менее сильных веществ на более си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533600" y="5805360"/>
            <a:ext cx="653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Если человек не прекращает употребл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начинается следующая стадия ЗАВИС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8" descr=""/>
          <p:cNvPicPr/>
          <p:nvPr/>
        </p:nvPicPr>
        <p:blipFill>
          <a:blip r:embed="rId1"/>
          <a:srcRect l="0" t="0" r="11377" b="0"/>
          <a:stretch/>
        </p:blipFill>
        <p:spPr>
          <a:xfrm>
            <a:off x="7462800" y="2924280"/>
            <a:ext cx="1681200" cy="327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0" t="391" r="0" b="2313"/>
          <a:stretch/>
        </p:blipFill>
        <p:spPr>
          <a:xfrm>
            <a:off x="-36360" y="0"/>
            <a:ext cx="1218960" cy="6885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258920" y="333360"/>
            <a:ext cx="7885080" cy="58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Для этого этапа характ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облемы со здоровьем (ломка, неприятные ощущения после      употребления, инфекционные заболев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теря контроля над собой(травмы, насилие, кримина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еразборчивость в сексе (венерические заболевания,   нежелательная беременность, проблемы в отношения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кандалы в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облемы с учебой, неприятности в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Финансовые трудности (долги, продажа вещей из дома, постоянный поиск дене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онфликты с друзь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сновной круг общения – те, кто употребляет нарко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онфликты с законом, приводы в мил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211760" y="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Этап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58920" y="4365720"/>
            <a:ext cx="653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ОСТОРОЖНО: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Возникающие проблемы служат оправданием дальнейшего употреб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потребление вызывает новые проблемы. Причина и следствие меняются мест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-364320" y="5546880"/>
            <a:ext cx="1091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Прекратить употребление на этой стадии самостоятельно практичес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не возможно, необходима помощь специалистов. Продолжение употре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обязательно ведет к переходу на следующий этап развития ЗАВИС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rcRect l="0" t="391" r="0" b="2313"/>
          <a:stretch/>
        </p:blipFill>
        <p:spPr>
          <a:xfrm>
            <a:off x="-36360" y="0"/>
            <a:ext cx="1218960" cy="688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908000" y="210960"/>
            <a:ext cx="5040360" cy="3434040"/>
          </a:xfrm>
          <a:prstGeom prst="rect">
            <a:avLst/>
          </a:prstGeom>
          <a:ln w="28440">
            <a:solidFill>
              <a:srgbClr val="4d4d4d"/>
            </a:solidFill>
            <a:miter/>
          </a:ln>
        </p:spPr>
      </p:pic>
      <p:pic>
        <p:nvPicPr>
          <p:cNvPr id="71" name="Picture 6" descr=""/>
          <p:cNvPicPr/>
          <p:nvPr/>
        </p:nvPicPr>
        <p:blipFill>
          <a:blip r:embed="rId3"/>
          <a:srcRect l="1692" t="1319" r="0" b="0"/>
          <a:stretch/>
        </p:blipFill>
        <p:spPr>
          <a:xfrm>
            <a:off x="4861080" y="1413000"/>
            <a:ext cx="3527280" cy="5302080"/>
          </a:xfrm>
          <a:prstGeom prst="rect">
            <a:avLst/>
          </a:prstGeom>
          <a:ln w="28440">
            <a:solidFill>
              <a:srgbClr val="4d4d4d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 rot="20046600">
            <a:off x="1082880" y="2279520"/>
            <a:ext cx="87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istral"/>
              </a:rPr>
              <a:t>ИМ ЕЩЕ МОЖНО ПОМОЧЬ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8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410544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rcRect l="0" t="391" r="0" b="2313"/>
          <a:stretch/>
        </p:blipFill>
        <p:spPr>
          <a:xfrm>
            <a:off x="-36360" y="0"/>
            <a:ext cx="1218960" cy="6885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1067400" y="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Этап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187280" y="476280"/>
            <a:ext cx="79567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Для этого этапа характ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стоянная потребность в наркоти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Использование крайних средств в поисках  до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азрушение нравственных цен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патия и нежелание жить, утрата смысла существ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ытки самоуби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ерьезные проблемы со здоровьем, возникновение хронических заболе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Monotype Corsiva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азрыв с семьей, друзьями, об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332000" y="3068640"/>
            <a:ext cx="73454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ОСТОРО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бсолютное большинство наркоманов, дошедших до этой стадии развития зависимости, погибают от передозировки. Количество вещества, требуемое для возвращения мозга к нормальному функционированию, становится критическим для жизнедеятельности организм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258920" y="60357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Если человек не прекращает   употребления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ОН  ПОГИБ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rcRect l="0" t="391" r="0" b="2313"/>
          <a:stretch/>
        </p:blipFill>
        <p:spPr>
          <a:xfrm>
            <a:off x="-36360" y="0"/>
            <a:ext cx="1218960" cy="688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Новый рисунок (3)"/>
          <p:cNvPicPr/>
          <p:nvPr/>
        </p:nvPicPr>
        <p:blipFill>
          <a:blip r:embed="rId2"/>
          <a:srcRect l="2961" t="0" r="0" b="0"/>
          <a:stretch/>
        </p:blipFill>
        <p:spPr>
          <a:xfrm>
            <a:off x="2987640" y="260280"/>
            <a:ext cx="4757760" cy="561672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  <p:sp>
        <p:nvSpPr>
          <p:cNvPr id="81" name="Text Box 7"/>
          <p:cNvSpPr/>
          <p:nvPr/>
        </p:nvSpPr>
        <p:spPr>
          <a:xfrm>
            <a:off x="2340000" y="594360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istral"/>
              </a:rPr>
              <a:t>РАЗВЕ ЭТО НЕ СТРАШН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9:58:54Z</dcterms:created>
  <dc:creator>сережа</dc:creator>
  <dc:description/>
  <dc:language>en-US</dc:language>
  <cp:lastModifiedBy>КМ</cp:lastModifiedBy>
  <dcterms:modified xsi:type="dcterms:W3CDTF">2013-10-31T15:25:32Z</dcterms:modified>
  <cp:revision>7</cp:revision>
  <dc:subject/>
  <dc:title>Слайд 1</dc:title>
</cp:coreProperties>
</file>