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8.gif" ContentType="image/gif"/>
  <Override PartName="/ppt/media/image30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26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4.png" ContentType="image/png"/>
  <Override PartName="/ppt/media/image24.gif" ContentType="image/gif"/>
  <Override PartName="/ppt/media/image2.jpeg" ContentType="image/jpeg"/>
  <Override PartName="/ppt/media/image23.jpeg" ContentType="image/jpeg"/>
  <Override PartName="/ppt/media/image5.gif" ContentType="image/gif"/>
  <Override PartName="/ppt/media/image1.wmf" ContentType="image/x-wm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6.gif" ContentType="image/gif"/>
  <Override PartName="/ppt/media/image21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F01-4680-4BD5-8731-4F50542A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B02-4680-4170-888A-E3B5216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E19-0074-4461-8D0D-DF08BF9F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AF5-975C-473C-B04D-E7EBC4F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615-ECFA-408E-8D5A-3D17F31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6FC-457C-4FF9-A74B-0401207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D61-0362-4C14-8530-C67CE48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23A-74B0-45F5-8590-02B9A97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211-34CF-49FC-BE98-A1CD061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361-F4D4-449F-AF82-10B15ED4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AE6-733C-448C-95B9-8140A03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0DB-6D42-4E60-84FC-9FE7CA6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29E1-1A81-41D0-991B-FEAF8F074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УТЕШЕСТВИЕ ПО ЭКОЛОГИЧЕСКОЙ ТР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5360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irakalina_126841_S"/>
          <p:cNvPicPr/>
          <p:nvPr/>
        </p:nvPicPr>
        <p:blipFill>
          <a:blip r:embed="rId2"/>
          <a:stretch/>
        </p:blipFill>
        <p:spPr>
          <a:xfrm>
            <a:off x="500040" y="4929120"/>
            <a:ext cx="1905120" cy="1625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4714920"/>
            <a:ext cx="4143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читель биологии 1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МОУ СОШ п. Арчаглы – А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Челябинской обл., Варне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5e25"/>
                </a:solidFill>
                <a:latin typeface="Arial"/>
              </a:rPr>
              <a:t>Email: archagliayat003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Антон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7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3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0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1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4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13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4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1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2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p_14138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46"/>
          <p:cNvPicPr/>
          <p:nvPr/>
        </p:nvPicPr>
        <p:blipFill>
          <a:blip r:embed="rId3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98"/>
          <p:cNvPicPr/>
          <p:nvPr/>
        </p:nvPicPr>
        <p:blipFill>
          <a:blip r:embed="rId4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253"/>
          <p:cNvPicPr/>
          <p:nvPr/>
        </p:nvPicPr>
        <p:blipFill>
          <a:blip r:embed="rId5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67"/>
          <p:cNvPicPr/>
          <p:nvPr/>
        </p:nvPicPr>
        <p:blipFill>
          <a:blip r:embed="rId6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495"/>
          <p:cNvPicPr/>
          <p:nvPr/>
        </p:nvPicPr>
        <p:blipFill>
          <a:blip r:embed="rId7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507"/>
          <p:cNvPicPr/>
          <p:nvPr/>
        </p:nvPicPr>
        <p:blipFill>
          <a:blip r:embed="rId8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pvtz"/>
          <p:cNvPicPr/>
          <p:nvPr/>
        </p:nvPicPr>
        <p:blipFill>
          <a:blip r:embed="rId9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17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9"/>
          <p:cNvPicPr/>
          <p:nvPr/>
        </p:nvPicPr>
        <p:blipFill>
          <a:blip r:embed="rId1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ad05"/>
          <p:cNvPicPr/>
          <p:nvPr/>
        </p:nvPicPr>
        <p:blipFill>
          <a:blip r:embed="rId2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"/>
          <p:cNvPicPr/>
          <p:nvPr/>
        </p:nvPicPr>
        <p:blipFill>
          <a:blip r:embed="rId3"/>
          <a:stretch/>
        </p:blipFill>
        <p:spPr>
          <a:xfrm>
            <a:off x="291960" y="158760"/>
            <a:ext cx="8632800" cy="1320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 пожар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2" name="Picture 6" descr="1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пожар 3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вода грязь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8" name="Picture 6" descr="грязь 2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9" name="Picture 7" descr="грязь рек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Text Box 8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i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Picture 7" descr="завод 3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5" name="Picture 8" descr="15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уборка 2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8" name="Picture 6" descr="уборка 3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0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6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8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1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4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5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6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0" descr="6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4" descr="46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6" descr="98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река2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0" descr="40r3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Антонова СА</cp:lastModifiedBy>
  <dcterms:modified xsi:type="dcterms:W3CDTF">2013-10-16T09:31:44Z</dcterms:modified>
  <cp:revision>33</cp:revision>
  <dc:subject/>
  <dc:title>Слайд 1</dc:title>
</cp:coreProperties>
</file>