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CE2-4A1B-4CF7-9FB9-053303BE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AB5-646D-4CF3-8AB6-AE9594D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8EA-0C2C-4325-9F21-9A80015D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A32-A36B-4EAE-929D-EB19586D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942-1A31-48EA-AB1B-38EA08E8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3CA-5BD1-4244-975F-1B470171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AC7-A5A3-4FE0-9094-F5CF83D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E58-DEE0-411F-9250-6D39BCB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9B6-3F21-4C08-9A9F-1CCF66F7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E56-658C-4E69-924E-2B6824D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118-682E-43B6-9647-1F6BDB7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9AE-29E0-426D-B0F1-2430EB5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5EA-3B90-446B-98A1-308725CC8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400" y="22852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тодическая разработка учебного зан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9560" y="4038480"/>
            <a:ext cx="45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работ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абынин С.А. – преподава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 обществознания ГОУ НПО ПУ №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г. Строитель Бел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1560" y="685080"/>
            <a:ext cx="66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Демократия в древней Греци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-main-pic" descr="Картинка 13 из 446"/>
          <p:cNvPicPr/>
          <p:nvPr/>
        </p:nvPicPr>
        <p:blipFill>
          <a:blip r:embed="rId1"/>
          <a:stretch/>
        </p:blipFill>
        <p:spPr>
          <a:xfrm>
            <a:off x="1295280" y="304920"/>
            <a:ext cx="6400800" cy="350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93156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Демократия в древней Гр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0320" y="4799520"/>
            <a:ext cx="79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1. Древняя Греция – колыбель европейской циви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280" y="5409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2. Древняя Греция – колыбель демокра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10800000">
            <a:off x="608760" y="-72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781680" y="3429000"/>
            <a:ext cx="221004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35 из 446"/>
          <p:cNvPicPr/>
          <p:nvPr/>
        </p:nvPicPr>
        <p:blipFill>
          <a:blip r:embed="rId5"/>
          <a:stretch/>
        </p:blipFill>
        <p:spPr>
          <a:xfrm>
            <a:off x="2971800" y="34290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000" y="2819520"/>
            <a:ext cx="2642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финская гимна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73800" y="2819520"/>
            <a:ext cx="3007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Театр-школа для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560" y="6019920"/>
            <a:ext cx="22305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Олимпий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6040" y="6324480"/>
            <a:ext cx="3428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Парфенон-храм богини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5520" y="6019920"/>
            <a:ext cx="172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кульп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богини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38 из 446"/>
          <p:cNvPicPr/>
          <p:nvPr/>
        </p:nvPicPr>
        <p:blipFill>
          <a:blip r:embed="rId1"/>
          <a:stretch/>
        </p:blipFill>
        <p:spPr>
          <a:xfrm>
            <a:off x="228600" y="1447920"/>
            <a:ext cx="525780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2760" y="5943600"/>
            <a:ext cx="46918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 этом здании афинского театра проход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агор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народн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429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87280" y="4572000"/>
            <a:ext cx="319536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Гражданами были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вободные мужч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в возрасте 18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коренные жители Аф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1440" y="380880"/>
            <a:ext cx="68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Демократия – власть на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Подготовить доклад, реферат, репортаж, презентац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« Великая историческая    личность древности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Я приду на следующий урок, потому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14600"/>
            <a:ext cx="3353040" cy="3124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438280"/>
            <a:ext cx="2971800" cy="31244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0200" y="45720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Днём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Учител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2547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8720" y="4495680"/>
            <a:ext cx="765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http://www.posobiya.ru/SREDN_SKOOL/ISTOR/N200/imagepage0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http://arlen33.ru/training_equipment/296/2640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http://www.remontnoers.ru/view_post.php?id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http://spox.ru/?p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http://www.diskonttur.ru/catalog/2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2T14:16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