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2560" y="456840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5684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9360" y="45684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3490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1440" y="23490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2560" y="45684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5684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1440" y="45684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42560" y="234900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560" y="169992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42560" y="45684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2560" y="234900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9360" y="45684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456840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42560" y="456840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5684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59360" y="45684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7000" y="23490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11440" y="23490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42560" y="45684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7000" y="45684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11440" y="456840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2560" y="169992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2560" y="45684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9360" y="45684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234900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456840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234900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c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78936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iseysk.com/documents/9999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4.images.drive2.ru/user.blog.photos/x1/4400/000/000/272/c17/88cdc4e4f15dec62-main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g0.liveinternet.ru/images/attach/c/0/53/409/53409585_1262789200_HYA_YEri_s_originala_PF_Sokolova_1821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1/50/291/50291244_sovorontzs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biografija.ru/pictures/wm_28003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stu.ru/win/tambov/tambov_img/imena_img/gonchar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www.xrest.ru/images/collection/00024/776/preview.jpg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img0.liveinternet.ru/images/attach/c/1/60/614/60614982_x_62419a9c.jpg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2.ipicture.ru/uploads/20110429/W9N003P9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ntent.foto.mail.ru/mail/elena08091970/_blogs/i-3705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6/Rachmaninov_peinture.jpg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ru.wikipedia.org/wiki/&#1060;&#1072;&#1081;&#1083;:Makovskiy_Dargomyzhsky.jpg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upload.wikimedia.org/wikipedia/commons/1/1e/Peter_Tschaikowski.jpg" TargetMode="External"/><Relationship Id="rId7" Type="http://schemas.openxmlformats.org/officeDocument/2006/relationships/image" Target="../media/image27.jpeg"/><Relationship Id="rId8" Type="http://schemas.openxmlformats.org/officeDocument/2006/relationships/hyperlink" Target="http://upload.wikimedia.org/wikipedia/commons/8/8b/Walentin_Alexandrowitsch_Serow_004.jpg" TargetMode="External"/><Relationship Id="rId9" Type="http://schemas.openxmlformats.org/officeDocument/2006/relationships/image" Target="../media/image28.jpeg"/><Relationship Id="rId10" Type="http://schemas.openxmlformats.org/officeDocument/2006/relationships/hyperlink" Target="http://img149.imageshack.us/img149/6282/firstg.jpg" TargetMode="External"/><Relationship Id="rId11" Type="http://schemas.openxmlformats.org/officeDocument/2006/relationships/image" Target="../media/image29.jpeg"/><Relationship Id="rId12" Type="http://schemas.openxmlformats.org/officeDocument/2006/relationships/hyperlink" Target="http://www.intoclassics.net/_nw/147/05223558.jpg" TargetMode="External"/><Relationship Id="rId13" Type="http://schemas.openxmlformats.org/officeDocument/2006/relationships/image" Target="../media/image30.jpeg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seum-online.ru/Romanticism/Orest_Adamovich_Kiprensky/Canvas/3042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upload.wikimedia.org/wikipedia/commons/a/ac/Kiprensky_self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krf.ru/upload/iblock/3d5/3d568b5d51ecc8f79e8d7b4796dd18fd.jpg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upload.wikimedia.org/wikipedia/commons/6/66/Tropinin-self.jpg" TargetMode="External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eb-web.ru/feb/pushkin/pictures/Lit-969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upload.wikimedia.org/wikipedia/commons/4/4f/Brjullov.jpg" TargetMode="External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7/Aivazovsky_portrait_by_Tyranov.jpg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aivazovski.ru/cms.ashx?req=Image&amp;imageid=b7f11376-8e96-4ba1-b4e5-d7d1a6ffae69&amp;key=main" TargetMode="External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f/Nikolaj_Alexandrowitsch_Jaroschenko_009.jpg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lib.ru/objects/gallery_359/artlib_gallery-179965-b.jpg" TargetMode="External"/><Relationship Id="rId3" Type="http://schemas.openxmlformats.org/officeDocument/2006/relationships/image" Target="../media/image44.jpeg"/><Relationship Id="rId4" Type="http://schemas.openxmlformats.org/officeDocument/2006/relationships/hyperlink" Target="http://content.foto.mail.ru/mail/bayer58/_blogs/i-2959.jpg" TargetMode="External"/><Relationship Id="rId5" Type="http://schemas.openxmlformats.org/officeDocument/2006/relationships/image" Target="../media/image45.jpeg"/><Relationship Id="rId6" Type="http://schemas.openxmlformats.org/officeDocument/2006/relationships/hyperlink" Target="http://www.museum-online.ru/Romanticism/Orest_Adamovich_Kiprensky/Canvas/3042" TargetMode="External"/><Relationship Id="rId7" Type="http://schemas.openxmlformats.org/officeDocument/2006/relationships/image" Target="../media/image31.jpeg"/><Relationship Id="rId8" Type="http://schemas.openxmlformats.org/officeDocument/2006/relationships/hyperlink" Target="http://shkolazhizni.ru/img/content/i58/58842_or.jpg" TargetMode="External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alend.ru/img/content_images/i1/1137_or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49.radikal.ru/i125/0808/1b/c04e4b5eec04.jpg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/index.php?title=&#1060;&#1072;&#1081;&#1083;:Kiprensky_Pushkin.jpg&amp;filetimestamp=20061113115450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ruprom-image.s3.amazonaws.com/23605_w640_h640_pero2.png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iseysk.com/documents/9999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libo.ru/uploads/posts/2009-05/1242181298_geniy_02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dtour.ru/images/image115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s57.radikal.ru/i155/1006/2f/10c462707fef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5302/fotosergs.99/0_538e5_f9464e16_XL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pushkin.niv.ru/images/mesta/mesta_12_1.jpg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hotel-altun.ru/i/mihailovskoe/alley.jpg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528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ccff"/>
                </a:solidFill>
                <a:latin typeface="Arial"/>
              </a:rPr>
              <a:t>Урок-игра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Мы пришли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 поэту в гости»</a:t>
            </a:r>
            <a:br>
              <a:rPr sz="4000"/>
            </a:br>
            <a:br>
              <a:rPr sz="3600"/>
            </a:b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Горовая Татьяна Петровна, </a:t>
            </a:r>
            <a:br>
              <a:rPr sz="2800"/>
            </a:b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СОШ №14, г.Новокузнец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Картинка 1 из 10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844640"/>
            <a:ext cx="489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41 из 6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301932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Картинка 26 из 67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2565360"/>
            <a:ext cx="290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Картинка 1 из 167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125360"/>
            <a:ext cx="3076560" cy="3810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2 из 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2205000"/>
            <a:ext cx="282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Картинка 3 из 29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2950920" cy="3809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16 из 295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1557360"/>
            <a:ext cx="28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067280" y="2421000"/>
            <a:ext cx="2900160" cy="364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15 из 295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67440" y="2852640"/>
            <a:ext cx="27525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2133720"/>
            <a:ext cx="3305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324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2920" y="1844640"/>
            <a:ext cx="72741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IV гей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Ты-мне, я-тебе"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4360" y="22766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I гей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Стих Пушк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ть начни..."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11280" y="1413000"/>
            <a:ext cx="53434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Тираны мира! Трепещите!"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42920" y="1989000"/>
            <a:ext cx="4810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ока свободою горим..."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76360" y="2565360"/>
            <a:ext cx="4810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риветствую тебя..."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68360" y="3141720"/>
            <a:ext cx="4810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 пустыне, чахлой и скупой..."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11640" y="4797360"/>
            <a:ext cx="3448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На холмах Грузии..."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24360" y="5950080"/>
            <a:ext cx="273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Мчатся тучи..."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836640"/>
            <a:ext cx="5238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Не дай мне, Бог, сойти с ума..."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700360" y="3716280"/>
            <a:ext cx="5238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Исполнились мои желания..."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348000" y="4292640"/>
            <a:ext cx="5238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рощай, письмо любви..."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5373720"/>
            <a:ext cx="30477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Дар напрасный..."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03280" y="2349360"/>
            <a:ext cx="6553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c00ff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I гейм </a:t>
            </a:r>
            <a:endParaRPr b="1" lang="en-US" sz="3200" spc="1" strike="noStrike">
              <a:ln w="12600">
                <a:solidFill>
                  <a:srgbClr val="cc00ff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c00ff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Гонка за лидером»</a:t>
            </a:r>
            <a:endParaRPr b="1" lang="en-US" sz="3200" spc="1" strike="noStrike">
              <a:ln w="12600">
                <a:solidFill>
                  <a:srgbClr val="cc00ff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Картинка 11 из 9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6438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опросы для команды №1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Предок А.С.Пушкина по материнской лин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Ф.И.О. бабушки поэта по материнской лин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В каком году был открыт Царскосельский лицей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Кто подарил А.С.Пушкину свой портрет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Где находится родовое имение Пушкиных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Как звали детей Пушкина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Фамилия, имя, отчество  няни поэт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Место последней дуэли Пушкин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Как называется первое опубликованное стихотворение А.С.Пушкина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Кому оно посвящено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Членом каких литературных обществ был Пушкин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Где проходило венчание поэта с Н.Н.Гончаровой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643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Вопросы для команды №2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643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Имя, отчество отца Пушкин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Какой журнал основа поэт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Какое стихотворение читал Пушкин на экзамене в Лицее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Где находится могила Пушкина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Любимый вид спорта поэт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Место северной ссылки поэ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Как называлось подмосковное имение бабушки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Почему всех лицеистов называли «чугунниками»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Любимое время года поэт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День встречи лицеист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Ядовитое дерево в стихотворении Пушкин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Кто сосватал Пушкина с музами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258920" y="1773360"/>
            <a:ext cx="6913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II гейм </a:t>
            </a:r>
            <a:endParaRPr b="1" lang="en-US" sz="3200" spc="1" strike="noStrike">
              <a:ln w="12600">
                <a:solidFill>
                  <a:srgbClr val="9933ff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Прекрасное </a:t>
            </a:r>
            <a:endParaRPr b="1" lang="en-US" sz="3200" spc="1" strike="noStrike">
              <a:ln w="12600">
                <a:solidFill>
                  <a:srgbClr val="9933ff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лжно быть величавым...»</a:t>
            </a:r>
            <a:endParaRPr b="1" lang="en-US" sz="3200" spc="1" strike="noStrike">
              <a:ln w="12600">
                <a:solidFill>
                  <a:srgbClr val="9933ff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Файл:Rachmaninov peintur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3384360" cy="4392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фото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620640"/>
            <a:ext cx="3095640" cy="396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Файл:Peter Tschaikowski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79640" y="1268280"/>
            <a:ext cx="3192480" cy="3980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Файл:Walentin Alexandrowitsch Serow 00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64000" y="1773360"/>
            <a:ext cx="3457440" cy="432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10 из 25782">
            <a:hlinkClick r:id="rId10"/>
          </p:cNvPr>
          <p:cNvPicPr/>
          <p:nvPr/>
        </p:nvPicPr>
        <p:blipFill>
          <a:blip r:embed="rId11"/>
          <a:srcRect l="0" t="0" r="0" b="10265"/>
          <a:stretch/>
        </p:blipFill>
        <p:spPr>
          <a:xfrm>
            <a:off x="4427640" y="2421000"/>
            <a:ext cx="3035160" cy="395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5 из 4138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580000" y="2781360"/>
            <a:ext cx="3114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Кипренский, Орест Адамович. Портрет Александра Сергеевича Пушки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557360"/>
            <a:ext cx="3889440" cy="4824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92000" y="188640"/>
            <a:ext cx="5194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Кипренский и Пушк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Файл:Kiprensky sel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765000"/>
            <a:ext cx="360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99760" y="333360"/>
            <a:ext cx="7643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Тропинин и 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Картинка 6 из 1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1844640"/>
            <a:ext cx="3152880" cy="4065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Файл:Tropinin-sel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3336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99760" y="404640"/>
            <a:ext cx="7643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Брюллов и 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1341360"/>
            <a:ext cx="3527280" cy="482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Файл:Brjullov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260280"/>
            <a:ext cx="3743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99760" y="333360"/>
            <a:ext cx="7643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Айвазовский и 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Файл:Aivazovsky portrait by Tyrano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3241440" cy="4319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Прощание А.С. Пушкина с Черным морем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1125360"/>
            <a:ext cx="3389400" cy="4897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 (554x700, 45Kb)"/>
          <p:cNvPicPr/>
          <p:nvPr/>
        </p:nvPicPr>
        <p:blipFill>
          <a:blip r:embed="rId6"/>
          <a:stretch/>
        </p:blipFill>
        <p:spPr>
          <a:xfrm>
            <a:off x="1187280" y="1052640"/>
            <a:ext cx="777744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 (680x432, 52Kb)"/>
          <p:cNvPicPr/>
          <p:nvPr/>
        </p:nvPicPr>
        <p:blipFill>
          <a:blip r:embed="rId7"/>
          <a:stretch/>
        </p:blipFill>
        <p:spPr>
          <a:xfrm>
            <a:off x="250920" y="98100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99760" y="475920"/>
            <a:ext cx="7643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Ге и Пушк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Файл:Nikolaj Alexandrowitsch Jaroschenko 0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620640"/>
            <a:ext cx="3240000" cy="4176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258920" y="1197000"/>
            <a:ext cx="7273800" cy="518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042920" y="1125360"/>
            <a:ext cx="7632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643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Репин и 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Картинка 1 из 1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981000"/>
            <a:ext cx="4321080" cy="5400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Картинка 5 из 14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981000"/>
            <a:ext cx="4319640" cy="547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Кипренский, Орест Адамович. Портрет Александра Сергеевича Пушкина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56000" y="981000"/>
            <a:ext cx="4321080" cy="5543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Картинка 2 из 14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71640" y="981000"/>
            <a:ext cx="727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Картинка 17 из 69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1523880"/>
            <a:ext cx="348768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Картинка 5 из 171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2060640"/>
            <a:ext cx="3924360" cy="4105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ипренский, Орест Адамович. Портрет Александра Сергеевича Пушкина"/>
          <p:cNvPicPr/>
          <p:nvPr/>
        </p:nvPicPr>
        <p:blipFill>
          <a:blip r:embed="rId4"/>
          <a:stretch/>
        </p:blipFill>
        <p:spPr>
          <a:xfrm>
            <a:off x="468360" y="1413000"/>
            <a:ext cx="3743280" cy="4824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27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ка в России есть Пушкин, метелям не задуть свеч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116000" y="1916280"/>
            <a:ext cx="71280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00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: </a:t>
            </a:r>
            <a:endParaRPr b="1" lang="en-US" sz="2400" spc="1" strike="noStrike">
              <a:ln w="12600">
                <a:solidFill>
                  <a:srgbClr val="9900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00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писать сочинение </a:t>
            </a:r>
            <a:endParaRPr b="1" lang="en-US" sz="2400" spc="1" strike="noStrike">
              <a:ln w="12600">
                <a:solidFill>
                  <a:srgbClr val="9900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00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Стих Пушкина читать начну..."</a:t>
            </a:r>
            <a:endParaRPr b="1" lang="en-US" sz="2400" spc="1" strike="noStrike">
              <a:ln w="12600">
                <a:solidFill>
                  <a:srgbClr val="9900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268360" y="1628640"/>
            <a:ext cx="48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9900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4000" spc="1" strike="noStrike">
              <a:ln w="12600">
                <a:solidFill>
                  <a:srgbClr val="9900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9900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1" lang="en-US" sz="4000" spc="1" strike="noStrike">
              <a:ln w="12600">
                <a:solidFill>
                  <a:srgbClr val="9900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137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http://images.yandex.ru/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http://ru.wikipedia.org/wik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rodtour.ru/sobanskaja-karolina-adamovna.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http://aleho.narod.ru/book/komissarzhevsky.ht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http://www.museum-online.ru/Romanticism/Orest_Adamovich_Kiprensky/Preview/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http://gallerix.ru/album/Rep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987640" y="1125360"/>
            <a:ext cx="29624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тернет-источники: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2808360" cy="446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Kiprensky Pushk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1413000"/>
            <a:ext cx="2884320" cy="37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а 1 из 1113">
            <a:hlinkClick r:id="rId5"/>
          </p:cNvPr>
          <p:cNvPicPr/>
          <p:nvPr/>
        </p:nvPicPr>
        <p:blipFill>
          <a:blip r:embed="rId6"/>
          <a:srcRect l="25985" t="0" r="0" b="17231"/>
          <a:stretch/>
        </p:blipFill>
        <p:spPr>
          <a:xfrm>
            <a:off x="5160960" y="3500280"/>
            <a:ext cx="39830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Картинка 1 из 10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421000"/>
            <a:ext cx="489600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10 из 960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1197000"/>
            <a:ext cx="298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71640" y="1773360"/>
            <a:ext cx="66960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I гейм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Что в имени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бе моём?"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1484280"/>
            <a:ext cx="2664000" cy="35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Картинка 58 из 960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2637000"/>
            <a:ext cx="2808360" cy="38098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693240" y="2489040"/>
            <a:ext cx="3003480" cy="3097080"/>
            <a:chOff x="3693240" y="2489040"/>
            <a:chExt cx="3003480" cy="3097080"/>
          </a:xfrm>
        </p:grpSpPr>
        <p:sp>
          <p:nvSpPr>
            <p:cNvPr id="89" name="_s28691"/>
            <p:cNvSpPr/>
            <p:nvPr/>
          </p:nvSpPr>
          <p:spPr>
            <a:xfrm>
              <a:off x="3693240" y="3357360"/>
              <a:ext cx="1861560" cy="2228760"/>
            </a:xfrm>
            <a:prstGeom prst="donut">
              <a:avLst>
                <a:gd name="adj" fmla="val 16666"/>
              </a:avLst>
            </a:prstGeom>
            <a:solidFill>
              <a:srgbClr val="cc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" name="_s28692"/>
            <p:cNvSpPr/>
            <p:nvPr/>
          </p:nvSpPr>
          <p:spPr>
            <a:xfrm>
              <a:off x="6199560" y="3479760"/>
              <a:ext cx="497160" cy="495000"/>
            </a:xfr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" name="_s28689"/>
            <p:cNvSpPr/>
            <p:nvPr/>
          </p:nvSpPr>
          <p:spPr>
            <a:xfrm>
              <a:off x="4003560" y="3728880"/>
              <a:ext cx="1240920" cy="1485720"/>
            </a:xfrm>
            <a:prstGeom prst="donut">
              <a:avLst>
                <a:gd name="adj" fmla="val 25000"/>
              </a:avLst>
            </a:prstGeom>
            <a:solidFill>
              <a:srgbClr val="cc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" name="_s28690"/>
            <p:cNvSpPr/>
            <p:nvPr/>
          </p:nvSpPr>
          <p:spPr>
            <a:xfrm>
              <a:off x="6199560" y="2984400"/>
              <a:ext cx="497160" cy="495360"/>
            </a:xfr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" name="_s28687"/>
            <p:cNvSpPr/>
            <p:nvPr/>
          </p:nvSpPr>
          <p:spPr>
            <a:xfrm>
              <a:off x="4313880" y="4100400"/>
              <a:ext cx="620280" cy="743040"/>
            </a:xfrm>
            <a:prstGeom prst="ellipse">
              <a:avLst/>
            </a:prstGeom>
            <a:solidFill>
              <a:srgbClr val="cc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" name="_s28688"/>
            <p:cNvSpPr/>
            <p:nvPr/>
          </p:nvSpPr>
          <p:spPr>
            <a:xfrm>
              <a:off x="6199560" y="2489040"/>
              <a:ext cx="497160" cy="495360"/>
            </a:xfr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Картинка 3 из 108">
            <a:hlinkClick r:id="rId2"/>
          </p:cNvPr>
          <p:cNvPicPr/>
          <p:nvPr/>
        </p:nvPicPr>
        <p:blipFill>
          <a:blip r:embed="rId3"/>
          <a:srcRect l="0" t="0" r="0" b="5318"/>
          <a:stretch/>
        </p:blipFill>
        <p:spPr>
          <a:xfrm>
            <a:off x="1187280" y="981000"/>
            <a:ext cx="6793200" cy="532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2 из 21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981000"/>
            <a:ext cx="6912000" cy="532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9 из 140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42920" y="981000"/>
            <a:ext cx="7129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16000" y="1916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II гей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агадочная незнакомка"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20:05:28Z</dcterms:created>
  <dc:creator>Admin</dc:creator>
  <dc:description/>
  <dc:language>en-US</dc:language>
  <cp:lastModifiedBy>Admin</cp:lastModifiedBy>
  <dcterms:modified xsi:type="dcterms:W3CDTF">2011-07-01T18:27:57Z</dcterms:modified>
  <cp:revision>8</cp:revision>
  <dc:subject/>
  <dc:title>Слайд 1</dc:title>
</cp:coreProperties>
</file>