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22.jpeg" ContentType="image/jpeg"/>
  <Override PartName="/ppt/media/image5.jpeg" ContentType="image/jpeg"/>
  <Override PartName="/ppt/media/image8.jpeg" ContentType="image/jpeg"/>
  <Override PartName="/ppt/media/image4.png" ContentType="image/png"/>
  <Override PartName="/ppt/media/drumroll.wav" ContentType="audio/x-wav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DA98-5C9F-42FB-9C9B-5FCBE8FB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041-16C1-4C32-8EDD-2D7A3A3A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70F3-74CB-46B4-9614-53E7CA9B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133D-D9E5-4945-8F7E-2D9497E9C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AB63-3336-4B19-8986-59E946A6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6063-5BB0-4C5B-8AE4-670348E3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6FD2-3140-45A6-BED8-24FADE66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6543-6B6C-469A-8D73-0486592F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2DE6-1FD1-4D86-ADF2-3E893F21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9263-BFCB-4DDA-92C3-CF4E6209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97AE-9072-4236-85FD-4DD430CE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66BB-F7C4-4AC7-A6EC-3C68372C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4FF1-964F-46DD-A847-E7E976A6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0710-7006-4A10-9EA7-D6925D67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75D7-0085-40A8-8940-CE0BDFF8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5DD1-7876-4F2C-A35A-115D931A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0941-EA10-4812-BA22-DEEC63A19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6C98-9E34-4258-82BB-3D301DEA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B6C-7FE5-4931-B960-FF5A5ECD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6A39-ECDF-422C-98B4-C31DCCFD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6FFD-8351-40F5-9CF9-2AC00D28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C1F-A552-45BF-9FAF-EC4AA8FD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CBC1-2A9E-4462-849C-164398FB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14ED-B04A-4141-813D-21345704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3FAE-0C4A-4847-9AAC-CDA8CF60F6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8600-DC6D-4CD6-8223-0044EC7230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76360" y="1844640"/>
            <a:ext cx="614664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ряд юных инспекторов движения (ЮИД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вдинской СО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оцкого райо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</a:t>
            </a:r>
            <a:r>
              <a:rPr b="1" lang="ru-RU" sz="3200" spc="-1" strike="noStrike">
                <a:solidFill>
                  <a:srgbClr val="1fe152"/>
                </a:solidFill>
                <a:latin typeface="Verdana"/>
              </a:rPr>
              <a:t>Е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Т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</a:t>
            </a:r>
            <a:r>
              <a:rPr b="1" lang="ru-RU" sz="3200" spc="-1" strike="noStrike">
                <a:solidFill>
                  <a:srgbClr val="1fe152"/>
                </a:solidFill>
                <a:latin typeface="Verdana"/>
              </a:rPr>
              <a:t>Ф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</a:t>
            </a:r>
            <a:r>
              <a:rPr b="1" lang="ru-RU" sz="3200" spc="-1" strike="noStrike">
                <a:solidFill>
                  <a:srgbClr val="1fe152"/>
                </a:solidFill>
                <a:latin typeface="Verdana"/>
              </a:rPr>
              <a:t>И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7" descr="gai17"/>
          <p:cNvPicPr/>
          <p:nvPr/>
        </p:nvPicPr>
        <p:blipFill>
          <a:blip r:embed="rId1"/>
          <a:stretch/>
        </p:blipFill>
        <p:spPr>
          <a:xfrm>
            <a:off x="395280" y="476280"/>
            <a:ext cx="1368360" cy="1233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gai17"/>
          <p:cNvPicPr/>
          <p:nvPr/>
        </p:nvPicPr>
        <p:blipFill>
          <a:blip r:embed="rId2"/>
          <a:stretch/>
        </p:blipFill>
        <p:spPr>
          <a:xfrm>
            <a:off x="7164360" y="46530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3"/>
          <p:cNvSpPr/>
          <p:nvPr/>
        </p:nvSpPr>
        <p:spPr>
          <a:xfrm>
            <a:off x="5292720" y="6093000"/>
            <a:ext cx="362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У Правдинская СОШ Тоцкого р-на Оренбургской обла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Участие в районном слете ЮИД «Безопасное колесо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4" descr="pic"/>
          <p:cNvPicPr/>
          <p:nvPr/>
        </p:nvPicPr>
        <p:blipFill>
          <a:blip r:embed="rId1"/>
          <a:stretch/>
        </p:blipFill>
        <p:spPr>
          <a:xfrm>
            <a:off x="6012000" y="4941720"/>
            <a:ext cx="1761840" cy="1295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сканирование0015"/>
          <p:cNvPicPr/>
          <p:nvPr/>
        </p:nvPicPr>
        <p:blipFill>
          <a:blip r:embed="rId2"/>
          <a:stretch/>
        </p:blipFill>
        <p:spPr>
          <a:xfrm>
            <a:off x="1403280" y="3933720"/>
            <a:ext cx="2808360" cy="2589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сканирование0003"/>
          <p:cNvPicPr/>
          <p:nvPr/>
        </p:nvPicPr>
        <p:blipFill>
          <a:blip r:embed="rId3"/>
          <a:stretch/>
        </p:blipFill>
        <p:spPr>
          <a:xfrm>
            <a:off x="4643280" y="1628640"/>
            <a:ext cx="381636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дение конкурс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токов истории развития дорожного движ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4" descr="gai24"/>
          <p:cNvPicPr/>
          <p:nvPr/>
        </p:nvPicPr>
        <p:blipFill>
          <a:blip r:embed="rId1"/>
          <a:stretch/>
        </p:blipFill>
        <p:spPr>
          <a:xfrm>
            <a:off x="4140360" y="189000"/>
            <a:ext cx="1377720" cy="1198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сканирование0013"/>
          <p:cNvPicPr/>
          <p:nvPr/>
        </p:nvPicPr>
        <p:blipFill>
          <a:blip r:embed="rId2"/>
          <a:stretch/>
        </p:blipFill>
        <p:spPr>
          <a:xfrm>
            <a:off x="2627280" y="3141720"/>
            <a:ext cx="424980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000" y="-45900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Наши успех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692360" y="476280"/>
            <a:ext cx="68403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6" descr="сканирование0008"/>
          <p:cNvPicPr/>
          <p:nvPr/>
        </p:nvPicPr>
        <p:blipFill>
          <a:blip r:embed="rId1"/>
          <a:stretch/>
        </p:blipFill>
        <p:spPr>
          <a:xfrm>
            <a:off x="6588000" y="4149720"/>
            <a:ext cx="2087640" cy="244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сканирование0006"/>
          <p:cNvPicPr/>
          <p:nvPr/>
        </p:nvPicPr>
        <p:blipFill>
          <a:blip r:embed="rId2"/>
          <a:stretch/>
        </p:blipFill>
        <p:spPr>
          <a:xfrm>
            <a:off x="395280" y="4149720"/>
            <a:ext cx="2038320" cy="2448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сканирование0005"/>
          <p:cNvPicPr/>
          <p:nvPr/>
        </p:nvPicPr>
        <p:blipFill>
          <a:blip r:embed="rId3"/>
          <a:stretch/>
        </p:blipFill>
        <p:spPr>
          <a:xfrm>
            <a:off x="5580000" y="1413000"/>
            <a:ext cx="2089080" cy="2520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сканирование0007"/>
          <p:cNvPicPr/>
          <p:nvPr/>
        </p:nvPicPr>
        <p:blipFill>
          <a:blip r:embed="rId4"/>
          <a:stretch/>
        </p:blipFill>
        <p:spPr>
          <a:xfrm>
            <a:off x="1979640" y="1413000"/>
            <a:ext cx="2016000" cy="2592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4" descr="gai6"/>
          <p:cNvPicPr/>
          <p:nvPr/>
        </p:nvPicPr>
        <p:blipFill>
          <a:blip r:embed="rId5"/>
          <a:stretch/>
        </p:blipFill>
        <p:spPr>
          <a:xfrm>
            <a:off x="7812000" y="333360"/>
            <a:ext cx="817560" cy="8175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618920" y="404280"/>
            <a:ext cx="6707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ой друг – светофор и я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месте - дружная семья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Тоцкий наш район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Будет безопасным он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4" descr="юид 2"/>
          <p:cNvPicPr/>
          <p:nvPr/>
        </p:nvPicPr>
        <p:blipFill>
          <a:blip r:embed="rId1"/>
          <a:srcRect l="1720" t="0" r="46329" b="2808"/>
          <a:stretch/>
        </p:blipFill>
        <p:spPr>
          <a:xfrm>
            <a:off x="4067280" y="3213000"/>
            <a:ext cx="2152440" cy="32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gai1"/>
          <p:cNvPicPr/>
          <p:nvPr/>
        </p:nvPicPr>
        <p:blipFill>
          <a:blip r:embed="rId1"/>
          <a:stretch/>
        </p:blipFill>
        <p:spPr>
          <a:xfrm>
            <a:off x="468360" y="5157720"/>
            <a:ext cx="711000" cy="1152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gai25"/>
          <p:cNvPicPr/>
          <p:nvPr/>
        </p:nvPicPr>
        <p:blipFill>
          <a:blip r:embed="rId2"/>
          <a:stretch/>
        </p:blipFill>
        <p:spPr>
          <a:xfrm>
            <a:off x="8028000" y="5445000"/>
            <a:ext cx="666720" cy="10796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1476360" y="47160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6 марта исполняется 35 лет отрядам ЮИД России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Оренбургской области еще до создания ЮИД в 1966 году был проведен первый областной конкурс по безопасности дорожного движения среди школьников. Одними из первых отряды ЮИД были созданы в Орске, Оренбурге, Гае, Медногорске, Сорочинске, Бузулуке, Бугуруслане и в районах. Сегодня в области действуют более 500 отряд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9" descr="сканирование0014"/>
          <p:cNvPicPr/>
          <p:nvPr/>
        </p:nvPicPr>
        <p:blipFill>
          <a:blip r:embed="rId3"/>
          <a:stretch/>
        </p:blipFill>
        <p:spPr>
          <a:xfrm>
            <a:off x="2360520" y="3286080"/>
            <a:ext cx="494820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099640" cy="32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Ежегодно на дорогах России погибает около 60 000 человек. Это население небольшого города. 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0000"/>
                </a:solidFill>
                <a:latin typeface="Tahoma"/>
                <a:ea typeface="Times New Roman"/>
              </a:rPr>
              <a:t>Каждое десятое ДТП в стране происходит с участием детей — такова статистика. Это означает, что каждый год в авариях Россия теряет по полторы тысячи молодых граждан. Еще свыше 20 000 детей получают в происшествиях серьезные увечья, причем четверть покалеченных тинэйджеров навсегда останутся инвалидами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Вам стало страшно? Нам – да! Именно поэтому в нашей школе был создан отряд юных инспекторов движения (ЮИД). Мы хотим сами знать и рассказать всем о важности соблюдения правил дорожного движения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31640" y="6237360"/>
            <a:ext cx="8086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наем правила движения как таблицу умнож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6" descr="сканирование0012"/>
          <p:cNvPicPr/>
          <p:nvPr/>
        </p:nvPicPr>
        <p:blipFill>
          <a:blip r:embed="rId1"/>
          <a:stretch/>
        </p:blipFill>
        <p:spPr>
          <a:xfrm>
            <a:off x="2214720" y="3357720"/>
            <a:ext cx="4879800" cy="29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500" autoRev="1" fill="hold"/>
                                        <p:tgtEl>
                                          <p:spTgt spid="1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8243640" cy="51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Из истории </a:t>
            </a: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отряда ЮИД «СВЕТОФОРИК»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Verdana"/>
              </a:rPr>
              <a:t>Правдинской СОШ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836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Руководител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– Боков Олег Геннадьевич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ллективу 8 лет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озраст участников отряда - 12-13 лет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 5-летнее существование школу отряда прошли около 50 человек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ряд был создан в 2000 году в целях пропаганды Правил дорожного движения среди учащихся и родителей и предупреждения детского дорожно-транспортного травматизм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 школе оформлен уголок безопасности, проводятся викторины по ПДД, смотры агитплакатов, экскурсии-беседы, линейки безопасности, конкурсы рисунков, проходят встречи с работниками ГИБДД, есть своя агитбригад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аждый год, в мае месяце проводится "Неделя безопасности". Отряд ЮИД продолжает работу во время летних каникул, в лагере труда и отдых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тряд ищет новые формы работы, которые бы помогли творчески решить поставленные перед отрядом задач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4" descr="gai23"/>
          <p:cNvPicPr/>
          <p:nvPr/>
        </p:nvPicPr>
        <p:blipFill>
          <a:blip r:embed="rId1"/>
          <a:stretch/>
        </p:blipFill>
        <p:spPr>
          <a:xfrm>
            <a:off x="3995640" y="5373720"/>
            <a:ext cx="1548000" cy="132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77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77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77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186920" y="259920"/>
            <a:ext cx="4038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Наш девиз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расный зажёгся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той, не спеши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Жёлтый зажёгся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круг посмотри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елёный зажёгся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мело вперёд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ямая дорог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ебе, пешеход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Наша речёвка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й, пешеход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мелый вперёд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перёд к дорожным знания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ЮИДовцев отряд ведё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втомобиль познания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 светофоре красный свет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той, дороги дальше нет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ажёгся жёлтый - подожди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 сторонам ты посмотри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А как зажжётся свет зелёный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7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перёд иди, народ  весёлый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7" descr="юид 2"/>
          <p:cNvPicPr/>
          <p:nvPr/>
        </p:nvPicPr>
        <p:blipFill>
          <a:blip r:embed="rId1"/>
          <a:stretch/>
        </p:blipFill>
        <p:spPr>
          <a:xfrm>
            <a:off x="5796000" y="1268280"/>
            <a:ext cx="22860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8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8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8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8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8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8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8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8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81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8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8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81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Отряд ЮИД участвовал в следующих мероприятиях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ступления агитбригады ЮИД перед младшими школьника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8244000" cy="8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Практические занятия на местност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юид 5"/>
          <p:cNvPicPr/>
          <p:nvPr/>
        </p:nvPicPr>
        <p:blipFill>
          <a:blip r:embed="rId1"/>
          <a:stretch/>
        </p:blipFill>
        <p:spPr>
          <a:xfrm>
            <a:off x="971640" y="1700280"/>
            <a:ext cx="4824360" cy="4078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ЮИД 6"/>
          <p:cNvPicPr/>
          <p:nvPr/>
        </p:nvPicPr>
        <p:blipFill>
          <a:blip r:embed="rId2"/>
          <a:stretch/>
        </p:blipFill>
        <p:spPr>
          <a:xfrm>
            <a:off x="7093080" y="1700280"/>
            <a:ext cx="148428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школе оформлен уголок ЮИД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енд по ПДД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5" descr="сканирование0004"/>
          <p:cNvPicPr/>
          <p:nvPr/>
        </p:nvPicPr>
        <p:blipFill>
          <a:blip r:embed="rId1"/>
          <a:stretch/>
        </p:blipFill>
        <p:spPr>
          <a:xfrm>
            <a:off x="2843280" y="4508640"/>
            <a:ext cx="3529080" cy="2016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юид 7"/>
          <p:cNvPicPr/>
          <p:nvPr/>
        </p:nvPicPr>
        <p:blipFill>
          <a:blip r:embed="rId2"/>
          <a:stretch/>
        </p:blipFill>
        <p:spPr>
          <a:xfrm>
            <a:off x="2050920" y="2133720"/>
            <a:ext cx="4967280" cy="2252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gai3"/>
          <p:cNvPicPr/>
          <p:nvPr/>
        </p:nvPicPr>
        <p:blipFill>
          <a:blip r:embed="rId3"/>
          <a:stretch/>
        </p:blipFill>
        <p:spPr>
          <a:xfrm>
            <a:off x="468360" y="606600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gai7"/>
          <p:cNvPicPr/>
          <p:nvPr/>
        </p:nvPicPr>
        <p:blipFill>
          <a:blip r:embed="rId4"/>
          <a:stretch/>
        </p:blipFill>
        <p:spPr>
          <a:xfrm>
            <a:off x="7308720" y="765000"/>
            <a:ext cx="792360" cy="7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курс агитационных плак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5" descr="Plakat"/>
          <p:cNvPicPr/>
          <p:nvPr/>
        </p:nvPicPr>
        <p:blipFill>
          <a:blip r:embed="rId1"/>
          <a:stretch/>
        </p:blipFill>
        <p:spPr>
          <a:xfrm>
            <a:off x="1692360" y="1700280"/>
            <a:ext cx="604836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05:58:00Z</dcterms:created>
  <dc:creator>USER</dc:creator>
  <dc:description/>
  <dc:language>en-US</dc:language>
  <cp:lastModifiedBy>Admin</cp:lastModifiedBy>
  <dcterms:modified xsi:type="dcterms:W3CDTF">2011-02-02T13:21:17Z</dcterms:modified>
  <cp:revision>13</cp:revision>
  <dc:subject/>
  <dc:title>Слайд 1</dc:title>
</cp:coreProperties>
</file>