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1B8-2075-42AD-B737-C946DF02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A64-0775-4FE5-9462-AD9AC572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0AE-0CAC-440D-A912-B463A67A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A6A-0BBB-4798-AFA1-694961DA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A525-8DB3-4156-A286-42D97D20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EF59-B1F0-4986-AC98-7FF3FE1E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BA84-364D-496E-8005-9F541427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7F04-199D-4798-B0E5-B3932BDA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8F21-655C-4733-BB15-37D61A9F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F1B6-55B7-47BF-8F29-2FF6D9E2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DB74-6417-4A30-A3A8-1A3D4E2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59F-BAF4-4BEE-90FE-EA203623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4214-9926-4F49-A12A-6A0C5B00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5F5E-14CB-4981-BE05-C1631171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7495-C400-4475-9B78-00C13D03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C560-5180-4AD2-AFFC-EB89191B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AB7F-0FEF-4DED-BA41-1E228F68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E01-B25F-4986-91A5-6B862CF2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181-52BE-45B6-851E-06D67FD7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3C8-28C6-46DE-99CD-67729F8B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C14-CE45-45A2-A89E-4EBC181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694-0E7E-4689-8DA8-E64A171D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43B-7A9D-45BB-B96B-C6F4F20F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50B-8C06-4AEE-9400-EF24391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7FD-EB67-4F33-8229-90747F33DA06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B9E4-A63C-4A9D-B1C6-B0F90BC17FC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f you’re happy…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n,  sing with us…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9" descr="iCAX3MRHY"/>
          <p:cNvPicPr/>
          <p:nvPr/>
        </p:nvPicPr>
        <p:blipFill>
          <a:blip r:embed="rId1"/>
          <a:stretch/>
        </p:blipFill>
        <p:spPr>
          <a:xfrm>
            <a:off x="2057400" y="3429000"/>
            <a:ext cx="4724280" cy="2666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562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562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410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82080" cy="5715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20080" cy="5715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639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1:22:48Z</dcterms:created>
  <dc:creator>Алексей</dc:creator>
  <dc:description/>
  <dc:language>en-US</dc:language>
  <cp:lastModifiedBy>Алексей</cp:lastModifiedBy>
  <dcterms:modified xsi:type="dcterms:W3CDTF">2012-08-09T19:3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