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40.jpeg" ContentType="image/jpeg"/>
  <Override PartName="/ppt/media/image55.png" ContentType="image/png"/>
  <Override PartName="/ppt/media/image20.jpeg" ContentType="image/jpe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2.gif" ContentType="image/gif"/>
  <Override PartName="/ppt/media/image43.png" ContentType="image/png"/>
  <Override PartName="/ppt/media/image15.jpeg" ContentType="image/jpeg"/>
  <Override PartName="/ppt/media/image64.png" ContentType="image/png"/>
  <Override PartName="/ppt/media/image16.jpeg" ContentType="image/jpeg"/>
  <Override PartName="/ppt/media/image28.jpeg" ContentType="image/jpeg"/>
  <Override PartName="/ppt/media/image62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4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2.png" ContentType="image/png"/>
  <Override PartName="/ppt/media/image70.png" ContentType="image/png"/>
  <Override PartName="/ppt/media/image38.jpeg" ContentType="image/jpeg"/>
  <Override PartName="/ppt/media/image68.png" ContentType="image/png"/>
  <Override PartName="/ppt/media/image31.png" ContentType="image/png"/>
  <Override PartName="/ppt/media/image1.png" ContentType="image/png"/>
  <Override PartName="/ppt/media/image67.png" ContentType="image/png"/>
  <Override PartName="/ppt/media/image66.png" ContentType="image/png"/>
  <Override PartName="/ppt/media/image26.jpeg" ContentType="image/jpeg"/>
  <Override PartName="/ppt/media/image65.png" ContentType="image/png"/>
  <Override PartName="/ppt/media/image3.png" ContentType="image/png"/>
  <Override PartName="/ppt/media/image33.png" ContentType="image/png"/>
  <Override PartName="/ppt/media/image17.jpeg" ContentType="image/jpeg"/>
  <Override PartName="/ppt/media/image63.png" ContentType="image/png"/>
  <Override PartName="/ppt/media/image25.png" ContentType="image/png"/>
  <Override PartName="/ppt/media/image24.png" ContentType="image/png"/>
  <Override PartName="/ppt/media/image61.png" ContentType="image/png"/>
  <Override PartName="/ppt/media/image60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13.jpeg" ContentType="image/jpeg"/>
  <Override PartName="/ppt/media/image41.gif" ContentType="image/gif"/>
  <Override PartName="/ppt/media/image44.png" ContentType="image/png"/>
  <Override PartName="/ppt/media/image35.png" ContentType="image/png"/>
  <Override PartName="/ppt/media/image27.jpeg" ContentType="image/jpeg"/>
  <Override PartName="/ppt/media/image52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4.jpeg" ContentType="image/jpeg"/>
  <Override PartName="/ppt/media/image54.png" ContentType="image/png"/>
  <Override PartName="/ppt/media/image23.jpeg" ContentType="image/jpeg"/>
  <Override PartName="/ppt/media/image8.png" ContentType="image/png"/>
  <Override PartName="/ppt/media/image5.png" ContentType="image/png"/>
  <Override PartName="/ppt/media/image39.jpeg" ContentType="image/jpeg"/>
  <Override PartName="/ppt/media/image9.png" ContentType="image/png"/>
  <Override PartName="/ppt/media/image3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6928-8064-4441-8C0D-D1EF64E89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5015-8B51-4364-90A6-F45A5C0F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7DB3-210C-4EDE-8A69-867A9E904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2A89-087A-4029-995D-BA4FFA50E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DEB3C-2270-4BE9-B956-208124C4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1921-9437-47AB-9099-2369F688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9CC12-A7F5-4F43-B8D2-4A4671418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561AD-B6F3-407C-9BBD-A5CEA295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D165-3045-4A1F-BD78-01F24D17D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9CBC-CE70-4D2E-BDDD-759B50A65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D4A77-197B-4122-9722-133B4B203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0835-1979-4306-8398-0691A6174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EDBD5-D0CC-4CBC-94BC-F7FFE5DF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FF25-A287-440F-A1F4-F7A99FAA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FAEB-45DE-48A6-A09C-FB20D14D6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44E0-2927-4905-AA6B-80F605D14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B36DB-E8CE-4ECB-A1F4-E5B2B0BD2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242D-0C7E-42A9-8EDD-4670FCDB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50B1-E513-40F6-A3BA-7821FD08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E9F-036D-4E12-B98A-70B653EB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0482-E123-416B-BCC3-A5952975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3DBA-0BD9-4F57-81E4-484D9753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258-D626-4ECA-9F2F-6537988C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CDF-FAE9-4E29-81BA-6C2DB1168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42DDE-2155-48D9-9047-706F2AB47BE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2B25F-9458-4682-A32D-DAC3E2E805D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hyperlink" Target="http://www.newacropol.ru/Alexandria/myth/muzes/Kalliopa/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newacropol.ru/Alexandria/myth/muzes/Evterpa/" TargetMode="External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newacropol.ru/Alexandria/myth/muzes/Poligimnia/" TargetMode="External"/><Relationship Id="rId2" Type="http://schemas.openxmlformats.org/officeDocument/2006/relationships/image" Target="../media/image16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hyperlink" Target="http://www.newacropol.ru/Alexandria/myth/muzes/Klio/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newacropol.ru/Alexandria/myth/muzes/Talia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www.newacropol.ru/Alexandria/myth/muzes/Melpomena/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8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1.png"/><Relationship Id="rId20" Type="http://schemas.openxmlformats.org/officeDocument/2006/relationships/image" Target="../media/image11.png"/><Relationship Id="rId21" Type="http://schemas.openxmlformats.org/officeDocument/2006/relationships/image" Target="../media/image12.jpeg"/><Relationship Id="rId22" Type="http://schemas.openxmlformats.org/officeDocument/2006/relationships/image" Target="../media/image13.jpeg"/><Relationship Id="rId23" Type="http://schemas.openxmlformats.org/officeDocument/2006/relationships/image" Target="../media/image14.jpeg"/><Relationship Id="rId24" Type="http://schemas.openxmlformats.org/officeDocument/2006/relationships/image" Target="../media/image15.jpeg"/><Relationship Id="rId25" Type="http://schemas.openxmlformats.org/officeDocument/2006/relationships/image" Target="../media/image16.jpeg"/><Relationship Id="rId26" Type="http://schemas.openxmlformats.org/officeDocument/2006/relationships/image" Target="../media/image17.jpeg"/><Relationship Id="rId2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8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image" Target="../media/image70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 rot="21430200">
            <a:off x="855360" y="836280"/>
            <a:ext cx="7394400" cy="551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рекрасные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     </a:t>
            </a: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зы 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 </a:t>
            </a:r>
            <a:r>
              <a:rPr b="1" i="1" lang="en-US" sz="4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усства</a:t>
            </a:r>
            <a:endParaRPr b="1" i="1" lang="en-US" sz="4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Парна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39640" y="476280"/>
            <a:ext cx="7986960" cy="83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Я  видел  вновь приюты  скал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И  тёмный  кров  уединенья,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Где  я  на  пир  воображенья,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Бывало,  Музу  призывал…</a:t>
            </a:r>
            <a:br>
              <a:rPr sz="5400"/>
            </a:br>
            <a:r>
              <a:rPr b="0" lang="en-US" sz="5400" spc="-1" strike="noStrike">
                <a:solidFill>
                  <a:srgbClr val="ffffcc"/>
                </a:solidFill>
                <a:latin typeface="Monotype Corsiva"/>
              </a:rPr>
              <a:t>                         А.С. Пушкин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11280" y="476280"/>
            <a:ext cx="367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КАЛЛИОПА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В греческой мифологии  старшая   из девяти муз, богиня  песнопения.  В  классическую  эпоху  считалась покровительницей  эпической поэзии и науки. Изображалась с вощеной дощечкой или свитком и стилем — палочкой для писания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00000" y="4005360"/>
            <a:ext cx="1868760" cy="2490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Каллиоп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72000" y="476280"/>
            <a:ext cx="385596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Эвтерп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75160" y="476280"/>
            <a:ext cx="4200480" cy="59054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11280" y="692280"/>
            <a:ext cx="3744720" cy="58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    </a:t>
            </a: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ЭВТЕРПА</a:t>
            </a: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В   греческой мифологии одна из 9 муз, покровительница   музыки   и   лирической поэзии. Изображалась с лирой в руках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620640"/>
            <a:ext cx="4248000" cy="36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ПОЛИГИМНИ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В  греческой мифологии одна из 9 муз, покровительница   пантомимы,    гимнической поэзии. Изобретательница лиры. Изображается со свитком в руках, в задумчивой позе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0" name="" descr="Полигимни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48200" y="333360"/>
            <a:ext cx="3936960" cy="5904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1258920" y="3860640"/>
            <a:ext cx="189072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87280" y="2637000"/>
            <a:ext cx="2492640" cy="40338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Клио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40240" y="333360"/>
            <a:ext cx="3408480" cy="5111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24000" y="189000"/>
            <a:ext cx="5040000" cy="37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ТЕРПСИХОРА </a:t>
            </a: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В  греческой мифологии одна из 9 муз, покровительница танцев. Часто изображалась с лирой и плектром в руках. Другой ее атрибут — плющ, что связывает ее с культом Дионис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-4325760" y="2914560"/>
            <a:ext cx="1779732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Monotype Corsiva"/>
              </a:rPr>
              <a:t>ТАЛИЯ, в греческой мифологии одна из 9 муз, покровительница комедии.</a:t>
            </a:r>
            <a:endParaRPr b="0" lang="en-US" sz="1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4000" y="404640"/>
            <a:ext cx="4176720" cy="42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        </a:t>
            </a: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ТАЛИЯ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В  греческой мифологии одна из 9 муз, покровительница комеди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Изображалась  в  виде  юной  девушки  с  комической  маской  и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Пастушеским  посохом  или  бубном,  в  венке  из  плюща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971640" y="3860640"/>
            <a:ext cx="2106360" cy="2808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Талия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900680" y="333360"/>
            <a:ext cx="3792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826920" y="404640"/>
            <a:ext cx="424980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МЕЛЬПОМЕНА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В   греческой мифологии одна из 9 муз, покровительница трагедии. Изображалась в венке из плюща с трагической маской и палицей в руке. В переносном смысле «жрецы Мельпомены» — актеры.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532480" y="333360"/>
            <a:ext cx="3085920" cy="633564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Мельпомена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3141720"/>
            <a:ext cx="22575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otype Corsiva"/>
              </a:rPr>
              <a:t>               </a:t>
            </a: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Ансамбль афинского </a:t>
            </a:r>
            <a:r>
              <a:rPr b="1" lang="en-US" sz="3600" spc="-1" strike="noStrike">
                <a:solidFill>
                  <a:srgbClr val="eaeaea"/>
                </a:solidFill>
                <a:latin typeface="Monotype Corsiva"/>
              </a:rPr>
              <a:t>Акрополя </a:t>
            </a: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— один из самых прекрасных в мире архитектурных комплексов. Основная часть сохранившихся сооружений относится к 5 в. до н. э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4788000" y="404640"/>
            <a:ext cx="3600360" cy="287352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4788000" y="3357720"/>
            <a:ext cx="3600360" cy="26874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395280" y="3268800"/>
            <a:ext cx="381636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038480" cy="58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otype Corsiva"/>
              </a:rPr>
              <a:t>        </a:t>
            </a: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В честь бога виноделия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      </a:t>
            </a:r>
            <a:r>
              <a:rPr b="1" lang="en-US" sz="3200" spc="-1" strike="noStrike">
                <a:solidFill>
                  <a:srgbClr val="eaeaea"/>
                </a:solidFill>
                <a:latin typeface="Monotype Corsiva"/>
              </a:rPr>
              <a:t>Диониса</a:t>
            </a: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 в  Древней Греции проводились празднества с театральными постановками, из которых позже возник отдельный род искусства — </a:t>
            </a: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театр</a:t>
            </a: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643280" y="4076640"/>
            <a:ext cx="3961080" cy="2448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4643280" y="189000"/>
            <a:ext cx="3888000" cy="352908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3276720" y="3716280"/>
            <a:ext cx="566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Театр Диониса в Афинах. 4 в. до н. э.</a:t>
            </a:r>
            <a:r>
              <a:rPr b="1" i="1" lang="en-US" sz="1800" spc="-1" strike="noStrike">
                <a:solidFill>
                  <a:srgbClr val="eaeaea"/>
                </a:solidFill>
                <a:latin typeface="Monotype Corsiv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2952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Monotype Corsiva"/>
              </a:rPr>
              <a:t>Хоровод   муз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iml" descr="Музы"/>
          <p:cNvPicPr/>
          <p:nvPr/>
        </p:nvPicPr>
        <p:blipFill>
          <a:blip r:embed="rId1"/>
          <a:stretch/>
        </p:blipFill>
        <p:spPr>
          <a:xfrm>
            <a:off x="826920" y="1197000"/>
            <a:ext cx="770436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 flipV="1" rot="10818600">
            <a:off x="246960" y="332640"/>
            <a:ext cx="3902040" cy="43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ЭРАТО</a:t>
            </a: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В   греческой мифологии одна из 9 муз, покровительница любовной поэзии. Изображалась молодой женщиной с лирой в руках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684360" y="3213000"/>
            <a:ext cx="2214360" cy="30956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Эрато"/>
          <p:cNvPicPr/>
          <p:nvPr/>
        </p:nvPicPr>
        <p:blipFill>
          <a:blip r:embed="rId2"/>
          <a:stretch/>
        </p:blipFill>
        <p:spPr>
          <a:xfrm>
            <a:off x="4805280" y="333360"/>
            <a:ext cx="388800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4572000" y="333360"/>
            <a:ext cx="4032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     </a:t>
            </a: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УРАНИЯ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otype Corsiva"/>
              </a:rPr>
              <a:t>в греческой мифологии одна из девяти муз, покровительница астрономии.   Изображалась  молодой   девушкой  с  глобусом  и  циркулем   или  указательной  палочкой   в   руках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3889080" cy="292428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6443640" y="4005360"/>
            <a:ext cx="1800360" cy="20444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1692360" y="3575160"/>
            <a:ext cx="215892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84360" y="260280"/>
            <a:ext cx="3600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      </a:t>
            </a: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КЛИО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в греческой мифологии одна из 9 муз, покровительница истории. Изображалась с грифелем и папирусным свитком или со шкатулкой для свитк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28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900000" y="3141720"/>
            <a:ext cx="1800360" cy="352728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Клио"/>
          <p:cNvPicPr/>
          <p:nvPr/>
        </p:nvPicPr>
        <p:blipFill>
          <a:blip r:embed="rId2"/>
          <a:stretch/>
        </p:blipFill>
        <p:spPr>
          <a:xfrm>
            <a:off x="4788000" y="620640"/>
            <a:ext cx="33526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Monotype Corsiva"/>
              </a:rPr>
              <a:t>Мусейон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64072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     </a:t>
            </a: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В  центре  Афин  существовал  храм,  посвящённый  музам .  Там  была  собрана  крупнейшая библиотека.  Сейчас  музей  - хранилище потрясающих  шедевров  живописи,  скульптуры…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16286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Monotype Corsiva"/>
              </a:rPr>
              <a:t>     </a:t>
            </a: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Музей — это дом, или храм Муз.</a:t>
            </a:r>
            <a:r>
              <a:rPr b="1" i="1" lang="en-US" sz="4000" spc="-1" strike="noStrike">
                <a:solidFill>
                  <a:srgbClr val="eaeaea"/>
                </a:solidFill>
                <a:latin typeface="Monotype Corsiv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        </a:t>
            </a: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Знаменитые  музеи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Monotype Corsiva"/>
              </a:rPr>
              <a:t>      </a:t>
            </a: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ЭРМИТАЖ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164360" y="1557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-360" y="3789360"/>
            <a:ext cx="1800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Monotype Corsiva"/>
              </a:rPr>
              <a:t>         </a:t>
            </a: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Интерьер Эрмитажного театра. Петербург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179280" y="1413000"/>
            <a:ext cx="1936800" cy="19429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2987640" y="595008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otype Corsiv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164360" y="371628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Парадная лестница Эрмитажа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2340000" y="1916280"/>
            <a:ext cx="4681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0" y="7966080"/>
            <a:ext cx="403848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3816360" cy="3166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-970560" y="5013360"/>
            <a:ext cx="679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И. Х. Рейнгард. «Римский пейзаж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227480" cy="3240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292720" y="5084640"/>
            <a:ext cx="3502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Клод Моне. «Дама 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              </a:t>
            </a: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саду»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00360" y="4046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ЭРМИТАЖ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8532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1000"/>
          </a:bodyPr>
          <a:p>
            <a:pPr marL="10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Monotype Corsiva"/>
              </a:rPr>
              <a:t>                   </a:t>
            </a: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Русский музей.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106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Monotype Corsiva"/>
              </a:rPr>
              <a:t>                  </a:t>
            </a: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Санкт-Петербург.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106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1062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519280" cy="2180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132000" y="2565360"/>
            <a:ext cx="2592360" cy="2403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651640" y="5950080"/>
            <a:ext cx="3342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otype Corsiva"/>
              </a:rPr>
              <a:t>              </a:t>
            </a: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Валентин Серов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                       </a:t>
            </a: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«Сыновья художника.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6012000" y="3068640"/>
            <a:ext cx="252396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Monotype Corsiva"/>
              </a:rPr>
              <a:t>Третьяковская    галерея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4360" y="5084280"/>
            <a:ext cx="770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Главный вход в Третьяковскую галерею. Здание построено в древнерусском стиле по проекту   художника     В. М.Васнецова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040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Шедевры  Третьяковской  галере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23640" y="4581000"/>
            <a:ext cx="25923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И. Е. Репин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«Иван Грозный и сын его Иван».</a:t>
            </a: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4360" y="1484280"/>
            <a:ext cx="2652840" cy="29527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059280" y="1916280"/>
            <a:ext cx="2663640" cy="2881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419640" y="49417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И. И. Шишкин. «Корабельная роща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6012000" y="2708280"/>
            <a:ext cx="2952720" cy="273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 flipV="1" rot="10800000">
            <a:off x="6298920" y="5512320"/>
            <a:ext cx="2477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И. И. Шишкин. «Утро в сосновом лесу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23640" y="4292640"/>
            <a:ext cx="244764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Monotype Corsiva"/>
              </a:rPr>
              <a:t>И. К. Айвазовский. «Радуга».</a:t>
            </a: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2651400" cy="29512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39640" y="189000"/>
            <a:ext cx="820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Monotype Corsiva"/>
              </a:rPr>
              <a:t>      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Шедевры  Третьяковской  галереи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3030480" y="1628640"/>
            <a:ext cx="2649600" cy="3024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2987640" y="4724280"/>
            <a:ext cx="273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В. А. Серов. «Девочка с персиками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5862600" y="2205000"/>
            <a:ext cx="3002040" cy="31687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5940360" y="5589720"/>
            <a:ext cx="2597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И. Э. Грабарь. «Февральская лазурь»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1119240" y="404640"/>
            <a:ext cx="259884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ллиопа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 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0" y="549360"/>
            <a:ext cx="16286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втерпа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411280" y="1773360"/>
            <a:ext cx="1000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лио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867280" y="1916280"/>
            <a:ext cx="2324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ерпсихора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332000" y="3141720"/>
            <a:ext cx="1584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рато</a:t>
            </a:r>
            <a:endParaRPr b="0" lang="en-US" sz="1800" spc="1" strike="noStrike">
              <a:ln w="0">
                <a:noFill/>
              </a:ln>
              <a:blipFill rotWithShape="0">
                <a:blip r:embed="rId1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211640" y="3141720"/>
            <a:ext cx="25718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льпомена</a:t>
            </a:r>
            <a:endParaRPr b="0" lang="en-US" sz="1800" spc="1" strike="noStrike">
              <a:ln w="0">
                <a:noFill/>
              </a:ln>
              <a:blipFill rotWithShape="0">
                <a:blip r:embed="rId1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95640" y="4365720"/>
            <a:ext cx="1190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Талия</a:t>
            </a:r>
            <a:endParaRPr b="0" lang="en-US" sz="1800" spc="1" strike="noStrike">
              <a:ln w="0">
                <a:noFill/>
              </a:ln>
              <a:blipFill rotWithShape="0">
                <a:blip r:embed="rId1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012000" y="4292640"/>
            <a:ext cx="24858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лигимния</a:t>
            </a:r>
            <a:endParaRPr b="0" lang="en-US" sz="1800" spc="1" strike="noStrike">
              <a:ln w="0">
                <a:noFill/>
              </a:ln>
              <a:blipFill rotWithShape="0">
                <a:blip r:embed="rId1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067280" y="5661000"/>
            <a:ext cx="1542960" cy="60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рания</a:t>
            </a:r>
            <a:endParaRPr b="0" lang="en-US" sz="1800" spc="1" strike="noStrike">
              <a:ln w="0">
                <a:noFill/>
              </a:ln>
              <a:blipFill rotWithShape="0">
                <a:blip r:embed="rId2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5" name="" descr="Аполлон"/>
          <p:cNvPicPr/>
          <p:nvPr/>
        </p:nvPicPr>
        <p:blipFill>
          <a:blip r:embed="rId21"/>
          <a:stretch/>
        </p:blipFill>
        <p:spPr>
          <a:xfrm>
            <a:off x="7236000" y="260280"/>
            <a:ext cx="1223640" cy="1644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Талия"/>
          <p:cNvPicPr/>
          <p:nvPr/>
        </p:nvPicPr>
        <p:blipFill>
          <a:blip r:embed="rId22"/>
          <a:stretch/>
        </p:blipFill>
        <p:spPr>
          <a:xfrm>
            <a:off x="755640" y="4221000"/>
            <a:ext cx="1200240" cy="180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Клио"/>
          <p:cNvPicPr/>
          <p:nvPr/>
        </p:nvPicPr>
        <p:blipFill>
          <a:blip r:embed="rId23"/>
          <a:stretch/>
        </p:blipFill>
        <p:spPr>
          <a:xfrm>
            <a:off x="684360" y="1268280"/>
            <a:ext cx="1223640" cy="16574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Мельпомена"/>
          <p:cNvPicPr/>
          <p:nvPr/>
        </p:nvPicPr>
        <p:blipFill>
          <a:blip r:embed="rId24"/>
          <a:stretch/>
        </p:blipFill>
        <p:spPr>
          <a:xfrm>
            <a:off x="4067280" y="1268280"/>
            <a:ext cx="1224000" cy="17290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Полигимния"/>
          <p:cNvPicPr/>
          <p:nvPr/>
        </p:nvPicPr>
        <p:blipFill>
          <a:blip r:embed="rId25"/>
          <a:stretch/>
        </p:blipFill>
        <p:spPr>
          <a:xfrm>
            <a:off x="7348680" y="2637000"/>
            <a:ext cx="1184040" cy="165564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Каллиопа"/>
          <p:cNvPicPr/>
          <p:nvPr/>
        </p:nvPicPr>
        <p:blipFill>
          <a:blip r:embed="rId26"/>
          <a:stretch/>
        </p:blipFill>
        <p:spPr>
          <a:xfrm>
            <a:off x="4356000" y="3933720"/>
            <a:ext cx="1195560" cy="15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Шедевры  Третьяковской  галереи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5280" y="4508640"/>
            <a:ext cx="3979800" cy="50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И. И. Левитан. «Вечерний звон».</a:t>
            </a:r>
            <a:r>
              <a:rPr b="1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3889440" cy="3117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494160" cy="38894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V="1" rot="10782000">
            <a:off x="4640760" y="5726160"/>
            <a:ext cx="34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В. М. Васнецов «Алёнушка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916360" y="333360"/>
            <a:ext cx="2112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  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Лувр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47440" y="892080"/>
            <a:ext cx="42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Monotype Corsiva"/>
              </a:rPr>
              <a:t>Париж, Франция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395280" y="2062080"/>
            <a:ext cx="4321080" cy="33339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5029200" y="2060640"/>
            <a:ext cx="3259080" cy="3627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 flipV="1" rot="10797600">
            <a:off x="5219280" y="5804640"/>
            <a:ext cx="2718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Леонардо да Винчи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«Мона Лиза».</a:t>
            </a:r>
            <a:r>
              <a:rPr b="1" i="1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250560" y="7677000"/>
            <a:ext cx="3924360" cy="1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3476520" cy="44640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 flipV="1" rot="10800000">
            <a:off x="5148000" y="5579640"/>
            <a:ext cx="33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Эдгар Дега. «Танцовщицы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88000" y="1197000"/>
            <a:ext cx="3494160" cy="4392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250920" y="5734080"/>
            <a:ext cx="438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Monotype Corsiva"/>
              </a:rPr>
              <a:t>Венера (Афродита) Милосская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0360" y="189000"/>
            <a:ext cx="3959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onotype Corsiva"/>
              </a:rPr>
              <a:t>           </a:t>
            </a: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Лувр.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0" y="632448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Verdana"/>
              </a:rPr>
              <a:t>             </a:t>
            </a: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Рафаэль. Сикстинская мадонна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277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eaeaea"/>
                </a:solidFill>
                <a:latin typeface="Monotype Corsiva"/>
              </a:rPr>
              <a:t>                                       </a:t>
            </a:r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58640" y="1844640"/>
            <a:ext cx="3778560" cy="43210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378160" y="404640"/>
            <a:ext cx="5865840" cy="27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Картинная галерея.  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Monotype Corsiva"/>
              </a:rPr>
              <a:t>    </a:t>
            </a:r>
            <a:r>
              <a:rPr b="1" lang="en-US" sz="4000" spc="-1" strike="noStrike">
                <a:solidFill>
                  <a:srgbClr val="ffff00"/>
                </a:solidFill>
                <a:latin typeface="Monotype Corsiva"/>
              </a:rPr>
              <a:t>Дрезден. Германия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932360" y="1844640"/>
            <a:ext cx="3882960" cy="43210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4586400" y="6308640"/>
            <a:ext cx="40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Monotype Corsiva"/>
              </a:rPr>
              <a:t>Ян Вермер. Девушка с письмом.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-360" y="-360"/>
            <a:ext cx="889308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Monotype Corsiva"/>
              </a:rPr>
              <a:t>           …</a:t>
            </a:r>
            <a:r>
              <a:rPr b="1" lang="en-US" sz="3600" spc="-1" strike="noStrike">
                <a:solidFill>
                  <a:srgbClr val="eaeaea"/>
                </a:solidFill>
                <a:latin typeface="Monotype Corsiva"/>
              </a:rPr>
              <a:t>не  иссякли  на  земле  таланты,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Monotype Corsiva"/>
              </a:rPr>
              <a:t>             </a:t>
            </a:r>
            <a:r>
              <a:rPr b="1" lang="en-US" sz="3600" spc="-1" strike="noStrike">
                <a:solidFill>
                  <a:srgbClr val="eaeaea"/>
                </a:solidFill>
                <a:latin typeface="Monotype Corsiva"/>
              </a:rPr>
              <a:t>Их  творчество  сумело  воссиять!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179280" y="3284640"/>
            <a:ext cx="5889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Monotype Corsiva"/>
              </a:rPr>
              <a:t>Портрет А. С. Пушкина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Monotype Corsiva"/>
              </a:rPr>
              <a:t>работы О. А. Кипренского. 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Monotype Corsiva"/>
              </a:rPr>
              <a:t>Третьяковская галерея.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356000" y="4437000"/>
            <a:ext cx="529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Monotype Corsiva"/>
              </a:rPr>
              <a:t>      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Monotype Corsiva"/>
              </a:rPr>
              <a:t>             </a:t>
            </a:r>
            <a:r>
              <a:rPr b="1" lang="en-US" sz="1600" spc="-1" strike="noStrike">
                <a:solidFill>
                  <a:srgbClr val="eaeaea"/>
                </a:solidFill>
                <a:latin typeface="Monotype Corsiva"/>
              </a:rPr>
              <a:t>Л.Н. Толстой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4500720" y="2924280"/>
            <a:ext cx="1771560" cy="1971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050920" y="4149720"/>
            <a:ext cx="2311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Monotype Corsiva"/>
              </a:rPr>
              <a:t>Вольфганг Амадей Моцарт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2411280" y="2133720"/>
            <a:ext cx="1771920" cy="197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5816520" y="5373720"/>
            <a:ext cx="332748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Monotype Corsiva"/>
              </a:rPr>
              <a:t>«</a:t>
            </a:r>
            <a:r>
              <a:rPr b="1" lang="en-US" sz="1600" spc="-1" strike="noStrike">
                <a:solidFill>
                  <a:srgbClr val="eaeaea"/>
                </a:solidFill>
                <a:latin typeface="Monotype Corsiva"/>
              </a:rPr>
              <a:t>Портрет художника В. А. Серова»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Monotype Corsiva"/>
              </a:rPr>
              <a:t>И. Е. Репин. 1901 год. Третьяковская</a:t>
            </a: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 </a:t>
            </a:r>
            <a:r>
              <a:rPr b="1" lang="en-US" sz="1600" spc="-1" strike="noStrike">
                <a:solidFill>
                  <a:srgbClr val="eaeaea"/>
                </a:solidFill>
                <a:latin typeface="Monotype Corsiva"/>
              </a:rPr>
              <a:t>галерея.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6516720" y="3429000"/>
            <a:ext cx="17715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0" y="691920"/>
            <a:ext cx="914400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Monotype Corsiva"/>
              </a:rPr>
              <a:t>Древние  греки,  провожая  или  благословляя,  говорили:  «Иди,  да  пребудут  с  тобой  музы!»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396720" y="5589720"/>
            <a:ext cx="17354520" cy="33336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-973080" y="260280"/>
            <a:ext cx="1735452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9640" y="404640"/>
            <a:ext cx="813600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зы - дочери 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евса  и  Мнемозины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68360" y="2349360"/>
            <a:ext cx="4680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уза - покровительниц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611280" y="2852640"/>
            <a:ext cx="46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пределённого  жанра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3429000"/>
            <a:ext cx="4751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скусства  или  науки.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297400" y="2421000"/>
            <a:ext cx="3378240" cy="34560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835280" y="4076640"/>
            <a:ext cx="22636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Monotype Corsiva"/>
              </a:rPr>
              <a:t>Музы-спутницы  Аполлон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9" name="" descr="Парнас"/>
          <p:cNvPicPr/>
          <p:nvPr/>
        </p:nvPicPr>
        <p:blipFill>
          <a:blip r:embed="rId1"/>
          <a:stretch/>
        </p:blipFill>
        <p:spPr>
          <a:xfrm>
            <a:off x="468360" y="1484280"/>
            <a:ext cx="8172360" cy="51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-1189440" y="3716280"/>
            <a:ext cx="453708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lvl="3" marL="1055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Monotype Corsiva"/>
              </a:rPr>
              <a:t>    </a:t>
            </a:r>
            <a:r>
              <a:rPr b="1" i="1" lang="en-US" sz="2800" spc="-1" strike="noStrike">
                <a:solidFill>
                  <a:srgbClr val="eaeaea"/>
                </a:solidFill>
                <a:latin typeface="Monotype Corsiva"/>
              </a:rPr>
              <a:t>Статуя Аполлона из Бельведерского зала в Ватиканских музеях. Скульптор Леохар. 4 в. до н. э.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3" marL="1055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3" marL="1055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Monotype Corsiva"/>
              </a:rPr>
              <a:t>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3" marL="105588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Monotype Corsiva"/>
              </a:rPr>
              <a:t>   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400560" y="1341360"/>
            <a:ext cx="4313160" cy="46515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-298080" y="333360"/>
            <a:ext cx="8187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Monotype Corsiva"/>
              </a:rPr>
              <a:t>Бог солнечного света и искусства    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eaeaea"/>
                </a:solidFill>
                <a:latin typeface="Monotype Corsiva"/>
              </a:rPr>
              <a:t>                         </a:t>
            </a:r>
            <a:r>
              <a:rPr b="1" i="1" lang="en-US" sz="2800" spc="-1" strike="noStrike">
                <a:solidFill>
                  <a:srgbClr val="eaeaea"/>
                </a:solidFill>
                <a:latin typeface="Monotype Corsiva"/>
              </a:rPr>
              <a:t>Аполлон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700000" y="8325000"/>
            <a:ext cx="2592360" cy="7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4480" bIns="244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7561080" cy="47674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900000" y="333360"/>
            <a:ext cx="763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Monotype Corsiva"/>
              </a:rPr>
              <a:t>Аполлон в окружении муз и поэтов.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19280" y="5805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Monotype Corsiva"/>
              </a:rPr>
              <a:t>   </a:t>
            </a:r>
            <a:r>
              <a:rPr b="1" lang="en-US" sz="3600" spc="-1" strike="noStrike">
                <a:solidFill>
                  <a:srgbClr val="eaeaea"/>
                </a:solidFill>
                <a:latin typeface="Monotype Corsiva"/>
              </a:rPr>
              <a:t>Рафаэль Санти.  «Парнас».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816360" cy="4384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684360" y="86400"/>
            <a:ext cx="777528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aeaea"/>
                </a:solidFill>
                <a:latin typeface="Verdana"/>
              </a:rPr>
              <a:t>Музы всегда были связаны с горами и источниками. Они обитали на горе Парнас, у подножия которой бил Кастальский ключ, и на горе Геликон около источника Иппокрены. Испившего волшебных вод Кастальского ключа музы наделяли вдохновением. Считалось, что они покровительствуют всем тем, кто стремится к прекрасному, но тех, кто осмеливается состязаться с ними, сурово наказывают. 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978440" y="2205000"/>
            <a:ext cx="34812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4398840" cy="4896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859280" y="765000"/>
            <a:ext cx="3673440" cy="76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8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Monotype Corsiva"/>
              </a:rPr>
              <a:t>ПЕГАС</a:t>
            </a:r>
            <a:r>
              <a:rPr b="0" lang="en-US" sz="2000" spc="-1" strike="noStrike">
                <a:solidFill>
                  <a:srgbClr val="eaeaea"/>
                </a:solidFill>
                <a:latin typeface="Monotype Corsiva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Monotype Corsiva"/>
              </a:rPr>
              <a:t>-  в греческой мифологии крылатый конь, родившийся из туловища убитой Персеем горгоны Медузы. От удара копытом Пегаса на горе Геликон возник источник Гиппокрена, из которого черпали вдохновение поэты. Образ Пегаса — символ поэтического вдохновения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7:44:30Z</dcterms:created>
  <dc:creator>WinXP</dc:creator>
  <dc:description/>
  <dc:language>en-US</dc:language>
  <cp:lastModifiedBy>VIENNA XP</cp:lastModifiedBy>
  <dcterms:modified xsi:type="dcterms:W3CDTF">2008-09-28T10:13:23Z</dcterms:modified>
  <cp:revision>16</cp:revision>
  <dc:subject/>
  <dc:title>Слайд 1</dc:title>
</cp:coreProperties>
</file>