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23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7.jpeg" ContentType="image/jpeg"/>
  <Override PartName="/ppt/media/image16.png" ContentType="image/png"/>
  <Override PartName="/ppt/media/image22.jpeg" ContentType="image/jpeg"/>
  <Override PartName="/ppt/media/image1.jpeg" ContentType="image/jpeg"/>
  <Override PartName="/ppt/media/image2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D15A-16BE-4B7C-8994-B4F9204B5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18BE-393B-418C-8691-1F466A8E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F5C1-2D92-422A-AC3C-D5C6B74A7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B6BE-8D52-4A0B-9D88-D6076B758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D651-028D-48DA-B550-10C7E6A21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EED7-BDC5-4ABD-8396-BFC2B7F4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62B24-F0FB-4DA7-88DC-12B2568F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5DC6-8202-48EA-9D2B-3E19740E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4C79-ED12-46EA-B185-361DA47B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2AFF-2C27-4A06-BF04-A383C2E4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BC145-28A5-4FB1-9042-B6F31752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66FA-6443-4582-B11C-8784A741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83C5-25DD-41E2-BE02-D6E9BCB6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BC0A-5240-46FD-9D87-1F4E29CE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8A9EF-5D14-4EEE-95BE-B431A7E7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6CCC-5F8C-43D5-965B-6B8C08D7C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6D5B-E1B2-4625-A9FC-B42577718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C7DF-F102-424D-A5C2-0D080228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553E-A709-44C2-B631-F5B4DAA8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3214-268C-4989-AC23-3242069B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AAB7-2B78-4099-8BCB-6F9F3D65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CECF-4A37-4A20-A5A0-45615B3B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CCDE-70A9-476C-B29F-FFC5BED3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6BA7-E511-4E15-9B62-53F42B71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A121-629F-4C68-8E21-CCE3CC52E8D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F89D-DD23-4AD7-A5CF-82D0AFFF3DEE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Прямоугольник 3" descr=""/>
          <p:cNvPicPr/>
          <p:nvPr/>
        </p:nvPicPr>
        <p:blipFill>
          <a:blip r:embed="rId1"/>
          <a:stretch/>
        </p:blipFill>
        <p:spPr>
          <a:xfrm>
            <a:off x="-487440" y="244440"/>
            <a:ext cx="10107720" cy="713736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" descr="http://polemika.com.ua/images/2009-34/45771/full_2_vspomnitvse31avgustavistoriiuk_4.jpeg"/>
          <p:cNvPicPr/>
          <p:nvPr/>
        </p:nvPicPr>
        <p:blipFill>
          <a:blip r:embed="rId2"/>
          <a:stretch/>
        </p:blipFill>
        <p:spPr>
          <a:xfrm>
            <a:off x="2357280" y="1571760"/>
            <a:ext cx="414360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357120" y="1143000"/>
            <a:ext cx="8429760" cy="5622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Картинка 66 из 107813"/>
          <p:cNvPicPr/>
          <p:nvPr/>
        </p:nvPicPr>
        <p:blipFill>
          <a:blip r:embed="rId3"/>
          <a:stretch/>
        </p:blipFill>
        <p:spPr>
          <a:xfrm>
            <a:off x="2786040" y="3429000"/>
            <a:ext cx="332748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6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285840"/>
            <a:ext cx="8229600" cy="60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олодость! Возьми с собой в дорог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амую заветную мечту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За людей душевную тревогу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ердца жар и мыслей красоту,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удрость чувств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тойкость в бурях жизни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ужество во всем и до конц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ерность другу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еданность Отчизне,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мя гражданина и борц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8" descr="Картинка 3 из 87052"/>
          <p:cNvPicPr/>
          <p:nvPr/>
        </p:nvPicPr>
        <p:blipFill>
          <a:blip r:embed="rId1"/>
          <a:srcRect l="5789" t="7533" r="5789" b="13014"/>
          <a:stretch/>
        </p:blipFill>
        <p:spPr>
          <a:xfrm>
            <a:off x="4857840" y="3857760"/>
            <a:ext cx="4091040" cy="27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42876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ffffff"/>
                </a:solidFill>
                <a:latin typeface="Times New Roman"/>
              </a:rPr>
              <a:t>Страны с таким названьем нет на карте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ffffff"/>
                </a:solidFill>
                <a:latin typeface="Times New Roman"/>
              </a:rPr>
              <a:t>Но вы её себе сейчас представьт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ffffff"/>
                </a:solidFill>
                <a:latin typeface="Times New Roman"/>
              </a:rPr>
              <a:t>Она бывает часто рядом с нами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ff0000"/>
                </a:solidFill>
                <a:latin typeface="Times New Roman"/>
              </a:rPr>
              <a:t>Коррупция</a:t>
            </a:r>
            <a:r>
              <a:rPr b="1" lang="be-BY" sz="2800" spc="-1" strike="noStrike">
                <a:solidFill>
                  <a:srgbClr val="ffffff"/>
                </a:solidFill>
                <a:latin typeface="Times New Roman"/>
              </a:rPr>
              <a:t> – страну эту назвал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ffffff"/>
                </a:solidFill>
                <a:latin typeface="Times New Roman"/>
              </a:rPr>
              <a:t>Здесь правде и законам места нет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ffffff"/>
                </a:solidFill>
                <a:latin typeface="Times New Roman"/>
              </a:rPr>
              <a:t>Здесь правят только деньги много ле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ffffff"/>
                </a:solidFill>
                <a:latin typeface="Times New Roman"/>
              </a:rPr>
              <a:t>Преступности и клеветы полн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ffffff"/>
                </a:solidFill>
                <a:latin typeface="Times New Roman"/>
              </a:rPr>
              <a:t>Жестокая и страшная стран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ffffff"/>
                </a:solidFill>
                <a:latin typeface="Times New Roman"/>
              </a:rPr>
              <a:t>В неё ведёт тернистый долгий путь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ffffff"/>
                </a:solidFill>
                <a:latin typeface="Times New Roman"/>
              </a:rPr>
              <a:t>Идти туда – назад не повернуть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ffffff"/>
                </a:solidFill>
                <a:latin typeface="Times New Roman"/>
              </a:rPr>
              <a:t>Но будущего нет у той страны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ffffff"/>
                </a:solidFill>
                <a:latin typeface="Times New Roman"/>
              </a:rPr>
              <a:t>Против </a:t>
            </a:r>
            <a:r>
              <a:rPr b="1" lang="be-BY" sz="2800" spc="-1" strike="noStrike">
                <a:solidFill>
                  <a:srgbClr val="ff0000"/>
                </a:solidFill>
                <a:latin typeface="Times New Roman"/>
              </a:rPr>
              <a:t>КОРРУПЦИИ </a:t>
            </a:r>
            <a:r>
              <a:rPr b="1" lang="be-BY" sz="2800" spc="-1" strike="noStrike">
                <a:solidFill>
                  <a:srgbClr val="ffffff"/>
                </a:solidFill>
                <a:latin typeface="Times New Roman"/>
              </a:rPr>
              <a:t>все вместе встанем мы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693280" cy="1158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1523880" y="16686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2000160" y="1239840"/>
            <a:ext cx="51436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428760" y="1216080"/>
            <a:ext cx="7858080" cy="5573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http://www.sedmitza.ru/data/075/698/1234/6950.jpg"/>
          <p:cNvPicPr/>
          <p:nvPr/>
        </p:nvPicPr>
        <p:blipFill>
          <a:blip r:embed="rId3"/>
          <a:stretch/>
        </p:blipFill>
        <p:spPr>
          <a:xfrm>
            <a:off x="214200" y="1143000"/>
            <a:ext cx="2438640" cy="3357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http://www.spsl.nsc.ru/history/descr/PICTURE/spis80r1.jpg"/>
          <p:cNvPicPr/>
          <p:nvPr/>
        </p:nvPicPr>
        <p:blipFill>
          <a:blip r:embed="rId4"/>
          <a:stretch/>
        </p:blipFill>
        <p:spPr>
          <a:xfrm>
            <a:off x="3286080" y="1857240"/>
            <a:ext cx="2786040" cy="3411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http://dic.academic.ru/pictures/wiki/files/86/Vernet_nikolas_1.jpg"/>
          <p:cNvPicPr/>
          <p:nvPr/>
        </p:nvPicPr>
        <p:blipFill>
          <a:blip r:embed="rId5"/>
          <a:stretch/>
        </p:blipFill>
        <p:spPr>
          <a:xfrm>
            <a:off x="6286680" y="3429000"/>
            <a:ext cx="2660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919080" y="1214280"/>
            <a:ext cx="7367760" cy="5526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http://www.stihi.ru/pics/2010/04/07/6299.gif"/>
          <p:cNvPicPr/>
          <p:nvPr/>
        </p:nvPicPr>
        <p:blipFill>
          <a:blip r:embed="rId3"/>
          <a:stretch/>
        </p:blipFill>
        <p:spPr>
          <a:xfrm>
            <a:off x="2786040" y="4086360"/>
            <a:ext cx="379728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Documents and Settings\ф\Мои документы\схема 3.jpg"/>
          <p:cNvPicPr/>
          <p:nvPr/>
        </p:nvPicPr>
        <p:blipFill>
          <a:blip r:embed="rId2"/>
          <a:stretch/>
        </p:blipFill>
        <p:spPr>
          <a:xfrm>
            <a:off x="1000080" y="1424160"/>
            <a:ext cx="7286760" cy="52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353880" y="96840"/>
            <a:ext cx="8656920" cy="1446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Documents and Settings\ф\Мои документы\mur.gif"/>
          <p:cNvPicPr/>
          <p:nvPr/>
        </p:nvPicPr>
        <p:blipFill>
          <a:blip r:embed="rId2"/>
          <a:stretch/>
        </p:blipFill>
        <p:spPr>
          <a:xfrm>
            <a:off x="60480" y="1428840"/>
            <a:ext cx="89294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России коррупция – словно ям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 ней тщетно, как с бездорожьем, борются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 чем настойчивей под неё копают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ем только больше она становится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 вот в Китае действуют просто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За взятки - к стенке, без колебаний!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 потом по почте получат родственник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чёт за две пули – на восемь юаней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4" descr="C:\Documents and Settings\ф\Мои документы\Наташа\кор\32887.jpg"/>
          <p:cNvPicPr/>
          <p:nvPr/>
        </p:nvPicPr>
        <p:blipFill>
          <a:blip r:embed="rId1"/>
          <a:stretch/>
        </p:blipFill>
        <p:spPr>
          <a:xfrm>
            <a:off x="5486400" y="3846600"/>
            <a:ext cx="36939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2-12T14:45:57Z</dcterms:modified>
  <cp:revision>8</cp:revision>
  <dc:subject/>
  <dc:title>Слайд 1</dc:title>
</cp:coreProperties>
</file>