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8.gif" ContentType="image/gif"/>
  <Override PartName="/ppt/media/image12.gif" ContentType="image/gif"/>
  <Override PartName="/ppt/media/image3.jpeg" ContentType="image/jpeg"/>
  <Override PartName="/ppt/media/image17.jpeg" ContentType="image/jpeg"/>
  <Override PartName="/ppt/media/image9.png" ContentType="image/png"/>
  <Override PartName="/ppt/media/image18.png" ContentType="image/png"/>
  <Override PartName="/ppt/media/image15.gif" ContentType="image/gif"/>
  <Override PartName="/ppt/media/image2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11.jpeg" ContentType="image/jpeg"/>
  <Override PartName="/ppt/media/image5.gif" ContentType="image/gif"/>
  <Override PartName="/ppt/media/image14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590-ADB2-4031-ADB5-A34FF8E5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369-F943-4D79-89B7-91933335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BBE-FB0F-465B-949E-F11AE199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C59-D3CB-48B0-B032-AA42D156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0A116-FEFB-451E-A03D-8E5B6A5F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C2A5A-D59F-4D0D-AEC8-BF194A9C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91D68-1244-4EBF-818C-DF9F0FD4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89980-5F5F-42E9-814D-E13BBE61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21CCD-3A11-4C24-A7F3-5B74872C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9D47A-1721-435C-A6C0-2F16F5AA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E0D8A-C7A1-4721-AD4C-F33EC8B8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A1B-D6EB-481F-9F8A-0D2D45F1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24014-173D-43B8-8FAB-BCBD98AB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D059E-6881-459F-B26B-3F607E7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E2469-739C-4F99-8D0A-29E37D22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4C1B6-1997-461E-866B-3E91F2DB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B7223-75B0-4301-9676-373633AB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4F3-A447-4F18-8C6A-DE5E831C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4E5-FFB7-4B50-AA3B-747D01B6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DC7-5E2C-4CFA-B27E-980F00A7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970-B6AD-4E99-B66B-21B13133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AF8-58A1-4527-95C8-45001AE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D41-09F9-4A8C-8EE8-1C86075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E4B-A2E3-4F5A-8814-6DBA598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F884-8604-492B-B5DA-94AF7B4FB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7C48-E6C7-4C56-AB52-33C2FDB570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23502_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790920" y="5000760"/>
            <a:ext cx="77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ДАВАЙТЕ ЖИТЬ ДРУЖНО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476360" y="4005360"/>
            <a:ext cx="1728720" cy="91440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5940360" y="692280"/>
            <a:ext cx="1800360" cy="1995480"/>
          </a:xfrm>
          <a:prstGeom prst="irregularSeal1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Tahoma"/>
              </a:rPr>
              <a:t>сво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211640" y="5300640"/>
            <a:ext cx="1800360" cy="1225440"/>
          </a:xfrm>
          <a:prstGeom prst="irregularSeal1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Tahoma"/>
              </a:rPr>
              <a:t>теб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332000" y="5084640"/>
            <a:ext cx="1655640" cy="1563840"/>
          </a:xfrm>
          <a:prstGeom prst="irregularSeal1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Tahoma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0" y="189000"/>
            <a:ext cx="3492360" cy="208764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Tahoma"/>
              </a:rPr>
              <a:t>подели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356000" y="0"/>
            <a:ext cx="1728720" cy="158436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Tahoma"/>
              </a:rPr>
              <a:t>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211640" y="3213000"/>
            <a:ext cx="3097080" cy="17272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Tahoma"/>
              </a:rPr>
              <a:t>улыбко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6732720" y="4797360"/>
            <a:ext cx="1490400" cy="17272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Tahoma"/>
              </a:rPr>
              <a:t>ра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250920" y="2276640"/>
            <a:ext cx="1490400" cy="172692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Tahoma"/>
              </a:rPr>
              <a:t>ещ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1835280" y="1557360"/>
            <a:ext cx="3166920" cy="194292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Tahoma"/>
              </a:rPr>
              <a:t>вернет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6948360" y="2492280"/>
            <a:ext cx="1490760" cy="17272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Tahoma"/>
              </a:rPr>
              <a:t>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Детские песни - От улыбки  (audiopoisk.com).mp3" descr=""/>
          <p:cNvPicPr/>
          <p:nvPr/>
        </p:nvPicPr>
        <p:blipFill>
          <a:blip r:embed="rId1"/>
          <a:stretch/>
        </p:blipFill>
        <p:spPr>
          <a:xfrm>
            <a:off x="3564000" y="554508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3936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f049"/>
          <p:cNvPicPr/>
          <p:nvPr/>
        </p:nvPicPr>
        <p:blipFill>
          <a:blip r:embed="rId2"/>
          <a:stretch/>
        </p:blipFill>
        <p:spPr>
          <a:xfrm rot="1908000">
            <a:off x="3780000" y="4436640"/>
            <a:ext cx="3960720" cy="1852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м"/>
          <p:cNvPicPr/>
          <p:nvPr/>
        </p:nvPicPr>
        <p:blipFill>
          <a:blip r:embed="rId3"/>
          <a:stretch/>
        </p:blipFill>
        <p:spPr>
          <a:xfrm>
            <a:off x="250920" y="0"/>
            <a:ext cx="889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620640"/>
          <a:ext cx="8229600" cy="597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ложительные качест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трицательные качест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брота, честность, ум, смелость, сила,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рудолюбие, чувство юмора, щедрость, аккуратность, преданность, целеустремленность, мужество, умение держать слово, согласие, умение слушать и уступать другу, доверие, уважение,  терпимость, обязательность, умение признавать свои ошибки, терпение, несёт ответственность за друга, волнение, переживание, радость за друга, умение давать полезные советы, умение оказывать помощь, поддержка в хорошем де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лоба, лень, хвастовство, жадность, зависть, трусость, неряшливость, подлость, оскорбления, насмешки над своим товарищем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ддержка в озорстве и хулиганств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карандаш"/>
          <p:cNvPicPr/>
          <p:nvPr/>
        </p:nvPicPr>
        <p:blipFill>
          <a:blip r:embed="rId2"/>
          <a:stretch/>
        </p:blipFill>
        <p:spPr>
          <a:xfrm>
            <a:off x="5364000" y="2421000"/>
            <a:ext cx="32403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ма"/>
          <p:cNvPicPr/>
          <p:nvPr/>
        </p:nvPicPr>
        <p:blipFill>
          <a:blip r:embed="rId3"/>
          <a:stretch/>
        </p:blipFill>
        <p:spPr>
          <a:xfrm>
            <a:off x="826920" y="4724280"/>
            <a:ext cx="75819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др"/>
          <p:cNvPicPr/>
          <p:nvPr/>
        </p:nvPicPr>
        <p:blipFill>
          <a:blip r:embed="rId2"/>
          <a:stretch/>
        </p:blipFill>
        <p:spPr>
          <a:xfrm>
            <a:off x="0" y="404640"/>
            <a:ext cx="8906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Oval 4"/>
          <p:cNvSpPr/>
          <p:nvPr/>
        </p:nvSpPr>
        <p:spPr>
          <a:xfrm>
            <a:off x="642960" y="2000160"/>
            <a:ext cx="367344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Остров Домисол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Oval 7"/>
          <p:cNvSpPr/>
          <p:nvPr/>
        </p:nvSpPr>
        <p:spPr>
          <a:xfrm>
            <a:off x="2000160" y="3929040"/>
            <a:ext cx="3456000" cy="790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стров Знай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Oval 8"/>
          <p:cNvSpPr/>
          <p:nvPr/>
        </p:nvSpPr>
        <p:spPr>
          <a:xfrm>
            <a:off x="5429160" y="4005360"/>
            <a:ext cx="3714840" cy="1209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Остров Масте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Oval 9"/>
          <p:cNvSpPr/>
          <p:nvPr/>
        </p:nvSpPr>
        <p:spPr>
          <a:xfrm>
            <a:off x="5072040" y="0"/>
            <a:ext cx="3532320" cy="2016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5. Остров Друж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539640" y="404640"/>
            <a:ext cx="3240360" cy="64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Остров Меч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16"/>
          <p:cNvSpPr/>
          <p:nvPr/>
        </p:nvSpPr>
        <p:spPr>
          <a:xfrm flipH="1" flipV="1">
            <a:off x="3780000" y="3284280"/>
            <a:ext cx="792000" cy="649080"/>
          </a:xfrm>
          <a:prstGeom prst="line">
            <a:avLst/>
          </a:prstGeom>
          <a:ln w="101520">
            <a:solidFill>
              <a:srgbClr val="fa1d0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17"/>
          <p:cNvSpPr/>
          <p:nvPr/>
        </p:nvSpPr>
        <p:spPr>
          <a:xfrm flipV="1">
            <a:off x="1835280" y="1052280"/>
            <a:ext cx="215640" cy="936360"/>
          </a:xfrm>
          <a:prstGeom prst="line">
            <a:avLst/>
          </a:prstGeom>
          <a:ln w="101520">
            <a:solidFill>
              <a:srgbClr val="fa1d0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2857680" y="1143000"/>
            <a:ext cx="3643200" cy="2786040"/>
          </a:xfrm>
          <a:prstGeom prst="line">
            <a:avLst/>
          </a:prstGeom>
          <a:ln w="101520">
            <a:solidFill>
              <a:srgbClr val="fa1d0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7929720" y="1785960"/>
            <a:ext cx="214200" cy="2000160"/>
          </a:xfrm>
          <a:prstGeom prst="line">
            <a:avLst/>
          </a:prstGeom>
          <a:ln w="101520">
            <a:solidFill>
              <a:srgbClr val="fa1d0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ученик1"/>
          <p:cNvPicPr/>
          <p:nvPr/>
        </p:nvPicPr>
        <p:blipFill>
          <a:blip r:embed="rId2"/>
          <a:stretch/>
        </p:blipFill>
        <p:spPr>
          <a:xfrm>
            <a:off x="3635280" y="1844640"/>
            <a:ext cx="1944720" cy="27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зн"/>
          <p:cNvPicPr/>
          <p:nvPr/>
        </p:nvPicPr>
        <p:blipFill>
          <a:blip r:embed="rId3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f342"/>
          <p:cNvPicPr/>
          <p:nvPr/>
        </p:nvPicPr>
        <p:blipFill>
          <a:blip r:embed="rId2"/>
          <a:stretch/>
        </p:blipFill>
        <p:spPr>
          <a:xfrm>
            <a:off x="3132000" y="404640"/>
            <a:ext cx="2027520" cy="223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f098"/>
          <p:cNvPicPr/>
          <p:nvPr/>
        </p:nvPicPr>
        <p:blipFill>
          <a:blip r:embed="rId3"/>
          <a:stretch/>
        </p:blipFill>
        <p:spPr>
          <a:xfrm>
            <a:off x="3780000" y="2781360"/>
            <a:ext cx="1368360" cy="151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до"/>
          <p:cNvPicPr/>
          <p:nvPr/>
        </p:nvPicPr>
        <p:blipFill>
          <a:blip r:embed="rId4"/>
          <a:stretch/>
        </p:blipFill>
        <p:spPr>
          <a:xfrm>
            <a:off x="324000" y="4365720"/>
            <a:ext cx="84582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211640" y="2637000"/>
            <a:ext cx="1490760" cy="158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с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211640" y="4941720"/>
            <a:ext cx="192420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руго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4356000" y="4762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539640" y="476280"/>
            <a:ext cx="177804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ше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826920" y="306864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7164360" y="2492280"/>
            <a:ext cx="163512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у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Детский хор - Если с другом вышел в путь  (audiopoisk.com).mp3" descr=""/>
          <p:cNvPicPr/>
          <p:nvPr/>
        </p:nvPicPr>
        <p:blipFill>
          <a:blip r:embed="rId1"/>
          <a:stretch/>
        </p:blipFill>
        <p:spPr>
          <a:xfrm>
            <a:off x="1332000" y="518652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0252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5580000" y="3789360"/>
            <a:ext cx="2448000" cy="208764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друж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826920" y="3789360"/>
            <a:ext cx="2664000" cy="24480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креп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26920" y="404640"/>
            <a:ext cx="3745080" cy="2735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ломает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5508720" y="404640"/>
            <a:ext cx="2016000" cy="9144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ДРУЖБА КРЕПКАЯ НЕ СЛОМАЕТСЯ  (audiopoisk.com).mp3" descr=""/>
          <p:cNvPicPr/>
          <p:nvPr/>
        </p:nvPicPr>
        <p:blipFill>
          <a:blip r:embed="rId1"/>
          <a:stretch/>
        </p:blipFill>
        <p:spPr>
          <a:xfrm>
            <a:off x="4356000" y="52578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4491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3492360" y="2492280"/>
            <a:ext cx="1635120" cy="2087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Tahoma"/>
              </a:rPr>
              <a:t>тр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611280" y="4653000"/>
            <a:ext cx="1871640" cy="18003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Tahoma"/>
              </a:rPr>
              <a:t>весел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900000" y="549360"/>
            <a:ext cx="1778040" cy="13683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Times New Roman"/>
              </a:rPr>
              <a:t>дру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5940360" y="333360"/>
            <a:ext cx="2449440" cy="194472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Tahoma"/>
              </a:rPr>
              <a:t>танкис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6804000" y="3573360"/>
            <a:ext cx="1635120" cy="20876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Tahoma"/>
              </a:rPr>
              <a:t>тр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Три танкиста  - три веселых друга  (audiopoisk.com).mp3" descr=""/>
          <p:cNvPicPr/>
          <p:nvPr/>
        </p:nvPicPr>
        <p:blipFill>
          <a:blip r:embed="rId1"/>
          <a:stretch/>
        </p:blipFill>
        <p:spPr>
          <a:xfrm>
            <a:off x="4859280" y="561816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21754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771640" y="1628640"/>
            <a:ext cx="136872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00720" y="4437000"/>
            <a:ext cx="1800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5867280" y="2276640"/>
            <a:ext cx="208944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ве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900000" y="4149720"/>
            <a:ext cx="194472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учш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435640" y="5734080"/>
            <a:ext cx="27352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роди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877080" y="3645000"/>
            <a:ext cx="1942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ет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292720" y="981000"/>
            <a:ext cx="30243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иче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042920" y="5661000"/>
            <a:ext cx="1656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ел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284720" y="3213000"/>
            <a:ext cx="129708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68360" y="2708280"/>
            <a:ext cx="266364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рузья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539640" y="692280"/>
            <a:ext cx="180036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вет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Бременские музыканты - Ничего на свете лучше нету  (audiopoisk.com).mp3" descr=""/>
          <p:cNvPicPr/>
          <p:nvPr/>
        </p:nvPicPr>
        <p:blipFill>
          <a:blip r:embed="rId1"/>
          <a:stretch/>
        </p:blipFill>
        <p:spPr>
          <a:xfrm>
            <a:off x="3635280" y="5805360"/>
            <a:ext cx="6764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27856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826920" y="3789360"/>
            <a:ext cx="2016360" cy="165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вмес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2268360" y="692280"/>
            <a:ext cx="4321440" cy="1295280"/>
          </a:xfrm>
          <a:prstGeom prst="ellipse">
            <a:avLst/>
          </a:prstGeom>
          <a:solidFill>
            <a:srgbClr val="fa1d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остор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4211640" y="2708280"/>
            <a:ext cx="2158920" cy="1368360"/>
          </a:xfrm>
          <a:prstGeom prst="ellipse">
            <a:avLst/>
          </a:prstGeom>
          <a:solidFill>
            <a:srgbClr val="fa1d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весел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4360" y="1844640"/>
            <a:ext cx="1584000" cy="1008000"/>
          </a:xfrm>
          <a:prstGeom prst="ellipse">
            <a:avLst/>
          </a:prstGeom>
          <a:solidFill>
            <a:srgbClr val="fa1d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6588000" y="4653000"/>
            <a:ext cx="1995480" cy="1582560"/>
          </a:xfrm>
          <a:prstGeom prst="ellipse">
            <a:avLst/>
          </a:prstGeom>
          <a:solidFill>
            <a:srgbClr val="fa1d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шаг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Детские песни - Вместе весело шагать  (audiopoisk.com).mp3" descr=""/>
          <p:cNvPicPr/>
          <p:nvPr/>
        </p:nvPicPr>
        <p:blipFill>
          <a:blip r:embed="rId1"/>
          <a:stretch/>
        </p:blipFill>
        <p:spPr>
          <a:xfrm>
            <a:off x="4140360" y="518652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20071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5:59:19Z</dcterms:created>
  <dc:creator>Your User Name</dc:creator>
  <dc:description/>
  <dc:language>en-US</dc:language>
  <cp:lastModifiedBy>школа</cp:lastModifiedBy>
  <dcterms:modified xsi:type="dcterms:W3CDTF">2013-03-01T07:45:03Z</dcterms:modified>
  <cp:revision>2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