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8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CF20-EC27-4FCE-9C01-7E4FB1FDB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39AE-F456-4EA4-8938-EE2AD0DCB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6ECC-3D87-4805-A5A7-B7B778D47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1127-2638-4ECF-B602-27DC6F7D0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84EE2-B570-4817-8509-E9FA6A264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91E66-AB01-4543-8C1E-2FEE1C062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C866B-82D3-4B37-9E8B-31291356F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ABDAC-5386-4E73-B37B-C873D8452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1DCA1-0E5C-486C-AE6C-837F2268C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C5F6A-7B95-45BF-99A6-5701A2DB1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517C2-FADE-45DD-A743-7F5E2A7D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37AE-58D8-4B31-B36A-431078FF2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3E84B-B6A2-49AC-9E8A-2DB3E496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9456F-C318-4D64-9E00-32D33950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956E3-DC8E-446D-B46C-19FD2FA90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1AFFB-988B-42C8-870F-D0E7A4F95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93BB6-2408-44C6-9C54-C02E8EFCE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885B-B490-4EAF-886F-4739E6AFB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1888-6C71-4BB5-9746-99061648B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97A3-3900-4383-94A9-29E14A91E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C043-F608-4BFA-BBB5-6836285E8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FA43-743A-49E9-B727-B494BC0B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8555-B929-4F34-9634-8E6E606D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9175-C1FF-4AE3-BF4C-20674E98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76302-DC8F-4A2A-97BD-9658E2E8E83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51F65-50C1-4459-9D3B-26C06FE618F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provodnik.spb.ru/images/photolib/00006_02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Влияние мобильных телефонов на мозг человека"/>
          <p:cNvPicPr/>
          <p:nvPr/>
        </p:nvPicPr>
        <p:blipFill>
          <a:blip r:embed="rId1"/>
          <a:srcRect l="0" t="0" r="0" b="2176"/>
          <a:stretch/>
        </p:blipFill>
        <p:spPr>
          <a:xfrm>
            <a:off x="642960" y="142920"/>
            <a:ext cx="7858080" cy="6715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Влияние мобильных телефонов"/>
          <p:cNvPicPr/>
          <p:nvPr/>
        </p:nvPicPr>
        <p:blipFill>
          <a:blip r:embed="rId2"/>
          <a:stretch/>
        </p:blipFill>
        <p:spPr>
          <a:xfrm>
            <a:off x="500040" y="642960"/>
            <a:ext cx="31431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1"/>
                </a:solidFill>
                <a:latin typeface="Arial"/>
              </a:rPr>
              <a:t>Возможные биологические эффекты на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8229600" cy="48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ческий организм всегда реагирует на электромагнитное поле. Однако, для того чтобы эта реакция переросла в паталогию и привела к заболеванию необходим – в том числе достаточно высокий уровень поля и продолжительность облучения. Поэтому, при использовании бытовой техники с малыми уровнями поля и / или кратковре- менно ЭМП бытовой техники не оказывает влияния на здоровье основной части населения. В настоящее время многие специалисты считают предельно допустимой величину магнитной индукции равной 0,2 - 0,3 мкТл. При этом считается, что развитие заболе- ваний - прежде всего лейкемии - очень вероятно при продолжительном облучении человека полями более высоких уровней (несколько часов в день, особенно в ночные часы, в течении периода более год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143280"/>
            <a:ext cx="8229600" cy="156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822960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 не предлагаем вам отказаться от пользования электроприборами, транспортом и сотовой связью. Сегодня это бессмысленно и никуда не привед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 сегодня существует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ффективная защита от электромагнитного излуч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оторая помогает тысячам людей оставаться здоровыми. Особенно это касается детей и беременных женщин, на которых ЭМИ производит самое негативное влия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-первы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необходимо расставить приборы так, чтобы они находились как можно дальше (не ближе полутора метров) от мест длительного времяпровождения и отдыха, особенно детей. При этом следует помнить, что ни стены, ни другие перегородки не защищают от воздействия электромагнитного излучения. Только расстояние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-вторы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о возможности не приобретайте и не используйте без нужды мощные электроприборы. Чем слабее мощность электроприбора, тем слабее его излучение.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-третьи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не включайте одновременно несколько мощных электроприборов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возможности, не используйте для подключения мощных электроприборов удлинители или следите, чтобы провода этих удлинителей не складывались в кольца и петли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5480" y="785520"/>
            <a:ext cx="8172360" cy="17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лияние электромагнитного поля на окружающую среду и человек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лияние электромагнитных полей на окружающую среду и здоровье человека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14200" y="1499760"/>
            <a:ext cx="5500800" cy="46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1"/>
                </a:solidFill>
                <a:latin typeface="Arial"/>
              </a:rPr>
              <a:t>Среди основных источников ЭМИ можно перечисли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лектротранспорт (трамваи, троллейбусы, поезда,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нии электропередач (городского освещения, высоковольтные,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лектропроводка (внутри зданий, телекоммуникации,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товые электроприб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ле- и радиостанции (транслирующие антенн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утниковая и сотовая связь (транслирующие антенн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да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сональные компьют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j0195384"/>
          <p:cNvPicPr/>
          <p:nvPr/>
        </p:nvPicPr>
        <p:blipFill>
          <a:blip r:embed="rId1"/>
          <a:stretch/>
        </p:blipFill>
        <p:spPr>
          <a:xfrm>
            <a:off x="5769000" y="1778040"/>
            <a:ext cx="1795320" cy="18334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5"/>
          <p:cNvSpPr/>
          <p:nvPr/>
        </p:nvSpPr>
        <p:spPr>
          <a:xfrm>
            <a:off x="11520" y="-360"/>
            <a:ext cx="241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4714920" y="2286000"/>
            <a:ext cx="2786040" cy="18572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"/>
          <p:cNvPicPr/>
          <p:nvPr/>
        </p:nvPicPr>
        <p:blipFill>
          <a:blip r:embed="rId2"/>
          <a:stretch/>
        </p:blipFill>
        <p:spPr>
          <a:xfrm>
            <a:off x="571680" y="2286000"/>
            <a:ext cx="2928600" cy="1857240"/>
          </a:xfrm>
          <a:prstGeom prst="rect">
            <a:avLst/>
          </a:prstGeom>
          <a:ln w="0">
            <a:noFill/>
          </a:ln>
        </p:spPr>
      </p:pic>
      <p:sp>
        <p:nvSpPr>
          <p:cNvPr id="103" name="TextBox 4"/>
          <p:cNvSpPr/>
          <p:nvPr/>
        </p:nvSpPr>
        <p:spPr>
          <a:xfrm>
            <a:off x="500040" y="1785960"/>
            <a:ext cx="28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лектрическое по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4572000" y="1785960"/>
            <a:ext cx="24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гнитное по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357120" y="450072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ется зарядами (электризация эбонит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>
            <a:off x="4794840" y="4572000"/>
            <a:ext cx="37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ется при движении заря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проводни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"/>
          <p:cNvSpPr/>
          <p:nvPr/>
        </p:nvSpPr>
        <p:spPr>
          <a:xfrm>
            <a:off x="142920" y="371880"/>
            <a:ext cx="900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1"/>
                </a:solidFill>
                <a:latin typeface="Verdana"/>
              </a:rPr>
              <a:t>Влияние электромагнитного излучения различных бытовых приборов, мкВт/кв.см (плотность потока мощности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Влияние электромагнитного излучения различных бытовых приборов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500040" y="1714680"/>
            <a:ext cx="778680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Электротранспор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анспорт на электрической тяге – электропоезда (в том числе поезда метрополитена), троллейбусы, трамваи и т. п. – является относительно мощным источником магнитного поля в диапазоне частот от 0 до 1000 Гц. По данным (Stenzel et al.,1996), максимальные значения плотности потока магнитной индукции в пригородных "электричках" достигают 75 мкТл при среднем значении 20 мкТл. Среднее значение на транспорте с электроприводом постоянного тока зафиксировано на уровне 29 мкТ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i-main-pic" descr="Картинка 9 из 3576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9760" y="2292480"/>
            <a:ext cx="403704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Линии электропередач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905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лектрические и магнитные поля являются очень сильными факторами влияния на состояние всех биологических объектов, попадающих в зону их воздейств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имер, в районе действия электрического поля ЛЭП у насекомых проявляются изменения в поведении: так у пчел фиксируется повышенная агрессивность, беспокойство, снижение работоспособности и продуктивности, склонность к потере маток; у жуков, комаров, бабочек и других летающих насекомых наблюдается изменение поведенческих реакций, в том числе изменение направления движения в сторону с меньшим уровнем пол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i-main-pic" descr="Картинка 1 из 67795"/>
          <p:cNvPicPr/>
          <p:nvPr/>
        </p:nvPicPr>
        <p:blipFill>
          <a:blip r:embed="rId1"/>
          <a:stretch/>
        </p:blipFill>
        <p:spPr>
          <a:xfrm>
            <a:off x="5865840" y="1982880"/>
            <a:ext cx="2820960" cy="37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Бытовая электротехника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40064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иболее мощными следует признать СВЧ-печи, аэрогрили, холодильники с системой “без инея”, кухонные вытяжки, электроплиты, телевизоры. Все ниже приведенные данные относятся к магнитному полю промышленной частоты 50 Гц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чения магнитного поля тесно связаны с мощностью прибора - чем она выше, тем выше магнитное поле при его работе. Значения электрического поля промышленной частоты практически всех электробытовых приборов не превышают нескольких десятков В/м на расстоянии 0,5 м, что значительно меньше ПДУ 500 В/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телевизор - один из самых опасных бытовых приборов и расстояние до него должно быть не менее 1,5 метров, а для телевизоров 29 дюймов и больше расстояние следует увеличить до 2 и более метров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электрический утюг - опасен только в режиме нагрева, его излучение распространяется в радиусе 20 с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i-main-pic" descr="Картинка 3 из 4256"/>
          <p:cNvPicPr/>
          <p:nvPr/>
        </p:nvPicPr>
        <p:blipFill>
          <a:blip r:embed="rId1"/>
          <a:srcRect l="0" t="9147" r="0" b="7100"/>
          <a:stretch/>
        </p:blipFill>
        <p:spPr>
          <a:xfrm>
            <a:off x="5000760" y="1500120"/>
            <a:ext cx="385740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3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Мобильные радиотелефон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214280"/>
            <a:ext cx="464328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прос о воздействии излучения МРТ на организм пользователя до сих пор остается открытым. Многочисленные исследования, проведенные учеными разных стран, включая Россию, на биологических объектах (в том числе, на добровольцах), привели к неоднозначным, иногда противоречащим друг другу, результатам. Неоспоримым остается лишь тот факт, что организм человека "откликается" на наличие излучения сотового телефо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9760" y="2214720"/>
            <a:ext cx="403704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этому владельцам МРТ рекомендуется соблюдать некоторые меры предосторож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пользуйтесь сотовым телефоном без необходимост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говаривайте непрерывно не боле 3 – 4 минут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покупке выбирайте сотовый телефон с меньшей максимальной мощностью излуч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i-main-pic" descr="Картинка 21 из 96000"/>
          <p:cNvPicPr/>
          <p:nvPr/>
        </p:nvPicPr>
        <p:blipFill>
          <a:blip r:embed="rId1"/>
          <a:stretch/>
        </p:blipFill>
        <p:spPr>
          <a:xfrm>
            <a:off x="3500280" y="4714920"/>
            <a:ext cx="1600200" cy="1871640"/>
          </a:xfrm>
          <a:prstGeom prst="rect">
            <a:avLst/>
          </a:prstGeom>
          <a:ln w="0">
            <a:noFill/>
          </a:ln>
        </p:spPr>
      </p:pic>
      <p:pic>
        <p:nvPicPr>
          <p:cNvPr id="122" name="i-main-pic" descr="Картинка 47 из 96000"/>
          <p:cNvPicPr/>
          <p:nvPr/>
        </p:nvPicPr>
        <p:blipFill>
          <a:blip r:embed="rId2"/>
          <a:stretch/>
        </p:blipFill>
        <p:spPr>
          <a:xfrm>
            <a:off x="7143840" y="571680"/>
            <a:ext cx="1457280" cy="194292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7"/>
          <p:cNvSpPr/>
          <p:nvPr/>
        </p:nvSpPr>
        <p:spPr>
          <a:xfrm>
            <a:off x="142920" y="4929120"/>
            <a:ext cx="3714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1"/>
                </a:solidFill>
                <a:uFillTx/>
                <a:latin typeface="Arial"/>
              </a:rPr>
              <a:t>Интерес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Бангладеж родители несут уголовную ответственность за то, что дают пользоваться мобильными телефонами сво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5T15:52:38Z</dcterms:created>
  <dc:creator>User</dc:creator>
  <dc:description/>
  <dc:language>en-US</dc:language>
  <cp:lastModifiedBy>Володя</cp:lastModifiedBy>
  <dcterms:modified xsi:type="dcterms:W3CDTF">2013-03-04T22:29:52Z</dcterms:modified>
  <cp:revision>31</cp:revision>
  <dc:subject/>
  <dc:title> Влияние электротехнических и электронных приборов на окружающую среду и человека </dc:title>
</cp:coreProperties>
</file>