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61FD-F057-446A-8BBB-6CA2020A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936A-11EB-4B2F-8617-81584C7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3907-8F1A-4F92-A3CC-200F3936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EB6C-23D0-4167-B982-3FCC3F25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EF0-BFCF-4F3D-8B05-9D5DB62F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664-268B-4A4E-888A-DAC1DF5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F622-5743-4E3F-B62D-67A19C8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0762-47EE-40FA-99B5-F134C81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F9FC-E085-4787-B921-02B29028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445-C687-48A1-81B8-2FC5CB14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17A2-8418-4BE9-BEFA-2D53E2A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80DB-8706-4921-9960-B725A89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72AF-9755-4CB3-9330-5115870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D7A0-73EF-41CD-ADC7-615F9D3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72E5-D19B-4173-9B22-4A001878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A4D-F40D-40E3-BC04-00FB07CC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693F-B72E-4BED-9C6F-EA36A238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D5E5-2A0C-4DF4-ADB4-61E7AB3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0DAF-E221-4D3B-90FC-B31665B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02A1-E7BC-4A55-B533-4C6684B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4ADE-EF02-4FF9-9620-85B71EE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0EF9-B2C9-4A73-998A-8BC2028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5C95-EEDF-41A2-B957-BCF2ABB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9CD8-97F8-468F-8BE7-D1DF041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71B-3ADC-4B32-AD09-03775F8309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C1E7-520E-4930-A3F7-AF004326F3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униципальное казенное образовательное учреждение 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                       Барановская основная общеобразовательная школа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     Камышинского района Волгоградской области</a:t>
            </a:r>
            <a:br>
              <a:rPr sz="1700"/>
            </a:b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Учитель технологии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овико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рок техноло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асс: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здел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«Вышивк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«Вышивка лентами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 урока: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рок – практикум с использованием  кейс -техноло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Который из французских королей способствовал превращению Франции в текстильный центр Европ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юдов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Людов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енр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Людов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Ленты из каких материалов используют для выши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тла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рган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барх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ель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- 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– 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а, б, в,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619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вами сундуч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же сокровища, необходимые для  вышивки , находятся в нём? Узнать об этом вы сможете, выполнив зад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ешить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5080" y="2633760"/>
            <a:ext cx="403056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116000" y="404640"/>
            <a:ext cx="71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Сундучок с сокровищами»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44720" y="4356000"/>
            <a:ext cx="3886200" cy="118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84360" y="692280"/>
            <a:ext cx="756576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РИС + КА – РИСКА + ГОД + 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234936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+ ОМ – ДОМ + ЛКА =  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3921120"/>
            <a:ext cx="3745080" cy="167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11280" y="1341360"/>
            <a:ext cx="799308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АП – РАП + КАНВА – ВА + Ь =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9284" r="0" b="20771"/>
          <a:stretch/>
        </p:blipFill>
        <p:spPr>
          <a:xfrm>
            <a:off x="2844720" y="3798720"/>
            <a:ext cx="296064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476360" y="476280"/>
            <a:ext cx="633564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ОТ + ЕЦ – ОТЕЦ + ЕНОТ +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92360" y="1916280"/>
            <a:ext cx="5327640" cy="11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+ Ы – НОТЫ + Н + ТЫ =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00360" y="4290840"/>
            <a:ext cx="3744720" cy="142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332000" y="620640"/>
            <a:ext cx="61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СОРОГ – РОГ + РОКА –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133720"/>
            <a:ext cx="7343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РОКА + ЖНЕЦ – ЕЦ + И + ЦЫ =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4720" y="4230720"/>
            <a:ext cx="3527640" cy="142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9640" y="126828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КИТА + РКА – АРКА – КИТ + ТКИ =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Лента –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узкая полоска ткани, применяемая для отделки швейных изде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летёная или вязаная одноцветная или пёстрая полоска разной шир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отделочный шнур, состоящий из двух прядей хлопчатобумажной пряжи, оплетённых вискозными нит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полоска тонкой хлопчатобумажной ткани с отверстиями, включёнными в композицию выш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Самыми древними образцами вышивки являются несколько полотен, дошедших до нас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ревнего Кит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ревней И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древнего Ир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древней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“Силк риббон” - так называется тип вышивки, которую выполняют, использу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нточку из шелка, органзы,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цветные нити «мулин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бис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мо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7:17:31Z</dcterms:created>
  <dc:creator>Павел</dc:creator>
  <dc:description/>
  <dc:language>en-US</dc:language>
  <cp:lastModifiedBy>Admin</cp:lastModifiedBy>
  <dcterms:modified xsi:type="dcterms:W3CDTF">2012-11-11T20:31:02Z</dcterms:modified>
  <cp:revision>28</cp:revision>
  <dc:subject/>
  <dc:title>Учебный кейс по технологии.</dc:title>
</cp:coreProperties>
</file>