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35.wmf" ContentType="image/x-wmf"/>
  <Override PartName="/ppt/media/image10.png" ContentType="image/png"/>
  <Override PartName="/ppt/media/image25.gif" ContentType="image/gif"/>
  <Override PartName="/ppt/media/image6.jpeg" ContentType="image/jpeg"/>
  <Override PartName="/ppt/media/image13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wmf" ContentType="image/x-wmf"/>
  <Override PartName="/ppt/media/image20.jpeg" ContentType="image/jpeg"/>
  <Override PartName="/ppt/media/image12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34.wmf" ContentType="image/x-wmf"/>
  <Override PartName="/ppt/media/image36.png" ContentType="image/png"/>
  <Override PartName="/ppt/media/image7.gif" ContentType="image/gif"/>
  <Override PartName="/ppt/media/image33.wmf" ContentType="image/x-wmf"/>
  <Override PartName="/ppt/media/image4.jpeg" ContentType="image/jpeg"/>
  <Override PartName="/ppt/media/image38.wmf" ContentType="image/x-wmf"/>
  <Override PartName="/ppt/media/image2.jpeg" ContentType="image/jpeg"/>
  <Override PartName="/ppt/media/image1.png" ContentType="image/png"/>
  <Override PartName="/ppt/media/image19.gif" ContentType="image/gif"/>
  <Override PartName="/ppt/media/image14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26A-BD63-4638-97D2-3B688823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08D-20EA-4D37-967D-18858ADE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FC0-F631-489B-9016-3545760E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6B6-46F5-49C6-B74E-7F5F3C51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8CB-2C01-4A74-9E53-06F42E3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199-FD77-4BB2-819A-1DA65A3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37C-F667-4215-B635-6CA01C6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12A-FAD3-434B-AD6B-C38A6BF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24E-AC1E-4BA7-9892-7C05D4B9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467-3387-4506-8C4F-45D615E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E60-E7F9-4A0D-BACC-55CF525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D89-E144-4F8A-8B62-1567E95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F50-E0B1-4E22-A8E9-6610572D9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nance.rol.ru/files_jpg/1_1(58888)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4646520" y="-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76520" y="-914400"/>
          <a:ext cx="4848120" cy="517680"/>
        </p:xfrm>
        <a:graphic>
          <a:graphicData uri="http://schemas.openxmlformats.org/drawingml/2006/table">
            <a:tbl>
              <a:tblPr/>
              <a:tblGrid>
                <a:gridCol w="342720"/>
                <a:gridCol w="450540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Правильное пользование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dbdb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19"/>
          <p:cNvSpPr/>
          <p:nvPr/>
        </p:nvSpPr>
        <p:spPr>
          <a:xfrm>
            <a:off x="-4641120" y="6964560"/>
            <a:ext cx="249552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ьза от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z_k.f._prikliucheniya_elektronika_-_do_chego_doshel_progres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2 из 6058"/>
          <p:cNvPicPr/>
          <p:nvPr/>
        </p:nvPicPr>
        <p:blipFill>
          <a:blip r:embed="rId3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30 из 605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6 из 90503"/>
          <p:cNvPicPr/>
          <p:nvPr/>
        </p:nvPicPr>
        <p:blipFill>
          <a:blip r:embed="rId5"/>
          <a:stretch/>
        </p:blipFill>
        <p:spPr>
          <a:xfrm>
            <a:off x="0" y="0"/>
            <a:ext cx="63054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z_k.f._prikliucheniya_elektronika_-_do_chego_doshel_progres.mp3" descr=""/>
          <p:cNvPicPr/>
          <p:nvPr/>
        </p:nvPicPr>
        <p:blipFill>
          <a:blip r:embed="rId6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14 из 90503"/>
          <p:cNvPicPr/>
          <p:nvPr/>
        </p:nvPicPr>
        <p:blipFill>
          <a:blip r:embed="rId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http://finance.rol.ru/files_jpg/1_1(58888)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000000"/>
              </a:gs>
              <a:gs pos="100000">
                <a:srgbClr val="66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имптомы игровой зависи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ую часть свободного времени (6-10 часов в день) ребенок проводит за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него практически нет реальных друзей, зато много виртуа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на ваш запрет сидеть за компьютером школьник реагирует агрессивно или становится трево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 вас обманывает, пропускает школу, чтобы посидеть за компьютером, стал хуже учиться, потерял интерес к школьн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игры подросток начинает разговаривать сам с собой или с героями игры так, как будто они реа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становится более агресс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, увлеченный игрой или общением в Интернете, забывает про еду и личную гиги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кольник трудно встает по утрам, просыпается в подавленном состоянии. Настроение повышается только тогда, когда ребенок садится за компью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-main-pic" descr="Картинка 3 из 408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 из 40872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i-main-pic" descr="Картинка 11 из 40872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f7ad6d220478bc745fb401a0587b37e1"/>
          <p:cNvPicPr/>
          <p:nvPr/>
        </p:nvPicPr>
        <p:blipFill>
          <a:blip r:embed="rId4"/>
          <a:stretch/>
        </p:blipFill>
        <p:spPr>
          <a:xfrm>
            <a:off x="0" y="0"/>
            <a:ext cx="321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427640" y="403200"/>
            <a:ext cx="4465440" cy="55310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79280" y="403200"/>
            <a:ext cx="309744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9999"/>
                </a:solidFill>
                <a:latin typeface="Impact"/>
              </a:rPr>
              <a:t>В родительский дневник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9999"/>
              </a:solidFill>
              <a:latin typeface="Impact"/>
              <a:ea typeface="Impact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292720" y="204624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Во всём должна быть м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580000" y="2219400"/>
            <a:ext cx="208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используйте компьютер как средство поощре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5292720" y="1441440"/>
            <a:ext cx="25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Как можно раньше выработайте правильное отношение к компьютеру как к машине для получения знаний, навыков, а не средству получения эмо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148360" y="403200"/>
            <a:ext cx="352908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Правильная посадка за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1. Сядьте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2. Спину держите ро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3.Ноги не скрещивайте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Поясница слегка выг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5. Расслабьте корпус и н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6. Расслабьте плечи, руки расслабленно положите на стол (или клавиатуру), расслабьте паль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7. Клавиатуру поместите ниже локтей. Голову держите пря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148360" y="1960560"/>
            <a:ext cx="2881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еред работой за компьютером обязательно сделай разм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Закончил занятие сделай разм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148360" y="1960560"/>
            <a:ext cx="3024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Освещение рабочего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Никогда не работай на компьютере в темн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076720" y="1353960"/>
            <a:ext cx="30956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Ежедне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итание для глаз – черника, смородина, морковь, печень трески, зелень, шиповник, клюкв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Через каждые 5-10 минут гимнастика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5219640" y="19605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Осваивайте компьютер вместе с ребё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ubRRectCallout"/>
          <p:cNvSpPr/>
          <p:nvPr/>
        </p:nvSpPr>
        <p:spPr>
          <a:xfrm>
            <a:off x="755640" y="2911320"/>
            <a:ext cx="2735280" cy="267840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971640" y="3255840"/>
            <a:ext cx="230508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Время работы за компьюте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6 – 7 лет – 10 мин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2-3 класс - 15 мин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4-6 класс - 20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8532720" y="6280200"/>
            <a:ext cx="360360" cy="3477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47760"/>
              <a:gd name="textAreaBottom" fmla="*/ 325440 h 347760"/>
            </a:gdLst>
            <a:ahLst/>
            <a:rect l="textAreaLeft" t="textAreaTop" r="textAreaRight" b="textAreaBottom"/>
            <a:pathLst>
              <a:path w="22382" h="21600">
                <a:moveTo>
                  <a:pt x="0" y="0"/>
                </a:moveTo>
                <a:lnTo>
                  <a:pt x="22382" y="0"/>
                </a:lnTo>
                <a:lnTo>
                  <a:pt x="22382" y="21600"/>
                </a:lnTo>
                <a:lnTo>
                  <a:pt x="0" y="21600"/>
                </a:lnTo>
                <a:close/>
              </a:path>
              <a:path fill="lightenLess" w="22382" h="21600">
                <a:moveTo>
                  <a:pt x="0" y="0"/>
                </a:moveTo>
                <a:lnTo>
                  <a:pt x="22382" y="0"/>
                </a:lnTo>
                <a:lnTo>
                  <a:pt x="20982" y="1400"/>
                </a:lnTo>
                <a:lnTo>
                  <a:pt x="1400" y="1400"/>
                </a:lnTo>
                <a:close/>
              </a:path>
              <a:path fill="darken" w="22382" h="21600">
                <a:moveTo>
                  <a:pt x="22382" y="0"/>
                </a:moveTo>
                <a:lnTo>
                  <a:pt x="22382" y="21600"/>
                </a:lnTo>
                <a:lnTo>
                  <a:pt x="20982" y="20200"/>
                </a:lnTo>
                <a:lnTo>
                  <a:pt x="20982" y="1400"/>
                </a:lnTo>
                <a:close/>
              </a:path>
              <a:path fill="darkenLess" w="22382" h="21600">
                <a:moveTo>
                  <a:pt x="2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82" y="20200"/>
                </a:lnTo>
                <a:close/>
              </a:path>
              <a:path fill="lighten" w="2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82" h="21600">
                <a:moveTo>
                  <a:pt x="4184" y="3794"/>
                </a:moveTo>
                <a:lnTo>
                  <a:pt x="18197" y="10800"/>
                </a:lnTo>
                <a:lnTo>
                  <a:pt x="4184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5148360" y="750960"/>
            <a:ext cx="302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 помещении, где используется компьютер, делайте ежедневную влажную убор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До и после работы на компьютере протирайте его чистой тряпкой или губкой (Во время уборки компьютер должен быть выключе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Расстройства зрения, близорукость упражнения для глаз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191120" y="0"/>
            <a:ext cx="495288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пражнения для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0880" y="426708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жмурьте глаза на 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ыстро моргайте в течение 5-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делайте несколько круговых движений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087425a81db2"/>
          <p:cNvPicPr/>
          <p:nvPr/>
        </p:nvPicPr>
        <p:blipFill>
          <a:blip r:embed="rId2"/>
          <a:srcRect l="0" t="-12987" r="0" b="18331"/>
          <a:stretch/>
        </p:blipFill>
        <p:spPr>
          <a:xfrm>
            <a:off x="6019920" y="533520"/>
            <a:ext cx="2828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Скачать анимашку про комп"/>
          <p:cNvPicPr/>
          <p:nvPr/>
        </p:nvPicPr>
        <p:blipFill>
          <a:blip r:embed="rId3"/>
          <a:stretch/>
        </p:blipFill>
        <p:spPr>
          <a:xfrm>
            <a:off x="4343400" y="205740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Заболевания позвоночника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52280" y="30492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болеваний позвон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оянно следить за своей осанкой, оптимально организовать своё рабоче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04920" y="34290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можно чаще прерывать нахождение в одной позе, вставать из-за стола, двиг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04920" y="5181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возможности заниматься спортом, делать заря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Компьютер и здоровье"/>
          <p:cNvPicPr/>
          <p:nvPr/>
        </p:nvPicPr>
        <p:blipFill>
          <a:blip r:embed="rId2"/>
          <a:stretch/>
        </p:blipFill>
        <p:spPr>
          <a:xfrm>
            <a:off x="6523200" y="4419720"/>
            <a:ext cx="223992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Скачать анимашку про комп"/>
          <p:cNvPicPr/>
          <p:nvPr/>
        </p:nvPicPr>
        <p:blipFill>
          <a:blip r:embed="rId3"/>
          <a:stretch/>
        </p:blipFill>
        <p:spPr>
          <a:xfrm>
            <a:off x="4876920" y="380880"/>
            <a:ext cx="13334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3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1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Скачать анимашку про комп"/>
          <p:cNvPicPr/>
          <p:nvPr/>
        </p:nvPicPr>
        <p:blipFill>
          <a:blip r:embed="rId1"/>
          <a:stretch/>
        </p:blipFill>
        <p:spPr>
          <a:xfrm>
            <a:off x="838080" y="914400"/>
            <a:ext cx="133380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20 из 16387"/>
          <p:cNvPicPr/>
          <p:nvPr/>
        </p:nvPicPr>
        <p:blipFill>
          <a:blip r:embed="rId2"/>
          <a:stretch/>
        </p:blipFill>
        <p:spPr>
          <a:xfrm>
            <a:off x="6172200" y="533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1600200" y="762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80880" y="2133720"/>
            <a:ext cx="6172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можно чаще делайте влажную уборку помещения и проветривайте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ля увеличения влажности можно ставить открытую емкость с водой, например аквари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покупки компьютера, желательно включить и оставить его на несколько часов в проветриваемом помещении, так как новый пластик , из которого сделан корпус компьютера при нагревании выделяет очень большое количество вред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-main-pic" descr="Картинка 13 из 2142"/>
          <p:cNvPicPr/>
          <p:nvPr/>
        </p:nvPicPr>
        <p:blipFill>
          <a:blip r:embed="rId1"/>
          <a:stretch/>
        </p:blipFill>
        <p:spPr>
          <a:xfrm>
            <a:off x="0" y="0"/>
            <a:ext cx="5943600" cy="4370400"/>
          </a:xfrm>
          <a:prstGeom prst="rect">
            <a:avLst/>
          </a:prstGeom>
          <a:ln w="0">
            <a:noFill/>
          </a:ln>
        </p:spPr>
      </p:pic>
      <p:pic>
        <p:nvPicPr>
          <p:cNvPr id="143" name="i-main-pic" descr="Картинка 120 из 2142"/>
          <p:cNvPicPr/>
          <p:nvPr/>
        </p:nvPicPr>
        <p:blipFill>
          <a:blip r:embed="rId2"/>
          <a:stretch/>
        </p:blipFill>
        <p:spPr>
          <a:xfrm>
            <a:off x="1371600" y="1143000"/>
            <a:ext cx="5410080" cy="4502160"/>
          </a:xfrm>
          <a:prstGeom prst="rect">
            <a:avLst/>
          </a:prstGeom>
          <a:ln w="0">
            <a:noFill/>
          </a:ln>
        </p:spPr>
      </p:pic>
      <p:pic>
        <p:nvPicPr>
          <p:cNvPr id="144" name="i-main-pic" descr="Картинка 5 из 2142"/>
          <p:cNvPicPr/>
          <p:nvPr/>
        </p:nvPicPr>
        <p:blipFill>
          <a:blip r:embed="rId3"/>
          <a:stretch/>
        </p:blipFill>
        <p:spPr>
          <a:xfrm>
            <a:off x="3733920" y="1828800"/>
            <a:ext cx="476244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Скачать анимашку про комп"/>
          <p:cNvPicPr/>
          <p:nvPr/>
        </p:nvPicPr>
        <p:blipFill>
          <a:blip r:embed="rId4"/>
          <a:stretch/>
        </p:blipFill>
        <p:spPr>
          <a:xfrm>
            <a:off x="7391520" y="30492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9" nodeType="afterEffect" fill="hold" presetClass="entr" presetID="3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Туннельный синдром или синдром запястного канала"/>
          <p:cNvPicPr/>
          <p:nvPr/>
        </p:nvPicPr>
        <p:blipFill>
          <a:blip r:embed="rId1"/>
          <a:stretch/>
        </p:blipFill>
        <p:spPr>
          <a:xfrm>
            <a:off x="6477120" y="533520"/>
            <a:ext cx="2263680" cy="2514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0948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7200" y="1676520"/>
            <a:ext cx="784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ряхнит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жимайте пальцы в кулаки (10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ращайте кулаки  вокруг своей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давливая одной рукой на пальцы другой руки со стороны ладони, как бы выворачивая ладонь и запястье нару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Скачать анимашку про комп"/>
          <p:cNvPicPr/>
          <p:nvPr/>
        </p:nvPicPr>
        <p:blipFill>
          <a:blip r:embed="rId2"/>
          <a:stretch/>
        </p:blipFill>
        <p:spPr>
          <a:xfrm>
            <a:off x="7086600" y="365760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2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42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Правильное положение рук при работе за компьютером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975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9072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авильное положение р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18 из 2142"/>
          <p:cNvPicPr/>
          <p:nvPr/>
        </p:nvPicPr>
        <p:blipFill>
          <a:blip r:embed="rId1"/>
          <a:srcRect l="5994" t="0" r="0" b="0"/>
          <a:stretch/>
        </p:blipFill>
        <p:spPr>
          <a:xfrm>
            <a:off x="838080" y="0"/>
            <a:ext cx="78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finance.rol.ru/files_jpg/1_1(58888).jpg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670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Интересная анимация для вашего компьютера"/>
          <p:cNvPicPr/>
          <p:nvPr/>
        </p:nvPicPr>
        <p:blipFill>
          <a:blip r:embed="rId2"/>
          <a:stretch/>
        </p:blipFill>
        <p:spPr>
          <a:xfrm>
            <a:off x="6400800" y="5289480"/>
            <a:ext cx="27432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2057400" y="205200"/>
            <a:ext cx="5730840" cy="9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Есть ли у тебя дома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4572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695880" y="459360"/>
            <a:ext cx="805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Сколько времени ты проводишь за компью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304920" y="1752480"/>
          <a:ext cx="86104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6104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83600" y="306360"/>
            <a:ext cx="940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Тебя контролируют родители или ты проводишь за компьютером неограниченное врем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641520" y="1582560"/>
          <a:ext cx="80452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582560"/>
                    <a:ext cx="8045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4"/>
          <p:cNvGraphicFramePr/>
          <p:nvPr/>
        </p:nvGraphicFramePr>
        <p:xfrm>
          <a:off x="0" y="1371600"/>
          <a:ext cx="8458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5"/>
          <p:cNvSpPr/>
          <p:nvPr/>
        </p:nvSpPr>
        <p:spPr>
          <a:xfrm>
            <a:off x="4572000" y="4800600"/>
            <a:ext cx="571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828800" y="380520"/>
            <a:ext cx="601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Что тебя привлекает в работе на компью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838080" y="7992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Что тебе не нравится в общении с компью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304920" y="1371600"/>
          <a:ext cx="86868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38080" y="308520"/>
            <a:ext cx="784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Чувствуешь ли ты усталость после работы за компьютер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304920" y="1447920"/>
          <a:ext cx="8229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-main-pic" descr="Картинка 35 из 2142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202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523880" y="990720"/>
            <a:ext cx="403884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3520" y="6019920"/>
            <a:ext cx="2514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219320" y="1371600"/>
            <a:ext cx="48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00001_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990720" y="228600"/>
            <a:ext cx="7391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компьютер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1752480" y="365760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ред и поль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85800" y="5257800"/>
            <a:ext cx="7924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мной маш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aptop"/>
          <p:cNvSpPr/>
          <p:nvPr/>
        </p:nvSpPr>
        <p:spPr>
          <a:xfrm>
            <a:off x="3059280" y="2822400"/>
            <a:ext cx="2736720" cy="3718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bRRectCallout"/>
          <p:cNvSpPr/>
          <p:nvPr/>
        </p:nvSpPr>
        <p:spPr>
          <a:xfrm>
            <a:off x="468360" y="317520"/>
            <a:ext cx="2951280" cy="29383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00000" y="10098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00"/>
                </a:solidFill>
                <a:latin typeface="Arial"/>
              </a:rPr>
              <a:t>За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bRRectCallout"/>
          <p:cNvSpPr/>
          <p:nvPr/>
        </p:nvSpPr>
        <p:spPr>
          <a:xfrm>
            <a:off x="5867280" y="3602160"/>
            <a:ext cx="2951280" cy="302400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796000" y="394668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тив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903"/>
          <p:cNvPicPr/>
          <p:nvPr/>
        </p:nvPicPr>
        <p:blipFill>
          <a:blip r:embed="rId1"/>
          <a:stretch/>
        </p:blipFill>
        <p:spPr>
          <a:xfrm>
            <a:off x="3635280" y="3084480"/>
            <a:ext cx="1555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чины увлечения компьютерными иг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ривлекает придуманный мир, более яркий, простой и выраз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шибки всегда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справить, перезагрузив ко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Можно не доводить до ко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тождествление с глав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ге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се происходит по жел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одростка («Я – властелин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Компьютер – партн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о общ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492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Ребёнок не приучен к труду, к умению видеть работу и выполнять е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Ребёнка не приучили к сотрудничеств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Незнание взрослыми правил психогигиены взаимодействия с компьютером, пользы и вреда от него, невежество взрослы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Ребёнок, лишённый родительского вним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Неумение справляться с трудностями самостоятель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Родители в общении с ребёнком не осознают его взро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Неуверенность в себе ребёнка, низкая самооценка, зависимость от мнения окружающих.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3433680" y="25210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211640" y="3084480"/>
            <a:ext cx="8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ubBanner"/>
          <p:cNvSpPr/>
          <p:nvPr/>
        </p:nvSpPr>
        <p:spPr>
          <a:xfrm>
            <a:off x="2195640" y="2305080"/>
            <a:ext cx="4333680" cy="2332080"/>
          </a:xfrm>
          <a:prstGeom prst="pie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987640" y="2478240"/>
            <a:ext cx="30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пьютер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74920" y="30844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это хорош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682560" y="142920"/>
            <a:ext cx="7720200" cy="16239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ьютерные игры развив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мять и внимание, логическ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строту реакции, мелкую моторику рук, визуальное восприятие объектов, зрительно-моторную координ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179280" y="5070600"/>
            <a:ext cx="4640400" cy="1320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ьютерные игры уч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ассифицировать и обобщ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итически мыслить в нестандарт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5103720" y="5067360"/>
            <a:ext cx="4041720" cy="1320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ьютерные игры уч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иваться своей ц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интеллектуаль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8604360" y="231840"/>
            <a:ext cx="360360" cy="3477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47760"/>
              <a:gd name="textAreaBottom" fmla="*/ 325440 h 347760"/>
            </a:gdLst>
            <a:ahLst/>
            <a:rect l="textAreaLeft" t="textAreaTop" r="textAreaRight" b="textAreaBottom"/>
            <a:pathLst>
              <a:path w="22382" h="21600">
                <a:moveTo>
                  <a:pt x="0" y="0"/>
                </a:moveTo>
                <a:lnTo>
                  <a:pt x="22382" y="0"/>
                </a:lnTo>
                <a:lnTo>
                  <a:pt x="22382" y="21600"/>
                </a:lnTo>
                <a:lnTo>
                  <a:pt x="0" y="21600"/>
                </a:lnTo>
                <a:close/>
              </a:path>
              <a:path fill="lightenLess" w="22382" h="21600">
                <a:moveTo>
                  <a:pt x="0" y="0"/>
                </a:moveTo>
                <a:lnTo>
                  <a:pt x="22382" y="0"/>
                </a:lnTo>
                <a:lnTo>
                  <a:pt x="20982" y="1400"/>
                </a:lnTo>
                <a:lnTo>
                  <a:pt x="1400" y="1400"/>
                </a:lnTo>
                <a:close/>
              </a:path>
              <a:path fill="darken" w="22382" h="21600">
                <a:moveTo>
                  <a:pt x="22382" y="0"/>
                </a:moveTo>
                <a:lnTo>
                  <a:pt x="22382" y="21600"/>
                </a:lnTo>
                <a:lnTo>
                  <a:pt x="20982" y="20200"/>
                </a:lnTo>
                <a:lnTo>
                  <a:pt x="20982" y="1400"/>
                </a:lnTo>
                <a:close/>
              </a:path>
              <a:path fill="darkenLess" w="22382" h="21600">
                <a:moveTo>
                  <a:pt x="2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82" y="20200"/>
                </a:lnTo>
                <a:close/>
              </a:path>
              <a:path fill="lighten" w="2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82" h="21600">
                <a:moveTo>
                  <a:pt x="4184" y="3794"/>
                </a:moveTo>
                <a:lnTo>
                  <a:pt x="18197" y="10800"/>
                </a:lnTo>
                <a:lnTo>
                  <a:pt x="41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ubBanner"/>
          <p:cNvSpPr/>
          <p:nvPr/>
        </p:nvSpPr>
        <p:spPr>
          <a:xfrm>
            <a:off x="2484360" y="2392200"/>
            <a:ext cx="4334040" cy="2332080"/>
          </a:xfrm>
          <a:prstGeom prst="pie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132000" y="2478240"/>
            <a:ext cx="30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пьютер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03640" y="299736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пробле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395280" y="231840"/>
            <a:ext cx="2376360" cy="103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547640" y="650880"/>
            <a:ext cx="216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55640" y="31752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узка на з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755640" y="5156280"/>
            <a:ext cx="2376360" cy="120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6516720" y="5070600"/>
            <a:ext cx="2376360" cy="120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3564000" y="1268280"/>
            <a:ext cx="2452680" cy="77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659640" y="5070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евания суставов кистей р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708360" y="13539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еохонд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6516720" y="231840"/>
            <a:ext cx="2376360" cy="103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732720" y="4032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руднённое дых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042920" y="52452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ическая нагрузка и переут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4"/>
          <p:cNvSpPr txBox="1"/>
          <p:nvPr/>
        </p:nvSpPr>
        <p:spPr>
          <a:xfrm>
            <a:off x="3419640" y="4121280"/>
            <a:ext cx="245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Impact"/>
              </a:rPr>
              <a:t>Что делать?</a:t>
            </a:r>
            <a:endParaRPr b="0" lang="en-US" sz="1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пьютерная завис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 rot="19176000">
            <a:off x="5003280" y="1267920"/>
            <a:ext cx="486000" cy="1171800"/>
          </a:xfrm>
          <a:prstGeom prst="downArrow">
            <a:avLst>
              <a:gd name="adj1" fmla="val 50000"/>
              <a:gd name="adj2" fmla="val 5023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 rot="2179800">
            <a:off x="3492000" y="1267920"/>
            <a:ext cx="486000" cy="1171800"/>
          </a:xfrm>
          <a:prstGeom prst="downArrow">
            <a:avLst>
              <a:gd name="adj1" fmla="val 50000"/>
              <a:gd name="adj2" fmla="val 5023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3"/>
          <p:cNvPicPr/>
          <p:nvPr/>
        </p:nvPicPr>
        <p:blipFill>
          <a:blip r:embed="rId3"/>
          <a:stretch/>
        </p:blipFill>
        <p:spPr>
          <a:xfrm>
            <a:off x="6372360" y="3429000"/>
            <a:ext cx="1800000" cy="2317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4716360" y="2565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зависимость от Интернета (сетегол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24000" y="256392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зависимость от компьютерных игр (кибераддикц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аркадная"/>
          <p:cNvPicPr/>
          <p:nvPr/>
        </p:nvPicPr>
        <p:blipFill>
          <a:blip r:embed="rId4"/>
          <a:stretch/>
        </p:blipFill>
        <p:spPr>
          <a:xfrm>
            <a:off x="2916360" y="3860640"/>
            <a:ext cx="2097000" cy="251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быстрота реакций"/>
          <p:cNvPicPr/>
          <p:nvPr/>
        </p:nvPicPr>
        <p:blipFill>
          <a:blip r:embed="rId5"/>
          <a:stretch/>
        </p:blipFill>
        <p:spPr>
          <a:xfrm>
            <a:off x="250920" y="3860640"/>
            <a:ext cx="2154240" cy="19400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6"/>
          <p:cNvSpPr/>
          <p:nvPr/>
        </p:nvSpPr>
        <p:spPr>
          <a:xfrm>
            <a:off x="8604360" y="231840"/>
            <a:ext cx="360360" cy="3477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47760"/>
              <a:gd name="textAreaBottom" fmla="*/ 325440 h 347760"/>
            </a:gdLst>
            <a:ahLst/>
            <a:rect l="textAreaLeft" t="textAreaTop" r="textAreaRight" b="textAreaBottom"/>
            <a:pathLst>
              <a:path w="22382" h="21600">
                <a:moveTo>
                  <a:pt x="0" y="0"/>
                </a:moveTo>
                <a:lnTo>
                  <a:pt x="22382" y="0"/>
                </a:lnTo>
                <a:lnTo>
                  <a:pt x="22382" y="21600"/>
                </a:lnTo>
                <a:lnTo>
                  <a:pt x="0" y="21600"/>
                </a:lnTo>
                <a:close/>
              </a:path>
              <a:path fill="lightenLess" w="22382" h="21600">
                <a:moveTo>
                  <a:pt x="0" y="0"/>
                </a:moveTo>
                <a:lnTo>
                  <a:pt x="22382" y="0"/>
                </a:lnTo>
                <a:lnTo>
                  <a:pt x="20982" y="1400"/>
                </a:lnTo>
                <a:lnTo>
                  <a:pt x="1400" y="1400"/>
                </a:lnTo>
                <a:close/>
              </a:path>
              <a:path fill="darken" w="22382" h="21600">
                <a:moveTo>
                  <a:pt x="22382" y="0"/>
                </a:moveTo>
                <a:lnTo>
                  <a:pt x="22382" y="21600"/>
                </a:lnTo>
                <a:lnTo>
                  <a:pt x="20982" y="20200"/>
                </a:lnTo>
                <a:lnTo>
                  <a:pt x="20982" y="1400"/>
                </a:lnTo>
                <a:close/>
              </a:path>
              <a:path fill="darkenLess" w="22382" h="21600">
                <a:moveTo>
                  <a:pt x="2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82" y="20200"/>
                </a:lnTo>
                <a:close/>
              </a:path>
              <a:path fill="lighten" w="2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82" h="21600">
                <a:moveTo>
                  <a:pt x="4184" y="3794"/>
                </a:moveTo>
                <a:lnTo>
                  <a:pt x="18197" y="10800"/>
                </a:lnTo>
                <a:lnTo>
                  <a:pt x="41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0-12-13T13:29:4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