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2CC7-E743-4E2D-A367-C9EFEF2A7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C465-18F5-410A-BB67-1570D01D4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8273-DC40-4C09-BC43-77D7C264D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73BA-42D3-4D56-8C82-ACE59B24F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06808-1214-40EF-A7FD-4209F51B0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63F4B-9D42-4597-B29D-143505CA9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8B471-D1BF-4EA5-B7A6-CF411FA28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F3039-04CD-44D4-8FBA-D4B3D0315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071E2-6F26-4E3C-B06B-446C8EE3C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6C236-5E48-4AB8-A215-2F06EA27F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875A9-6D22-44E5-95DF-1C3A9B986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AC03-32E9-4133-9A3A-8E3F2D415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E2631-B988-485B-BCE1-EF57032FE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C087A-6454-4D48-BA92-13F4AD347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0C548-688C-4C85-8180-7042996DF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64A34-ED73-4CCC-8FDB-6886230AE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5CB4C-AEB3-4A25-9856-4BB4A823C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CA16-558D-4F67-BCAC-0FD0BE9E1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5558-4402-4F9D-9D69-F95AE65A8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A20A-667B-457E-B39C-882FDF25E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3772-C73A-4459-9BAA-52B5EF2BC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1B5C-EE85-4D97-89B4-30DC8F050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AC56-048C-432A-8FAB-5DF9E6D9A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3FD2-1BEC-4E3B-826E-F14938F65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851B0-1A38-4EDC-9AB9-5E5124C1DE6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C43EA-73AF-4D3C-91FC-E6280E7193D4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slide" Target="slide10.xml"/><Relationship Id="rId7" Type="http://schemas.openxmlformats.org/officeDocument/2006/relationships/slide" Target="slide11.xml"/><Relationship Id="rId8" Type="http://schemas.openxmlformats.org/officeDocument/2006/relationships/slide" Target="slide12.xml"/><Relationship Id="rId9" Type="http://schemas.openxmlformats.org/officeDocument/2006/relationships/slide" Target="slide13.xml"/><Relationship Id="rId10" Type="http://schemas.openxmlformats.org/officeDocument/2006/relationships/slide" Target="slide14.xml"/><Relationship Id="rId11" Type="http://schemas.openxmlformats.org/officeDocument/2006/relationships/slide" Target="slide15.xml"/><Relationship Id="rId12" Type="http://schemas.openxmlformats.org/officeDocument/2006/relationships/slide" Target="slide16.xml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8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Arial"/>
              </a:rPr>
              <a:t>В рамках недели математики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Внеклассное мероприятие: 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80880" y="2286000"/>
            <a:ext cx="838224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Verdana"/>
              </a:rPr>
              <a:t>Математика – царица всех наук!</a:t>
            </a:r>
            <a:endParaRPr b="0" lang="en-US" sz="6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Подготовила учитель математики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Привезенцева Т.В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91440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eaeaea"/>
                </a:solidFill>
                <a:latin typeface="Verdana"/>
              </a:rPr>
              <a:t>20 баллов.</a:t>
            </a:r>
            <a:endParaRPr b="0" lang="en-US" sz="6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aeaea"/>
                </a:solidFill>
                <a:latin typeface="Verdana"/>
              </a:rPr>
              <a:t>Кто из немецких ученых нашел моментально сумму всех натуральных чисел от 1 до 100, будучи учеником начальной школы.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3" name="AutoShape 3">
            <a:hlinkClick r:id="" action="ppaction://hlinkshowjump?jump=previousslide"/>
          </p:cNvPr>
          <p:cNvSpPr/>
          <p:nvPr/>
        </p:nvSpPr>
        <p:spPr>
          <a:xfrm>
            <a:off x="845820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  <a:path fill="darken" w="21600" h="26394">
                <a:moveTo>
                  <a:pt x="3794" y="9889"/>
                </a:moveTo>
                <a:lnTo>
                  <a:pt x="7301" y="9889"/>
                </a:lnTo>
                <a:lnTo>
                  <a:pt x="7301" y="15225"/>
                </a:lnTo>
                <a:cubicBezTo>
                  <a:pt x="7301" y="16147"/>
                  <a:pt x="8102" y="16879"/>
                  <a:pt x="9138" y="16879"/>
                </a:cubicBezTo>
                <a:lnTo>
                  <a:pt x="10800" y="16879"/>
                </a:lnTo>
                <a:cubicBezTo>
                  <a:pt x="11836" y="16879"/>
                  <a:pt x="12636" y="16147"/>
                  <a:pt x="12636" y="15225"/>
                </a:cubicBezTo>
                <a:lnTo>
                  <a:pt x="12636" y="9889"/>
                </a:lnTo>
                <a:lnTo>
                  <a:pt x="10800" y="9889"/>
                </a:lnTo>
                <a:lnTo>
                  <a:pt x="14308" y="6382"/>
                </a:lnTo>
                <a:lnTo>
                  <a:pt x="17981" y="9889"/>
                </a:lnTo>
                <a:lnTo>
                  <a:pt x="16144" y="9889"/>
                </a:lnTo>
                <a:lnTo>
                  <a:pt x="16144" y="15225"/>
                </a:lnTo>
                <a:cubicBezTo>
                  <a:pt x="16144" y="17993"/>
                  <a:pt x="13568" y="20551"/>
                  <a:pt x="10800" y="20551"/>
                </a:cubicBezTo>
                <a:lnTo>
                  <a:pt x="9138" y="20551"/>
                </a:lnTo>
                <a:cubicBezTo>
                  <a:pt x="6370" y="20551"/>
                  <a:pt x="3794" y="17993"/>
                  <a:pt x="3794" y="15225"/>
                </a:cubicBez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eaeaea"/>
                </a:solidFill>
                <a:latin typeface="Verdana"/>
              </a:rPr>
              <a:t>30 баллов.</a:t>
            </a:r>
            <a:endParaRPr b="0" lang="en-US" sz="6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aeaea"/>
                </a:solidFill>
                <a:latin typeface="Verdana"/>
              </a:rPr>
              <a:t>В десятилетнем возрасте эта женщина – математик почти наизусть выучила толстый алгебраический задачник.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5" name="AutoShape 3">
            <a:hlinkClick r:id="" action="ppaction://hlinkshowjump?jump=previousslide"/>
          </p:cNvPr>
          <p:cNvSpPr/>
          <p:nvPr/>
        </p:nvSpPr>
        <p:spPr>
          <a:xfrm>
            <a:off x="8610480" y="624852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9029"/>
                </a:moveTo>
                <a:lnTo>
                  <a:pt x="7301" y="9029"/>
                </a:lnTo>
                <a:lnTo>
                  <a:pt x="7301" y="14365"/>
                </a:lnTo>
                <a:cubicBezTo>
                  <a:pt x="7301" y="15287"/>
                  <a:pt x="8102" y="16018"/>
                  <a:pt x="9138" y="16018"/>
                </a:cubicBezTo>
                <a:lnTo>
                  <a:pt x="10800" y="16018"/>
                </a:lnTo>
                <a:cubicBezTo>
                  <a:pt x="11836" y="16018"/>
                  <a:pt x="12636" y="15287"/>
                  <a:pt x="12636" y="14365"/>
                </a:cubicBezTo>
                <a:lnTo>
                  <a:pt x="12636" y="9029"/>
                </a:lnTo>
                <a:lnTo>
                  <a:pt x="10800" y="9029"/>
                </a:lnTo>
                <a:lnTo>
                  <a:pt x="14308" y="5522"/>
                </a:lnTo>
                <a:lnTo>
                  <a:pt x="17981" y="9029"/>
                </a:lnTo>
                <a:lnTo>
                  <a:pt x="16144" y="9029"/>
                </a:lnTo>
                <a:lnTo>
                  <a:pt x="16144" y="14365"/>
                </a:lnTo>
                <a:cubicBezTo>
                  <a:pt x="16144" y="17132"/>
                  <a:pt x="13568" y="19691"/>
                  <a:pt x="10800" y="19691"/>
                </a:cubicBezTo>
                <a:lnTo>
                  <a:pt x="9138" y="19691"/>
                </a:lnTo>
                <a:cubicBezTo>
                  <a:pt x="6370" y="19691"/>
                  <a:pt x="3794" y="17132"/>
                  <a:pt x="3794" y="14365"/>
                </a:cubicBez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eaeaea"/>
                </a:solidFill>
                <a:latin typeface="Verdana"/>
              </a:rPr>
              <a:t>40 баллов.</a:t>
            </a:r>
            <a:endParaRPr b="0" lang="en-US" sz="6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aeaea"/>
                </a:solidFill>
                <a:latin typeface="Verdana"/>
              </a:rPr>
              <a:t>Гениальный французский ученый, создатель аналитической геометрии, основанной на методе координат.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7" name="AutoShape 3">
            <a:hlinkClick r:id="" action="ppaction://hlinkshowjump?jump=previousslide"/>
          </p:cNvPr>
          <p:cNvSpPr/>
          <p:nvPr/>
        </p:nvSpPr>
        <p:spPr>
          <a:xfrm>
            <a:off x="8458200" y="62485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7493"/>
                </a:moveTo>
                <a:lnTo>
                  <a:pt x="8653" y="7493"/>
                </a:lnTo>
                <a:lnTo>
                  <a:pt x="8653" y="12828"/>
                </a:lnTo>
                <a:cubicBezTo>
                  <a:pt x="8653" y="13751"/>
                  <a:pt x="9453" y="14482"/>
                  <a:pt x="10489" y="14482"/>
                </a:cubicBezTo>
                <a:lnTo>
                  <a:pt x="12152" y="14482"/>
                </a:lnTo>
                <a:cubicBezTo>
                  <a:pt x="13187" y="14482"/>
                  <a:pt x="13988" y="13751"/>
                  <a:pt x="13988" y="12828"/>
                </a:cubicBezTo>
                <a:lnTo>
                  <a:pt x="13988" y="7493"/>
                </a:lnTo>
                <a:lnTo>
                  <a:pt x="12152" y="7493"/>
                </a:lnTo>
                <a:lnTo>
                  <a:pt x="15659" y="3985"/>
                </a:lnTo>
                <a:lnTo>
                  <a:pt x="19332" y="7493"/>
                </a:lnTo>
                <a:lnTo>
                  <a:pt x="17496" y="7493"/>
                </a:lnTo>
                <a:lnTo>
                  <a:pt x="17496" y="12828"/>
                </a:lnTo>
                <a:cubicBezTo>
                  <a:pt x="17496" y="15596"/>
                  <a:pt x="14919" y="18155"/>
                  <a:pt x="12152" y="18155"/>
                </a:cubicBezTo>
                <a:lnTo>
                  <a:pt x="10489" y="18155"/>
                </a:lnTo>
                <a:cubicBezTo>
                  <a:pt x="7721" y="18155"/>
                  <a:pt x="5145" y="15596"/>
                  <a:pt x="5145" y="12828"/>
                </a:cubicBez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eaeaea"/>
                </a:solidFill>
                <a:latin typeface="Verdana"/>
              </a:rPr>
              <a:t>10 баллов.</a:t>
            </a:r>
            <a:endParaRPr b="0" lang="en-US" sz="6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eaeaea"/>
                </a:solidFill>
                <a:latin typeface="Verdana"/>
              </a:rPr>
              <a:t>2,54 см</a:t>
            </a:r>
            <a:endParaRPr b="0" lang="en-US" sz="6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9" name="AutoShape 3">
            <a:hlinkClick r:id="" action="ppaction://hlinkshowjump?jump=previousslide"/>
          </p:cNvPr>
          <p:cNvSpPr/>
          <p:nvPr/>
        </p:nvSpPr>
        <p:spPr>
          <a:xfrm>
            <a:off x="84582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eaeaea"/>
                </a:solidFill>
                <a:latin typeface="Verdana"/>
              </a:rPr>
              <a:t>20 баллов.</a:t>
            </a:r>
            <a:endParaRPr b="0" lang="en-US" sz="6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eaeaea"/>
                </a:solidFill>
                <a:latin typeface="Verdana"/>
              </a:rPr>
              <a:t>17,78 см</a:t>
            </a:r>
            <a:endParaRPr b="0" lang="en-US" sz="6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1" name="AutoShape 3">
            <a:hlinkClick r:id="" action="ppaction://hlinkshowjump?jump=previousslide"/>
          </p:cNvPr>
          <p:cNvSpPr/>
          <p:nvPr/>
        </p:nvSpPr>
        <p:spPr>
          <a:xfrm>
            <a:off x="84582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eaeaea"/>
                </a:solidFill>
                <a:latin typeface="Verdana"/>
              </a:rPr>
              <a:t>30 баллов.</a:t>
            </a:r>
            <a:endParaRPr b="0" lang="en-US" sz="6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eaeaea"/>
                </a:solidFill>
                <a:latin typeface="Verdana"/>
              </a:rPr>
              <a:t>1,0668 км</a:t>
            </a:r>
            <a:endParaRPr b="0" lang="en-US" sz="6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3" name="AutoShape 3">
            <a:hlinkClick r:id="" action="ppaction://hlinkshowjump?jump=previousslide"/>
          </p:cNvPr>
          <p:cNvSpPr/>
          <p:nvPr/>
        </p:nvSpPr>
        <p:spPr>
          <a:xfrm>
            <a:off x="84582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eaeaea"/>
                </a:solidFill>
                <a:latin typeface="Verdana"/>
              </a:rPr>
              <a:t>40 баллов.</a:t>
            </a:r>
            <a:endParaRPr b="0" lang="en-US" sz="6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eaeaea"/>
                </a:solidFill>
                <a:latin typeface="Verdana"/>
              </a:rPr>
              <a:t>44 см</a:t>
            </a:r>
            <a:endParaRPr b="0" lang="en-US" sz="6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5" name="AutoShape 3">
            <a:hlinkClick r:id="" action="ppaction://hlinkshowjump?jump=previousslide"/>
          </p:cNvPr>
          <p:cNvSpPr/>
          <p:nvPr/>
        </p:nvSpPr>
        <p:spPr>
          <a:xfrm>
            <a:off x="8229600" y="58672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6095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eaeaea"/>
                </a:solidFill>
                <a:latin typeface="Arial"/>
              </a:rPr>
              <a:t>10 баллов.</a:t>
            </a:r>
            <a:br>
              <a:rPr sz="4800"/>
            </a:br>
            <a:r>
              <a:rPr b="0" lang="ru-RU" sz="4800" spc="-1" strike="noStrike">
                <a:solidFill>
                  <a:srgbClr val="eaeaea"/>
                </a:solidFill>
                <a:latin typeface="Arial"/>
              </a:rPr>
              <a:t>Шла баба в Москву и повстречала трёх мужиков. Каждый из них нёс по мешку, в каждом мешке по кошке. Сколько существ направлялось в Москву? 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AutoShape 3">
            <a:hlinkClick r:id="" action="ppaction://hlinkshowjump?jump=previousslide"/>
          </p:cNvPr>
          <p:cNvSpPr/>
          <p:nvPr/>
        </p:nvSpPr>
        <p:spPr>
          <a:xfrm>
            <a:off x="8458200" y="6283440"/>
            <a:ext cx="685800" cy="574560"/>
          </a:xfrm>
          <a:custGeom>
            <a:avLst/>
            <a:gdLst>
              <a:gd name="textAreaLeft" fmla="*/ 37080 w 685800"/>
              <a:gd name="textAreaRight" fmla="*/ 648720 w 68580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25779" h="21600">
                <a:moveTo>
                  <a:pt x="0" y="0"/>
                </a:moveTo>
                <a:lnTo>
                  <a:pt x="25779" y="0"/>
                </a:lnTo>
                <a:lnTo>
                  <a:pt x="25779" y="21600"/>
                </a:lnTo>
                <a:lnTo>
                  <a:pt x="0" y="21600"/>
                </a:lnTo>
                <a:close/>
              </a:path>
              <a:path fill="lightenLess" w="25779" h="21600">
                <a:moveTo>
                  <a:pt x="0" y="0"/>
                </a:moveTo>
                <a:lnTo>
                  <a:pt x="25779" y="0"/>
                </a:lnTo>
                <a:lnTo>
                  <a:pt x="24379" y="1400"/>
                </a:lnTo>
                <a:lnTo>
                  <a:pt x="1400" y="1400"/>
                </a:lnTo>
                <a:close/>
              </a:path>
              <a:path fill="darken" w="25779" h="21600">
                <a:moveTo>
                  <a:pt x="25779" y="0"/>
                </a:moveTo>
                <a:lnTo>
                  <a:pt x="25779" y="21600"/>
                </a:lnTo>
                <a:lnTo>
                  <a:pt x="24379" y="20200"/>
                </a:lnTo>
                <a:lnTo>
                  <a:pt x="24379" y="1400"/>
                </a:lnTo>
                <a:close/>
              </a:path>
              <a:path fill="darkenLess" w="25779" h="21600">
                <a:moveTo>
                  <a:pt x="25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79" y="20200"/>
                </a:lnTo>
                <a:close/>
              </a:path>
              <a:path fill="lighten" w="25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79" h="21600">
                <a:moveTo>
                  <a:pt x="5883" y="7493"/>
                </a:moveTo>
                <a:lnTo>
                  <a:pt x="9391" y="7493"/>
                </a:lnTo>
                <a:lnTo>
                  <a:pt x="9391" y="12828"/>
                </a:lnTo>
                <a:cubicBezTo>
                  <a:pt x="9391" y="13751"/>
                  <a:pt x="10192" y="14482"/>
                  <a:pt x="11227" y="14482"/>
                </a:cubicBezTo>
                <a:lnTo>
                  <a:pt x="12890" y="14482"/>
                </a:lnTo>
                <a:cubicBezTo>
                  <a:pt x="13925" y="14482"/>
                  <a:pt x="14726" y="13751"/>
                  <a:pt x="14726" y="12828"/>
                </a:cubicBezTo>
                <a:lnTo>
                  <a:pt x="14726" y="7493"/>
                </a:lnTo>
                <a:lnTo>
                  <a:pt x="12890" y="7493"/>
                </a:lnTo>
                <a:lnTo>
                  <a:pt x="16397" y="3985"/>
                </a:lnTo>
                <a:lnTo>
                  <a:pt x="20070" y="7493"/>
                </a:lnTo>
                <a:lnTo>
                  <a:pt x="18234" y="7493"/>
                </a:lnTo>
                <a:lnTo>
                  <a:pt x="18234" y="12828"/>
                </a:lnTo>
                <a:cubicBezTo>
                  <a:pt x="18234" y="15596"/>
                  <a:pt x="15657" y="18155"/>
                  <a:pt x="12890" y="18155"/>
                </a:cubicBezTo>
                <a:lnTo>
                  <a:pt x="11227" y="18155"/>
                </a:lnTo>
                <a:cubicBezTo>
                  <a:pt x="8459" y="18155"/>
                  <a:pt x="5883" y="15596"/>
                  <a:pt x="5883" y="12828"/>
                </a:cubicBez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457200" y="228240"/>
            <a:ext cx="822960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eaeaea"/>
                </a:solidFill>
                <a:latin typeface="Verdana"/>
              </a:rPr>
              <a:t>20 баллов.</a:t>
            </a:r>
            <a:endParaRPr b="0" lang="en-US" sz="6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aeaea"/>
                </a:solidFill>
                <a:latin typeface="Verdana"/>
              </a:rPr>
              <a:t>Летела стая гусей: один гусь впереди, а два позади, один позади, и два впереди; один между двумя и три в ряд. Сколько было гусей? 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9" name="AutoShape 3">
            <a:hlinkClick r:id="" action="ppaction://hlinkshowjump?jump=previousslide"/>
          </p:cNvPr>
          <p:cNvSpPr/>
          <p:nvPr/>
        </p:nvSpPr>
        <p:spPr>
          <a:xfrm>
            <a:off x="8244000" y="5950080"/>
            <a:ext cx="900000" cy="755640"/>
          </a:xfrm>
          <a:custGeom>
            <a:avLst/>
            <a:gdLst>
              <a:gd name="textAreaLeft" fmla="*/ 48960 w 900000"/>
              <a:gd name="textAreaRight" fmla="*/ 851040 w 900000"/>
              <a:gd name="textAreaTop" fmla="*/ 48960 h 755640"/>
              <a:gd name="textAreaBottom" fmla="*/ 706680 h 755640"/>
            </a:gdLst>
            <a:ahLst/>
            <a:rect l="textAreaLeft" t="textAreaTop" r="textAreaRight" b="textAreaBottom"/>
            <a:pathLst>
              <a:path w="25725" h="21600">
                <a:moveTo>
                  <a:pt x="0" y="0"/>
                </a:moveTo>
                <a:lnTo>
                  <a:pt x="25725" y="0"/>
                </a:lnTo>
                <a:lnTo>
                  <a:pt x="25725" y="21600"/>
                </a:lnTo>
                <a:lnTo>
                  <a:pt x="0" y="21600"/>
                </a:lnTo>
                <a:close/>
              </a:path>
              <a:path fill="lightenLess" w="25725" h="21600">
                <a:moveTo>
                  <a:pt x="0" y="0"/>
                </a:moveTo>
                <a:lnTo>
                  <a:pt x="25725" y="0"/>
                </a:lnTo>
                <a:lnTo>
                  <a:pt x="24325" y="1400"/>
                </a:lnTo>
                <a:lnTo>
                  <a:pt x="1400" y="1400"/>
                </a:lnTo>
                <a:close/>
              </a:path>
              <a:path fill="darken" w="25725" h="21600">
                <a:moveTo>
                  <a:pt x="25725" y="0"/>
                </a:moveTo>
                <a:lnTo>
                  <a:pt x="25725" y="21600"/>
                </a:lnTo>
                <a:lnTo>
                  <a:pt x="24325" y="20200"/>
                </a:lnTo>
                <a:lnTo>
                  <a:pt x="24325" y="1400"/>
                </a:lnTo>
                <a:close/>
              </a:path>
              <a:path fill="darkenLess" w="25725" h="21600">
                <a:moveTo>
                  <a:pt x="257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25" y="20200"/>
                </a:lnTo>
                <a:close/>
              </a:path>
              <a:path fill="lighten" w="257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25" h="21600">
                <a:moveTo>
                  <a:pt x="5856" y="7493"/>
                </a:moveTo>
                <a:lnTo>
                  <a:pt x="9363" y="7493"/>
                </a:lnTo>
                <a:lnTo>
                  <a:pt x="9363" y="12828"/>
                </a:lnTo>
                <a:cubicBezTo>
                  <a:pt x="9363" y="13751"/>
                  <a:pt x="10164" y="14482"/>
                  <a:pt x="11200" y="14482"/>
                </a:cubicBezTo>
                <a:lnTo>
                  <a:pt x="12862" y="14482"/>
                </a:lnTo>
                <a:cubicBezTo>
                  <a:pt x="13898" y="14482"/>
                  <a:pt x="14699" y="13751"/>
                  <a:pt x="14699" y="12828"/>
                </a:cubicBezTo>
                <a:lnTo>
                  <a:pt x="14699" y="7493"/>
                </a:lnTo>
                <a:lnTo>
                  <a:pt x="12862" y="7493"/>
                </a:lnTo>
                <a:lnTo>
                  <a:pt x="16370" y="3985"/>
                </a:lnTo>
                <a:lnTo>
                  <a:pt x="20043" y="7493"/>
                </a:lnTo>
                <a:lnTo>
                  <a:pt x="18206" y="7493"/>
                </a:lnTo>
                <a:lnTo>
                  <a:pt x="18206" y="12828"/>
                </a:lnTo>
                <a:cubicBezTo>
                  <a:pt x="18206" y="15596"/>
                  <a:pt x="15630" y="18155"/>
                  <a:pt x="12862" y="18155"/>
                </a:cubicBezTo>
                <a:lnTo>
                  <a:pt x="11200" y="18155"/>
                </a:lnTo>
                <a:cubicBezTo>
                  <a:pt x="8432" y="18155"/>
                  <a:pt x="5856" y="15596"/>
                  <a:pt x="5856" y="12828"/>
                </a:cubicBez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457200" y="228240"/>
            <a:ext cx="822960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eaeaea"/>
                </a:solidFill>
                <a:latin typeface="Verdana"/>
              </a:rPr>
              <a:t>30 баллов.</a:t>
            </a:r>
            <a:endParaRPr b="0" lang="en-US" sz="6000" spc="-1" strike="noStrike">
              <a:solidFill>
                <a:srgbClr val="eaeaea"/>
              </a:solidFill>
              <a:latin typeface="Verdana"/>
            </a:endParaRPr>
          </a:p>
          <a:p>
            <a:pPr marL="305280" indent="-3052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Росло четыре березы, на каждой березе по четыре больших ветки, на каждой </a:t>
            </a:r>
            <a:br>
              <a:rPr sz="4000"/>
            </a:b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большой ветке по четыре маленьких ветки, на каждой маленькой ветке </a:t>
            </a:r>
            <a:br>
              <a:rPr sz="4000"/>
            </a:b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по четыре яблока. Сколько всего яблок?</a:t>
            </a:r>
            <a:br>
              <a:rPr sz="4000"/>
            </a:b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1" name="AutoShape 3">
            <a:hlinkClick r:id="" action="ppaction://hlinkshowjump?jump=previousslide"/>
          </p:cNvPr>
          <p:cNvSpPr/>
          <p:nvPr/>
        </p:nvSpPr>
        <p:spPr>
          <a:xfrm>
            <a:off x="8244000" y="5950080"/>
            <a:ext cx="900000" cy="755640"/>
          </a:xfrm>
          <a:custGeom>
            <a:avLst/>
            <a:gdLst>
              <a:gd name="textAreaLeft" fmla="*/ 48960 w 900000"/>
              <a:gd name="textAreaRight" fmla="*/ 851040 w 900000"/>
              <a:gd name="textAreaTop" fmla="*/ 48960 h 755640"/>
              <a:gd name="textAreaBottom" fmla="*/ 706680 h 755640"/>
            </a:gdLst>
            <a:ahLst/>
            <a:rect l="textAreaLeft" t="textAreaTop" r="textAreaRight" b="textAreaBottom"/>
            <a:pathLst>
              <a:path w="25725" h="21600">
                <a:moveTo>
                  <a:pt x="0" y="0"/>
                </a:moveTo>
                <a:lnTo>
                  <a:pt x="25725" y="0"/>
                </a:lnTo>
                <a:lnTo>
                  <a:pt x="25725" y="21600"/>
                </a:lnTo>
                <a:lnTo>
                  <a:pt x="0" y="21600"/>
                </a:lnTo>
                <a:close/>
              </a:path>
              <a:path fill="lightenLess" w="25725" h="21600">
                <a:moveTo>
                  <a:pt x="0" y="0"/>
                </a:moveTo>
                <a:lnTo>
                  <a:pt x="25725" y="0"/>
                </a:lnTo>
                <a:lnTo>
                  <a:pt x="24325" y="1400"/>
                </a:lnTo>
                <a:lnTo>
                  <a:pt x="1400" y="1400"/>
                </a:lnTo>
                <a:close/>
              </a:path>
              <a:path fill="darken" w="25725" h="21600">
                <a:moveTo>
                  <a:pt x="25725" y="0"/>
                </a:moveTo>
                <a:lnTo>
                  <a:pt x="25725" y="21600"/>
                </a:lnTo>
                <a:lnTo>
                  <a:pt x="24325" y="20200"/>
                </a:lnTo>
                <a:lnTo>
                  <a:pt x="24325" y="1400"/>
                </a:lnTo>
                <a:close/>
              </a:path>
              <a:path fill="darkenLess" w="25725" h="21600">
                <a:moveTo>
                  <a:pt x="257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25" y="20200"/>
                </a:lnTo>
                <a:close/>
              </a:path>
              <a:path fill="lighten" w="257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25" h="21600">
                <a:moveTo>
                  <a:pt x="5856" y="7493"/>
                </a:moveTo>
                <a:lnTo>
                  <a:pt x="9363" y="7493"/>
                </a:lnTo>
                <a:lnTo>
                  <a:pt x="9363" y="12828"/>
                </a:lnTo>
                <a:cubicBezTo>
                  <a:pt x="9363" y="13751"/>
                  <a:pt x="10164" y="14482"/>
                  <a:pt x="11200" y="14482"/>
                </a:cubicBezTo>
                <a:lnTo>
                  <a:pt x="12862" y="14482"/>
                </a:lnTo>
                <a:cubicBezTo>
                  <a:pt x="13898" y="14482"/>
                  <a:pt x="14699" y="13751"/>
                  <a:pt x="14699" y="12828"/>
                </a:cubicBezTo>
                <a:lnTo>
                  <a:pt x="14699" y="7493"/>
                </a:lnTo>
                <a:lnTo>
                  <a:pt x="12862" y="7493"/>
                </a:lnTo>
                <a:lnTo>
                  <a:pt x="16370" y="3985"/>
                </a:lnTo>
                <a:lnTo>
                  <a:pt x="20043" y="7493"/>
                </a:lnTo>
                <a:lnTo>
                  <a:pt x="18206" y="7493"/>
                </a:lnTo>
                <a:lnTo>
                  <a:pt x="18206" y="12828"/>
                </a:lnTo>
                <a:cubicBezTo>
                  <a:pt x="18206" y="15596"/>
                  <a:pt x="15630" y="18155"/>
                  <a:pt x="12862" y="18155"/>
                </a:cubicBezTo>
                <a:lnTo>
                  <a:pt x="11200" y="18155"/>
                </a:lnTo>
                <a:cubicBezTo>
                  <a:pt x="8432" y="18155"/>
                  <a:pt x="5856" y="15596"/>
                  <a:pt x="5856" y="12828"/>
                </a:cubicBez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1 раунд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2438280"/>
                <a:gridCol w="1447920"/>
                <a:gridCol w="1447920"/>
                <a:gridCol w="1523880"/>
                <a:gridCol w="1371600"/>
              </a:tblGrid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ff"/>
                          </a:solidFill>
                          <a:latin typeface="Verdana"/>
                        </a:rPr>
                        <a:t>Сколько?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eec85e"/>
                          </a:solidFill>
                          <a:uFillTx/>
                          <a:latin typeface="Verdana"/>
                          <a:hlinkClick r:id="rId1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eec85e"/>
                          </a:solidFill>
                          <a:uFillTx/>
                          <a:latin typeface="Verdana"/>
                          <a:hlinkClick r:id="rId2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eec85e"/>
                          </a:solidFill>
                          <a:uFillTx/>
                          <a:latin typeface="Verdana"/>
                          <a:hlinkClick r:id="rId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eec85e"/>
                          </a:solidFill>
                          <a:uFillTx/>
                          <a:latin typeface="Verdana"/>
                          <a:hlinkClick r:id="rId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ff"/>
                          </a:solidFill>
                          <a:latin typeface="Verdana"/>
                        </a:rPr>
                        <a:t>Великие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ff"/>
                          </a:solidFill>
                          <a:latin typeface="Verdana"/>
                        </a:rPr>
                        <a:t>математик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eec85e"/>
                          </a:solidFill>
                          <a:uFillTx/>
                          <a:latin typeface="Verdana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eec85e"/>
                          </a:solidFill>
                          <a:uFillTx/>
                          <a:latin typeface="Verdana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eec85e"/>
                          </a:solidFill>
                          <a:uFillTx/>
                          <a:latin typeface="Verdana"/>
                          <a:hlinkClick r:id="rId7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eec85e"/>
                          </a:solidFill>
                          <a:uFillTx/>
                          <a:latin typeface="Verdana"/>
                          <a:hlinkClick r:id="rId8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5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ff"/>
                          </a:solidFill>
                          <a:latin typeface="Verdana"/>
                        </a:rPr>
                        <a:t>Старинные меры длины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eec85e"/>
                          </a:solidFill>
                          <a:uFillTx/>
                          <a:latin typeface="Verdana"/>
                          <a:hlinkClick r:id="rId9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eec85e"/>
                          </a:solidFill>
                          <a:uFillTx/>
                          <a:latin typeface="Verdana"/>
                          <a:hlinkClick r:id="rId10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eec85e"/>
                          </a:solidFill>
                          <a:uFillTx/>
                          <a:latin typeface="Verdana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eec85e"/>
                          </a:solidFill>
                          <a:uFillTx/>
                          <a:latin typeface="Verdana"/>
                          <a:hlinkClick r:id="rId12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229600" cy="6161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eaeaea"/>
                </a:solidFill>
                <a:latin typeface="Arial"/>
              </a:rPr>
              <a:t>40 баллов.</a:t>
            </a:r>
            <a:br>
              <a:rPr sz="4800"/>
            </a:br>
            <a:r>
              <a:rPr b="0" lang="ru-RU" sz="5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eaeaea"/>
                </a:solidFill>
                <a:latin typeface="Arial"/>
              </a:rPr>
              <a:t>Горело пять свечей. Две из них потушили. Сколько свечей останется? </a:t>
            </a:r>
            <a:br>
              <a:rPr sz="5400"/>
            </a:b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AutoShape 3">
            <a:hlinkClick r:id="" action="ppaction://hlinkshowjump?jump=previousslide"/>
          </p:cNvPr>
          <p:cNvSpPr/>
          <p:nvPr/>
        </p:nvSpPr>
        <p:spPr>
          <a:xfrm>
            <a:off x="8381880" y="62485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12952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eaeaea"/>
                </a:solidFill>
                <a:latin typeface="Arial"/>
              </a:rPr>
              <a:t>10 баллов.</a:t>
            </a:r>
            <a:br>
              <a:rPr sz="7200"/>
            </a:br>
            <a:br>
              <a:rPr sz="7200"/>
            </a:br>
            <a:endParaRPr b="0" lang="en-US" sz="7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AutoShape 3">
            <a:hlinkClick r:id="" action="ppaction://hlinkshowjump?jump=previousslide"/>
          </p:cNvPr>
          <p:cNvSpPr/>
          <p:nvPr/>
        </p:nvSpPr>
        <p:spPr>
          <a:xfrm>
            <a:off x="8305920" y="6095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6" name="Рисунок 3" descr="Ребусы по математике"/>
          <p:cNvPicPr/>
          <p:nvPr/>
        </p:nvPicPr>
        <p:blipFill>
          <a:blip r:embed="rId1"/>
          <a:stretch/>
        </p:blipFill>
        <p:spPr>
          <a:xfrm>
            <a:off x="2362320" y="3000240"/>
            <a:ext cx="457200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eaeaea"/>
                </a:solidFill>
                <a:latin typeface="Arial"/>
              </a:rPr>
              <a:t>20 баллов.</a:t>
            </a: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AutoShape 3">
            <a:hlinkClick r:id="" action="ppaction://hlinkshowjump?jump=previousslide"/>
          </p:cNvPr>
          <p:cNvSpPr/>
          <p:nvPr/>
        </p:nvSpPr>
        <p:spPr>
          <a:xfrm>
            <a:off x="8153280" y="6095880"/>
            <a:ext cx="738360" cy="762120"/>
          </a:xfrm>
          <a:custGeom>
            <a:avLst/>
            <a:gdLst>
              <a:gd name="textAreaLeft" fmla="*/ 47880 w 738360"/>
              <a:gd name="textAreaRight" fmla="*/ 690840 w 738360"/>
              <a:gd name="textAreaTop" fmla="*/ 47880 h 762120"/>
              <a:gd name="textAreaBottom" fmla="*/ 714600 h 762120"/>
            </a:gdLst>
            <a:ahLst/>
            <a:rect l="textAreaLeft" t="textAreaTop" r="textAreaRight" b="textAreaBottom"/>
            <a:pathLst>
              <a:path w="21600" h="22295">
                <a:moveTo>
                  <a:pt x="0" y="0"/>
                </a:moveTo>
                <a:lnTo>
                  <a:pt x="21600" y="0"/>
                </a:lnTo>
                <a:lnTo>
                  <a:pt x="21600" y="22295"/>
                </a:lnTo>
                <a:lnTo>
                  <a:pt x="0" y="22295"/>
                </a:lnTo>
                <a:close/>
              </a:path>
              <a:path fill="lightenLess" w="21600" h="2229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95">
                <a:moveTo>
                  <a:pt x="21600" y="0"/>
                </a:moveTo>
                <a:lnTo>
                  <a:pt x="21600" y="22295"/>
                </a:lnTo>
                <a:lnTo>
                  <a:pt x="20200" y="20895"/>
                </a:lnTo>
                <a:lnTo>
                  <a:pt x="20200" y="1400"/>
                </a:lnTo>
                <a:close/>
              </a:path>
              <a:path fill="darkenLess" w="21600" h="22295">
                <a:moveTo>
                  <a:pt x="21600" y="22295"/>
                </a:moveTo>
                <a:lnTo>
                  <a:pt x="0" y="22295"/>
                </a:lnTo>
                <a:lnTo>
                  <a:pt x="1400" y="20895"/>
                </a:lnTo>
                <a:lnTo>
                  <a:pt x="20200" y="20895"/>
                </a:lnTo>
                <a:close/>
              </a:path>
              <a:path fill="lighten" w="21600" h="22295">
                <a:moveTo>
                  <a:pt x="0" y="2229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95"/>
                </a:lnTo>
                <a:close/>
              </a:path>
              <a:path fill="darken" w="21600" h="22295">
                <a:moveTo>
                  <a:pt x="3794" y="7840"/>
                </a:moveTo>
                <a:lnTo>
                  <a:pt x="7301" y="7840"/>
                </a:lnTo>
                <a:lnTo>
                  <a:pt x="7301" y="13175"/>
                </a:lnTo>
                <a:cubicBezTo>
                  <a:pt x="7301" y="14098"/>
                  <a:pt x="8102" y="14829"/>
                  <a:pt x="9138" y="14829"/>
                </a:cubicBezTo>
                <a:lnTo>
                  <a:pt x="10800" y="14829"/>
                </a:lnTo>
                <a:cubicBezTo>
                  <a:pt x="11836" y="14829"/>
                  <a:pt x="12636" y="14098"/>
                  <a:pt x="12636" y="13175"/>
                </a:cubicBezTo>
                <a:lnTo>
                  <a:pt x="12636" y="7840"/>
                </a:lnTo>
                <a:lnTo>
                  <a:pt x="10800" y="7840"/>
                </a:lnTo>
                <a:lnTo>
                  <a:pt x="14308" y="4332"/>
                </a:lnTo>
                <a:lnTo>
                  <a:pt x="17981" y="7840"/>
                </a:lnTo>
                <a:lnTo>
                  <a:pt x="16144" y="7840"/>
                </a:lnTo>
                <a:lnTo>
                  <a:pt x="16144" y="13175"/>
                </a:lnTo>
                <a:cubicBezTo>
                  <a:pt x="16144" y="15943"/>
                  <a:pt x="13568" y="18502"/>
                  <a:pt x="10800" y="18502"/>
                </a:cubicBezTo>
                <a:lnTo>
                  <a:pt x="9138" y="18502"/>
                </a:lnTo>
                <a:cubicBezTo>
                  <a:pt x="6370" y="18502"/>
                  <a:pt x="3794" y="15943"/>
                  <a:pt x="3794" y="13175"/>
                </a:cubicBez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9" name="Рисунок 3" descr="Ребусы по математике"/>
          <p:cNvPicPr/>
          <p:nvPr/>
        </p:nvPicPr>
        <p:blipFill>
          <a:blip r:embed="rId1"/>
          <a:stretch/>
        </p:blipFill>
        <p:spPr>
          <a:xfrm>
            <a:off x="2362320" y="3000240"/>
            <a:ext cx="441936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eaeaea"/>
                </a:solidFill>
                <a:latin typeface="Verdana"/>
              </a:rPr>
              <a:t>30 баллов.</a:t>
            </a:r>
            <a:endParaRPr b="0" lang="en-US" sz="6600" spc="-1" strike="noStrike">
              <a:solidFill>
                <a:srgbClr val="eaeaea"/>
              </a:solidFill>
              <a:latin typeface="Verdana"/>
            </a:endParaRPr>
          </a:p>
          <a:p>
            <a:pPr marL="312120" indent="-31212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eaeaea"/>
              </a:solidFill>
              <a:latin typeface="Verdana"/>
            </a:endParaRPr>
          </a:p>
          <a:p>
            <a:pPr marL="312120" indent="-31212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0" lang="ru-RU" sz="6600" spc="-1" strike="noStrike">
                <a:solidFill>
                  <a:srgbClr val="eaeaea"/>
                </a:solidFill>
                <a:latin typeface="Verdana"/>
              </a:rPr>
              <a:t> </a:t>
            </a:r>
            <a:br>
              <a:rPr sz="6600"/>
            </a:br>
            <a:endParaRPr b="0" lang="en-US" sz="6600" spc="-1" strike="noStrike">
              <a:solidFill>
                <a:srgbClr val="eaeaea"/>
              </a:solidFill>
              <a:latin typeface="Verdana"/>
            </a:endParaRPr>
          </a:p>
          <a:p>
            <a:pPr marL="312120" indent="-31212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1" name="AutoShape 3">
            <a:hlinkClick r:id="" action="ppaction://hlinkshowjump?jump=previousslide"/>
          </p:cNvPr>
          <p:cNvSpPr/>
          <p:nvPr/>
        </p:nvSpPr>
        <p:spPr>
          <a:xfrm>
            <a:off x="8077320" y="5562720"/>
            <a:ext cx="738000" cy="761760"/>
          </a:xfrm>
          <a:custGeom>
            <a:avLst/>
            <a:gdLst>
              <a:gd name="textAreaLeft" fmla="*/ 47520 w 738000"/>
              <a:gd name="textAreaRight" fmla="*/ 690480 w 738000"/>
              <a:gd name="textAreaTop" fmla="*/ 47520 h 761760"/>
              <a:gd name="textAreaBottom" fmla="*/ 714240 h 761760"/>
            </a:gdLst>
            <a:ahLst/>
            <a:rect l="textAreaLeft" t="textAreaTop" r="textAreaRight" b="textAreaBottom"/>
            <a:pathLst>
              <a:path w="21600" h="22295">
                <a:moveTo>
                  <a:pt x="0" y="0"/>
                </a:moveTo>
                <a:lnTo>
                  <a:pt x="21600" y="0"/>
                </a:lnTo>
                <a:lnTo>
                  <a:pt x="21600" y="22295"/>
                </a:lnTo>
                <a:lnTo>
                  <a:pt x="0" y="22295"/>
                </a:lnTo>
                <a:close/>
              </a:path>
              <a:path fill="lightenLess" w="21600" h="2229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95">
                <a:moveTo>
                  <a:pt x="21600" y="0"/>
                </a:moveTo>
                <a:lnTo>
                  <a:pt x="21600" y="22295"/>
                </a:lnTo>
                <a:lnTo>
                  <a:pt x="20200" y="20895"/>
                </a:lnTo>
                <a:lnTo>
                  <a:pt x="20200" y="1400"/>
                </a:lnTo>
                <a:close/>
              </a:path>
              <a:path fill="darkenLess" w="21600" h="22295">
                <a:moveTo>
                  <a:pt x="21600" y="22295"/>
                </a:moveTo>
                <a:lnTo>
                  <a:pt x="0" y="22295"/>
                </a:lnTo>
                <a:lnTo>
                  <a:pt x="1400" y="20895"/>
                </a:lnTo>
                <a:lnTo>
                  <a:pt x="20200" y="20895"/>
                </a:lnTo>
                <a:close/>
              </a:path>
              <a:path fill="lighten" w="21600" h="22295">
                <a:moveTo>
                  <a:pt x="0" y="2229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95"/>
                </a:lnTo>
                <a:close/>
              </a:path>
              <a:path fill="darken" w="21600" h="22295">
                <a:moveTo>
                  <a:pt x="3794" y="7840"/>
                </a:moveTo>
                <a:lnTo>
                  <a:pt x="7301" y="7840"/>
                </a:lnTo>
                <a:lnTo>
                  <a:pt x="7301" y="13176"/>
                </a:lnTo>
                <a:cubicBezTo>
                  <a:pt x="7301" y="14098"/>
                  <a:pt x="8102" y="14829"/>
                  <a:pt x="9138" y="14829"/>
                </a:cubicBezTo>
                <a:lnTo>
                  <a:pt x="10800" y="14829"/>
                </a:lnTo>
                <a:cubicBezTo>
                  <a:pt x="11836" y="14829"/>
                  <a:pt x="12636" y="14098"/>
                  <a:pt x="12636" y="13176"/>
                </a:cubicBezTo>
                <a:lnTo>
                  <a:pt x="12636" y="7840"/>
                </a:lnTo>
                <a:lnTo>
                  <a:pt x="10800" y="7840"/>
                </a:lnTo>
                <a:lnTo>
                  <a:pt x="14308" y="4333"/>
                </a:lnTo>
                <a:lnTo>
                  <a:pt x="17981" y="7840"/>
                </a:lnTo>
                <a:lnTo>
                  <a:pt x="16144" y="7840"/>
                </a:lnTo>
                <a:lnTo>
                  <a:pt x="16144" y="13176"/>
                </a:lnTo>
                <a:cubicBezTo>
                  <a:pt x="16144" y="15943"/>
                  <a:pt x="13568" y="18502"/>
                  <a:pt x="10800" y="18502"/>
                </a:cubicBezTo>
                <a:lnTo>
                  <a:pt x="9138" y="18502"/>
                </a:lnTo>
                <a:cubicBezTo>
                  <a:pt x="6370" y="18502"/>
                  <a:pt x="3794" y="15943"/>
                  <a:pt x="3794" y="13176"/>
                </a:cubicBez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2" name="Рисунок 3" descr="Ребусы по математике"/>
          <p:cNvPicPr/>
          <p:nvPr/>
        </p:nvPicPr>
        <p:blipFill>
          <a:blip r:embed="rId1"/>
          <a:stretch/>
        </p:blipFill>
        <p:spPr>
          <a:xfrm>
            <a:off x="2286000" y="3000240"/>
            <a:ext cx="464832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Прямоугольник 1"/>
          <p:cNvSpPr/>
          <p:nvPr/>
        </p:nvSpPr>
        <p:spPr>
          <a:xfrm>
            <a:off x="533520" y="685800"/>
            <a:ext cx="81532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eaeaea"/>
                </a:solidFill>
                <a:latin typeface="Verdana"/>
              </a:rPr>
              <a:t>40 баллов.</a:t>
            </a:r>
            <a:endParaRPr b="0" lang="en-US" sz="66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0" lang="ru-RU" sz="6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6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4" name="AutoShape 3">
            <a:hlinkClick r:id="" action="ppaction://hlinkshowjump?jump=previousslide"/>
          </p:cNvPr>
          <p:cNvSpPr/>
          <p:nvPr/>
        </p:nvSpPr>
        <p:spPr>
          <a:xfrm>
            <a:off x="8077320" y="5562720"/>
            <a:ext cx="738000" cy="761760"/>
          </a:xfrm>
          <a:custGeom>
            <a:avLst/>
            <a:gdLst>
              <a:gd name="textAreaLeft" fmla="*/ 47520 w 738000"/>
              <a:gd name="textAreaRight" fmla="*/ 690480 w 738000"/>
              <a:gd name="textAreaTop" fmla="*/ 47520 h 761760"/>
              <a:gd name="textAreaBottom" fmla="*/ 714240 h 761760"/>
            </a:gdLst>
            <a:ahLst/>
            <a:rect l="textAreaLeft" t="textAreaTop" r="textAreaRight" b="textAreaBottom"/>
            <a:pathLst>
              <a:path w="21600" h="22295">
                <a:moveTo>
                  <a:pt x="0" y="0"/>
                </a:moveTo>
                <a:lnTo>
                  <a:pt x="21600" y="0"/>
                </a:lnTo>
                <a:lnTo>
                  <a:pt x="21600" y="22295"/>
                </a:lnTo>
                <a:lnTo>
                  <a:pt x="0" y="22295"/>
                </a:lnTo>
                <a:close/>
              </a:path>
              <a:path fill="lightenLess" w="21600" h="2229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95">
                <a:moveTo>
                  <a:pt x="21600" y="0"/>
                </a:moveTo>
                <a:lnTo>
                  <a:pt x="21600" y="22295"/>
                </a:lnTo>
                <a:lnTo>
                  <a:pt x="20200" y="20895"/>
                </a:lnTo>
                <a:lnTo>
                  <a:pt x="20200" y="1400"/>
                </a:lnTo>
                <a:close/>
              </a:path>
              <a:path fill="darkenLess" w="21600" h="22295">
                <a:moveTo>
                  <a:pt x="21600" y="22295"/>
                </a:moveTo>
                <a:lnTo>
                  <a:pt x="0" y="22295"/>
                </a:lnTo>
                <a:lnTo>
                  <a:pt x="1400" y="20895"/>
                </a:lnTo>
                <a:lnTo>
                  <a:pt x="20200" y="20895"/>
                </a:lnTo>
                <a:close/>
              </a:path>
              <a:path fill="lighten" w="21600" h="22295">
                <a:moveTo>
                  <a:pt x="0" y="2229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95"/>
                </a:lnTo>
                <a:close/>
              </a:path>
              <a:path fill="darken" w="21600" h="22295">
                <a:moveTo>
                  <a:pt x="3794" y="7840"/>
                </a:moveTo>
                <a:lnTo>
                  <a:pt x="7301" y="7840"/>
                </a:lnTo>
                <a:lnTo>
                  <a:pt x="7301" y="13176"/>
                </a:lnTo>
                <a:cubicBezTo>
                  <a:pt x="7301" y="14098"/>
                  <a:pt x="8102" y="14829"/>
                  <a:pt x="9138" y="14829"/>
                </a:cubicBezTo>
                <a:lnTo>
                  <a:pt x="10800" y="14829"/>
                </a:lnTo>
                <a:cubicBezTo>
                  <a:pt x="11836" y="14829"/>
                  <a:pt x="12636" y="14098"/>
                  <a:pt x="12636" y="13176"/>
                </a:cubicBezTo>
                <a:lnTo>
                  <a:pt x="12636" y="7840"/>
                </a:lnTo>
                <a:lnTo>
                  <a:pt x="10800" y="7840"/>
                </a:lnTo>
                <a:lnTo>
                  <a:pt x="14308" y="4333"/>
                </a:lnTo>
                <a:lnTo>
                  <a:pt x="17981" y="7840"/>
                </a:lnTo>
                <a:lnTo>
                  <a:pt x="16144" y="7840"/>
                </a:lnTo>
                <a:lnTo>
                  <a:pt x="16144" y="13176"/>
                </a:lnTo>
                <a:cubicBezTo>
                  <a:pt x="16144" y="15943"/>
                  <a:pt x="13568" y="18502"/>
                  <a:pt x="10800" y="18502"/>
                </a:cubicBezTo>
                <a:lnTo>
                  <a:pt x="9138" y="18502"/>
                </a:lnTo>
                <a:cubicBezTo>
                  <a:pt x="6370" y="18502"/>
                  <a:pt x="3794" y="15943"/>
                  <a:pt x="3794" y="13176"/>
                </a:cubicBez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5" name="Рисунок 3" descr="Ребусы по математике"/>
          <p:cNvPicPr/>
          <p:nvPr/>
        </p:nvPicPr>
        <p:blipFill>
          <a:blip r:embed="rId1"/>
          <a:stretch/>
        </p:blipFill>
        <p:spPr>
          <a:xfrm>
            <a:off x="1981080" y="2057400"/>
            <a:ext cx="49532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Прямоугольник 1"/>
          <p:cNvSpPr/>
          <p:nvPr/>
        </p:nvSpPr>
        <p:spPr>
          <a:xfrm>
            <a:off x="1143000" y="1219320"/>
            <a:ext cx="71629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eaeaea"/>
                </a:solidFill>
                <a:latin typeface="Verdana"/>
              </a:rPr>
              <a:t>10 баллов.</a:t>
            </a:r>
            <a:endParaRPr b="0" lang="en-US" sz="66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eaeaea"/>
                </a:solidFill>
                <a:latin typeface="Verdana"/>
              </a:rPr>
              <a:t>Сто одежек, и все без застежек.</a:t>
            </a:r>
            <a:endParaRPr b="0" lang="en-US" sz="6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7" name="AutoShape 3">
            <a:hlinkClick r:id="" action="ppaction://hlinkshowjump?jump=previousslide"/>
          </p:cNvPr>
          <p:cNvSpPr/>
          <p:nvPr/>
        </p:nvSpPr>
        <p:spPr>
          <a:xfrm>
            <a:off x="8077320" y="5562720"/>
            <a:ext cx="738000" cy="761760"/>
          </a:xfrm>
          <a:custGeom>
            <a:avLst/>
            <a:gdLst>
              <a:gd name="textAreaLeft" fmla="*/ 47520 w 738000"/>
              <a:gd name="textAreaRight" fmla="*/ 690480 w 738000"/>
              <a:gd name="textAreaTop" fmla="*/ 47520 h 761760"/>
              <a:gd name="textAreaBottom" fmla="*/ 714240 h 761760"/>
            </a:gdLst>
            <a:ahLst/>
            <a:rect l="textAreaLeft" t="textAreaTop" r="textAreaRight" b="textAreaBottom"/>
            <a:pathLst>
              <a:path w="21600" h="22295">
                <a:moveTo>
                  <a:pt x="0" y="0"/>
                </a:moveTo>
                <a:lnTo>
                  <a:pt x="21600" y="0"/>
                </a:lnTo>
                <a:lnTo>
                  <a:pt x="21600" y="22295"/>
                </a:lnTo>
                <a:lnTo>
                  <a:pt x="0" y="22295"/>
                </a:lnTo>
                <a:close/>
              </a:path>
              <a:path fill="lightenLess" w="21600" h="2229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95">
                <a:moveTo>
                  <a:pt x="21600" y="0"/>
                </a:moveTo>
                <a:lnTo>
                  <a:pt x="21600" y="22295"/>
                </a:lnTo>
                <a:lnTo>
                  <a:pt x="20200" y="20895"/>
                </a:lnTo>
                <a:lnTo>
                  <a:pt x="20200" y="1400"/>
                </a:lnTo>
                <a:close/>
              </a:path>
              <a:path fill="darkenLess" w="21600" h="22295">
                <a:moveTo>
                  <a:pt x="21600" y="22295"/>
                </a:moveTo>
                <a:lnTo>
                  <a:pt x="0" y="22295"/>
                </a:lnTo>
                <a:lnTo>
                  <a:pt x="1400" y="20895"/>
                </a:lnTo>
                <a:lnTo>
                  <a:pt x="20200" y="20895"/>
                </a:lnTo>
                <a:close/>
              </a:path>
              <a:path fill="lighten" w="21600" h="22295">
                <a:moveTo>
                  <a:pt x="0" y="2229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95"/>
                </a:lnTo>
                <a:close/>
              </a:path>
              <a:path fill="darken" w="21600" h="22295">
                <a:moveTo>
                  <a:pt x="3794" y="7840"/>
                </a:moveTo>
                <a:lnTo>
                  <a:pt x="7301" y="7840"/>
                </a:lnTo>
                <a:lnTo>
                  <a:pt x="7301" y="13176"/>
                </a:lnTo>
                <a:cubicBezTo>
                  <a:pt x="7301" y="14098"/>
                  <a:pt x="8102" y="14829"/>
                  <a:pt x="9138" y="14829"/>
                </a:cubicBezTo>
                <a:lnTo>
                  <a:pt x="10800" y="14829"/>
                </a:lnTo>
                <a:cubicBezTo>
                  <a:pt x="11836" y="14829"/>
                  <a:pt x="12636" y="14098"/>
                  <a:pt x="12636" y="13176"/>
                </a:cubicBezTo>
                <a:lnTo>
                  <a:pt x="12636" y="7840"/>
                </a:lnTo>
                <a:lnTo>
                  <a:pt x="10800" y="7840"/>
                </a:lnTo>
                <a:lnTo>
                  <a:pt x="14308" y="4333"/>
                </a:lnTo>
                <a:lnTo>
                  <a:pt x="17981" y="7840"/>
                </a:lnTo>
                <a:lnTo>
                  <a:pt x="16144" y="7840"/>
                </a:lnTo>
                <a:lnTo>
                  <a:pt x="16144" y="13176"/>
                </a:lnTo>
                <a:cubicBezTo>
                  <a:pt x="16144" y="15943"/>
                  <a:pt x="13568" y="18502"/>
                  <a:pt x="10800" y="18502"/>
                </a:cubicBezTo>
                <a:lnTo>
                  <a:pt x="9138" y="18502"/>
                </a:lnTo>
                <a:cubicBezTo>
                  <a:pt x="6370" y="18502"/>
                  <a:pt x="3794" y="15943"/>
                  <a:pt x="3794" y="13176"/>
                </a:cubicBez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Прямоугольник 1"/>
          <p:cNvSpPr/>
          <p:nvPr/>
        </p:nvSpPr>
        <p:spPr>
          <a:xfrm>
            <a:off x="685800" y="0"/>
            <a:ext cx="807732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eaeaea"/>
                </a:solidFill>
                <a:latin typeface="Verdana"/>
              </a:rPr>
              <a:t>20 баллов. Раскололся тесный домик на две половинки, и посыпались в ладонь бусинки-дробинки.</a:t>
            </a:r>
            <a:endParaRPr b="0" lang="en-US" sz="6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9" name="AutoShape 3">
            <a:hlinkClick r:id="" action="ppaction://hlinkshowjump?jump=previousslide"/>
          </p:cNvPr>
          <p:cNvSpPr/>
          <p:nvPr/>
        </p:nvSpPr>
        <p:spPr>
          <a:xfrm>
            <a:off x="8153280" y="579132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3">
            <a:hlinkClick r:id="" action="ppaction://hlinkshowjump?jump=previousslide"/>
          </p:cNvPr>
          <p:cNvSpPr/>
          <p:nvPr/>
        </p:nvSpPr>
        <p:spPr>
          <a:xfrm>
            <a:off x="8534520" y="617220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3794" y="8844"/>
                </a:moveTo>
                <a:lnTo>
                  <a:pt x="7301" y="8844"/>
                </a:lnTo>
                <a:lnTo>
                  <a:pt x="7301" y="14180"/>
                </a:lnTo>
                <a:cubicBezTo>
                  <a:pt x="7301" y="15102"/>
                  <a:pt x="8102" y="15833"/>
                  <a:pt x="9138" y="15833"/>
                </a:cubicBezTo>
                <a:lnTo>
                  <a:pt x="10800" y="15833"/>
                </a:lnTo>
                <a:cubicBezTo>
                  <a:pt x="11836" y="15833"/>
                  <a:pt x="12636" y="15102"/>
                  <a:pt x="12636" y="14180"/>
                </a:cubicBezTo>
                <a:lnTo>
                  <a:pt x="12636" y="8844"/>
                </a:lnTo>
                <a:lnTo>
                  <a:pt x="10800" y="8844"/>
                </a:lnTo>
                <a:lnTo>
                  <a:pt x="14308" y="5337"/>
                </a:lnTo>
                <a:lnTo>
                  <a:pt x="17981" y="8844"/>
                </a:lnTo>
                <a:lnTo>
                  <a:pt x="16144" y="8844"/>
                </a:lnTo>
                <a:lnTo>
                  <a:pt x="16144" y="14180"/>
                </a:lnTo>
                <a:cubicBezTo>
                  <a:pt x="16144" y="16947"/>
                  <a:pt x="13568" y="19506"/>
                  <a:pt x="10800" y="19506"/>
                </a:cubicBezTo>
                <a:lnTo>
                  <a:pt x="9138" y="19506"/>
                </a:lnTo>
                <a:cubicBezTo>
                  <a:pt x="6370" y="19506"/>
                  <a:pt x="3794" y="16947"/>
                  <a:pt x="3794" y="14180"/>
                </a:cubicBez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1" name="Прямоугольник 2"/>
          <p:cNvSpPr/>
          <p:nvPr/>
        </p:nvSpPr>
        <p:spPr>
          <a:xfrm>
            <a:off x="838080" y="762120"/>
            <a:ext cx="77724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eaeaea"/>
                </a:solidFill>
                <a:latin typeface="Verdana"/>
              </a:rPr>
              <a:t>30 баллов.</a:t>
            </a:r>
            <a:endParaRPr b="0" lang="en-US" sz="66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6600" spc="-1" strike="noStrike">
                <a:solidFill>
                  <a:srgbClr val="eaeaea"/>
                </a:solidFill>
                <a:latin typeface="Verdana"/>
              </a:rPr>
              <a:t>У двух матерей по пять сыновей, одно имя всем.</a:t>
            </a:r>
            <a:endParaRPr b="0" lang="en-US" sz="6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Прямоугольник 1"/>
          <p:cNvSpPr/>
          <p:nvPr/>
        </p:nvSpPr>
        <p:spPr>
          <a:xfrm>
            <a:off x="609480" y="762120"/>
            <a:ext cx="815364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eaeaea"/>
                </a:solidFill>
                <a:latin typeface="Verdana"/>
              </a:rPr>
              <a:t>40 баллов.</a:t>
            </a:r>
            <a:endParaRPr b="0" lang="en-US" sz="66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6600" spc="-1" strike="noStrike">
                <a:solidFill>
                  <a:srgbClr val="eaeaea"/>
                </a:solidFill>
                <a:latin typeface="Verdana"/>
              </a:rPr>
              <a:t>Два брата через грядку смотрят, да никогда не сойдутся.</a:t>
            </a:r>
            <a:endParaRPr b="0" lang="en-US" sz="6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3" name="AutoShape 3">
            <a:hlinkClick r:id="" action="ppaction://hlinkshowjump?jump=previousslide"/>
          </p:cNvPr>
          <p:cNvSpPr/>
          <p:nvPr/>
        </p:nvSpPr>
        <p:spPr>
          <a:xfrm>
            <a:off x="8001000" y="5562720"/>
            <a:ext cx="611280" cy="62064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20640"/>
              <a:gd name="textAreaBottom" fmla="*/ 581040 h 620640"/>
            </a:gdLst>
            <a:ahLst/>
            <a:rect l="textAreaLeft" t="textAreaTop" r="textAreaRight" b="textAreaBottom"/>
            <a:pathLst>
              <a:path w="21600" h="21931">
                <a:moveTo>
                  <a:pt x="0" y="0"/>
                </a:moveTo>
                <a:lnTo>
                  <a:pt x="21600" y="0"/>
                </a:lnTo>
                <a:lnTo>
                  <a:pt x="21600" y="21931"/>
                </a:lnTo>
                <a:lnTo>
                  <a:pt x="0" y="21931"/>
                </a:lnTo>
                <a:close/>
              </a:path>
              <a:path fill="lightenLess" w="21600" h="219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31">
                <a:moveTo>
                  <a:pt x="21600" y="0"/>
                </a:moveTo>
                <a:lnTo>
                  <a:pt x="21600" y="21931"/>
                </a:lnTo>
                <a:lnTo>
                  <a:pt x="20200" y="20531"/>
                </a:lnTo>
                <a:lnTo>
                  <a:pt x="20200" y="1400"/>
                </a:lnTo>
                <a:close/>
              </a:path>
              <a:path fill="darkenLess" w="21600" h="21931">
                <a:moveTo>
                  <a:pt x="21600" y="21931"/>
                </a:moveTo>
                <a:lnTo>
                  <a:pt x="0" y="21931"/>
                </a:lnTo>
                <a:lnTo>
                  <a:pt x="1400" y="20531"/>
                </a:lnTo>
                <a:lnTo>
                  <a:pt x="20200" y="20531"/>
                </a:lnTo>
                <a:close/>
              </a:path>
              <a:path fill="lighten" w="21600" h="21931">
                <a:moveTo>
                  <a:pt x="0" y="219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31"/>
                </a:lnTo>
                <a:close/>
              </a:path>
              <a:path fill="darken" w="21600" h="21931">
                <a:moveTo>
                  <a:pt x="3794" y="7658"/>
                </a:moveTo>
                <a:lnTo>
                  <a:pt x="7301" y="7658"/>
                </a:lnTo>
                <a:lnTo>
                  <a:pt x="7301" y="12993"/>
                </a:lnTo>
                <a:cubicBezTo>
                  <a:pt x="7301" y="13916"/>
                  <a:pt x="8102" y="14647"/>
                  <a:pt x="9138" y="14647"/>
                </a:cubicBezTo>
                <a:lnTo>
                  <a:pt x="10800" y="14647"/>
                </a:lnTo>
                <a:cubicBezTo>
                  <a:pt x="11836" y="14647"/>
                  <a:pt x="12636" y="13916"/>
                  <a:pt x="12636" y="12993"/>
                </a:cubicBezTo>
                <a:lnTo>
                  <a:pt x="12636" y="7658"/>
                </a:lnTo>
                <a:lnTo>
                  <a:pt x="10800" y="7658"/>
                </a:lnTo>
                <a:lnTo>
                  <a:pt x="14308" y="4150"/>
                </a:lnTo>
                <a:lnTo>
                  <a:pt x="17981" y="7658"/>
                </a:lnTo>
                <a:lnTo>
                  <a:pt x="16144" y="7658"/>
                </a:lnTo>
                <a:lnTo>
                  <a:pt x="16144" y="12993"/>
                </a:lnTo>
                <a:cubicBezTo>
                  <a:pt x="16144" y="15761"/>
                  <a:pt x="13568" y="18320"/>
                  <a:pt x="10800" y="18320"/>
                </a:cubicBezTo>
                <a:lnTo>
                  <a:pt x="9138" y="18320"/>
                </a:lnTo>
                <a:cubicBezTo>
                  <a:pt x="6370" y="18320"/>
                  <a:pt x="3794" y="15761"/>
                  <a:pt x="3794" y="12993"/>
                </a:cubicBez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Прямоугольник 1"/>
          <p:cNvSpPr/>
          <p:nvPr/>
        </p:nvSpPr>
        <p:spPr>
          <a:xfrm>
            <a:off x="533520" y="1447920"/>
            <a:ext cx="83055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eaeaea"/>
                </a:solidFill>
                <a:latin typeface="Verdana"/>
              </a:rPr>
              <a:t>10 баллов.</a:t>
            </a:r>
            <a:br>
              <a:rPr sz="6600"/>
            </a:br>
            <a:r>
              <a:rPr b="0" lang="ru-RU" sz="6600" spc="-1" strike="noStrike">
                <a:solidFill>
                  <a:srgbClr val="eaeaea"/>
                </a:solidFill>
                <a:latin typeface="Verdana"/>
              </a:rPr>
              <a:t>Песня, в которой экипаж – 3 друга.</a:t>
            </a:r>
            <a:endParaRPr b="0" lang="en-US" sz="6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5" name="AutoShape 3">
            <a:hlinkClick r:id="" action="ppaction://hlinkshowjump?jump=previousslide"/>
          </p:cNvPr>
          <p:cNvSpPr/>
          <p:nvPr/>
        </p:nvSpPr>
        <p:spPr>
          <a:xfrm>
            <a:off x="8001000" y="5562720"/>
            <a:ext cx="611280" cy="62064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20640"/>
              <a:gd name="textAreaBottom" fmla="*/ 581040 h 620640"/>
            </a:gdLst>
            <a:ahLst/>
            <a:rect l="textAreaLeft" t="textAreaTop" r="textAreaRight" b="textAreaBottom"/>
            <a:pathLst>
              <a:path w="21600" h="21931">
                <a:moveTo>
                  <a:pt x="0" y="0"/>
                </a:moveTo>
                <a:lnTo>
                  <a:pt x="21600" y="0"/>
                </a:lnTo>
                <a:lnTo>
                  <a:pt x="21600" y="21931"/>
                </a:lnTo>
                <a:lnTo>
                  <a:pt x="0" y="21931"/>
                </a:lnTo>
                <a:close/>
              </a:path>
              <a:path fill="lightenLess" w="21600" h="219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31">
                <a:moveTo>
                  <a:pt x="21600" y="0"/>
                </a:moveTo>
                <a:lnTo>
                  <a:pt x="21600" y="21931"/>
                </a:lnTo>
                <a:lnTo>
                  <a:pt x="20200" y="20531"/>
                </a:lnTo>
                <a:lnTo>
                  <a:pt x="20200" y="1400"/>
                </a:lnTo>
                <a:close/>
              </a:path>
              <a:path fill="darkenLess" w="21600" h="21931">
                <a:moveTo>
                  <a:pt x="21600" y="21931"/>
                </a:moveTo>
                <a:lnTo>
                  <a:pt x="0" y="21931"/>
                </a:lnTo>
                <a:lnTo>
                  <a:pt x="1400" y="20531"/>
                </a:lnTo>
                <a:lnTo>
                  <a:pt x="20200" y="20531"/>
                </a:lnTo>
                <a:close/>
              </a:path>
              <a:path fill="lighten" w="21600" h="21931">
                <a:moveTo>
                  <a:pt x="0" y="219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31"/>
                </a:lnTo>
                <a:close/>
              </a:path>
              <a:path fill="darken" w="21600" h="21931">
                <a:moveTo>
                  <a:pt x="3794" y="7658"/>
                </a:moveTo>
                <a:lnTo>
                  <a:pt x="7301" y="7658"/>
                </a:lnTo>
                <a:lnTo>
                  <a:pt x="7301" y="12993"/>
                </a:lnTo>
                <a:cubicBezTo>
                  <a:pt x="7301" y="13916"/>
                  <a:pt x="8102" y="14647"/>
                  <a:pt x="9138" y="14647"/>
                </a:cubicBezTo>
                <a:lnTo>
                  <a:pt x="10800" y="14647"/>
                </a:lnTo>
                <a:cubicBezTo>
                  <a:pt x="11836" y="14647"/>
                  <a:pt x="12636" y="13916"/>
                  <a:pt x="12636" y="12993"/>
                </a:cubicBezTo>
                <a:lnTo>
                  <a:pt x="12636" y="7658"/>
                </a:lnTo>
                <a:lnTo>
                  <a:pt x="10800" y="7658"/>
                </a:lnTo>
                <a:lnTo>
                  <a:pt x="14308" y="4150"/>
                </a:lnTo>
                <a:lnTo>
                  <a:pt x="17981" y="7658"/>
                </a:lnTo>
                <a:lnTo>
                  <a:pt x="16144" y="7658"/>
                </a:lnTo>
                <a:lnTo>
                  <a:pt x="16144" y="12993"/>
                </a:lnTo>
                <a:cubicBezTo>
                  <a:pt x="16144" y="15761"/>
                  <a:pt x="13568" y="18320"/>
                  <a:pt x="10800" y="18320"/>
                </a:cubicBezTo>
                <a:lnTo>
                  <a:pt x="9138" y="18320"/>
                </a:lnTo>
                <a:cubicBezTo>
                  <a:pt x="6370" y="18320"/>
                  <a:pt x="3794" y="15761"/>
                  <a:pt x="3794" y="12993"/>
                </a:cubicBez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2 раунд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2438280"/>
                <a:gridCol w="1447920"/>
                <a:gridCol w="1447920"/>
                <a:gridCol w="1523880"/>
                <a:gridCol w="1371600"/>
              </a:tblGrid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ff"/>
                          </a:solidFill>
                          <a:latin typeface="Verdana"/>
                        </a:rPr>
                        <a:t>Шуточные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ff"/>
                          </a:solidFill>
                          <a:latin typeface="Verdana"/>
                        </a:rPr>
                        <a:t>задачк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eec85e"/>
                          </a:solidFill>
                          <a:uFillTx/>
                          <a:latin typeface="Verdana"/>
                          <a:hlinkClick r:id="rId1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eec85e"/>
                          </a:solidFill>
                          <a:uFillTx/>
                          <a:latin typeface="Verdana"/>
                          <a:hlinkClick r:id="rId2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eec85e"/>
                          </a:solidFill>
                          <a:uFillTx/>
                          <a:latin typeface="Verdana"/>
                          <a:hlinkClick r:id="rId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40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ff"/>
                          </a:solidFill>
                          <a:latin typeface="Verdana"/>
                        </a:rPr>
                        <a:t>Угадай песню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10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20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30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40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5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ff"/>
                          </a:solidFill>
                          <a:latin typeface="Verdana"/>
                        </a:rPr>
                        <a:t>Ребусы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10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20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30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40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1"/>
          <p:cNvSpPr/>
          <p:nvPr/>
        </p:nvSpPr>
        <p:spPr>
          <a:xfrm>
            <a:off x="533520" y="762120"/>
            <a:ext cx="830556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eaeaea"/>
                </a:solidFill>
                <a:latin typeface="Verdana"/>
              </a:rPr>
              <a:t>20 баллов.</a:t>
            </a:r>
            <a:br>
              <a:rPr sz="6600"/>
            </a:br>
            <a:r>
              <a:rPr b="0" lang="ru-RU" sz="6600" spc="-1" strike="noStrike">
                <a:solidFill>
                  <a:srgbClr val="eaeaea"/>
                </a:solidFill>
                <a:latin typeface="Verdana"/>
              </a:rPr>
              <a:t>Песня, в которой проверяется таблица умножения</a:t>
            </a:r>
            <a:r>
              <a:rPr b="0" lang="ru-RU" sz="66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6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7" name="AutoShape 3">
            <a:hlinkClick r:id="" action="ppaction://hlinkshowjump?jump=previousslide"/>
          </p:cNvPr>
          <p:cNvSpPr/>
          <p:nvPr/>
        </p:nvSpPr>
        <p:spPr>
          <a:xfrm>
            <a:off x="8001000" y="5562720"/>
            <a:ext cx="611280" cy="62064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20640"/>
              <a:gd name="textAreaBottom" fmla="*/ 581040 h 620640"/>
            </a:gdLst>
            <a:ahLst/>
            <a:rect l="textAreaLeft" t="textAreaTop" r="textAreaRight" b="textAreaBottom"/>
            <a:pathLst>
              <a:path w="21600" h="21931">
                <a:moveTo>
                  <a:pt x="0" y="0"/>
                </a:moveTo>
                <a:lnTo>
                  <a:pt x="21600" y="0"/>
                </a:lnTo>
                <a:lnTo>
                  <a:pt x="21600" y="21931"/>
                </a:lnTo>
                <a:lnTo>
                  <a:pt x="0" y="21931"/>
                </a:lnTo>
                <a:close/>
              </a:path>
              <a:path fill="lightenLess" w="21600" h="219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31">
                <a:moveTo>
                  <a:pt x="21600" y="0"/>
                </a:moveTo>
                <a:lnTo>
                  <a:pt x="21600" y="21931"/>
                </a:lnTo>
                <a:lnTo>
                  <a:pt x="20200" y="20531"/>
                </a:lnTo>
                <a:lnTo>
                  <a:pt x="20200" y="1400"/>
                </a:lnTo>
                <a:close/>
              </a:path>
              <a:path fill="darkenLess" w="21600" h="21931">
                <a:moveTo>
                  <a:pt x="21600" y="21931"/>
                </a:moveTo>
                <a:lnTo>
                  <a:pt x="0" y="21931"/>
                </a:lnTo>
                <a:lnTo>
                  <a:pt x="1400" y="20531"/>
                </a:lnTo>
                <a:lnTo>
                  <a:pt x="20200" y="20531"/>
                </a:lnTo>
                <a:close/>
              </a:path>
              <a:path fill="lighten" w="21600" h="21931">
                <a:moveTo>
                  <a:pt x="0" y="219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31"/>
                </a:lnTo>
                <a:close/>
              </a:path>
              <a:path fill="darken" w="21600" h="21931">
                <a:moveTo>
                  <a:pt x="3794" y="7658"/>
                </a:moveTo>
                <a:lnTo>
                  <a:pt x="7301" y="7658"/>
                </a:lnTo>
                <a:lnTo>
                  <a:pt x="7301" y="12993"/>
                </a:lnTo>
                <a:cubicBezTo>
                  <a:pt x="7301" y="13916"/>
                  <a:pt x="8102" y="14647"/>
                  <a:pt x="9138" y="14647"/>
                </a:cubicBezTo>
                <a:lnTo>
                  <a:pt x="10800" y="14647"/>
                </a:lnTo>
                <a:cubicBezTo>
                  <a:pt x="11836" y="14647"/>
                  <a:pt x="12636" y="13916"/>
                  <a:pt x="12636" y="12993"/>
                </a:cubicBezTo>
                <a:lnTo>
                  <a:pt x="12636" y="7658"/>
                </a:lnTo>
                <a:lnTo>
                  <a:pt x="10800" y="7658"/>
                </a:lnTo>
                <a:lnTo>
                  <a:pt x="14308" y="4150"/>
                </a:lnTo>
                <a:lnTo>
                  <a:pt x="17981" y="7658"/>
                </a:lnTo>
                <a:lnTo>
                  <a:pt x="16144" y="7658"/>
                </a:lnTo>
                <a:lnTo>
                  <a:pt x="16144" y="12993"/>
                </a:lnTo>
                <a:cubicBezTo>
                  <a:pt x="16144" y="15761"/>
                  <a:pt x="13568" y="18320"/>
                  <a:pt x="10800" y="18320"/>
                </a:cubicBezTo>
                <a:lnTo>
                  <a:pt x="9138" y="18320"/>
                </a:lnTo>
                <a:cubicBezTo>
                  <a:pt x="6370" y="18320"/>
                  <a:pt x="3794" y="15761"/>
                  <a:pt x="3794" y="12993"/>
                </a:cubicBez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ик 1"/>
          <p:cNvSpPr/>
          <p:nvPr/>
        </p:nvSpPr>
        <p:spPr>
          <a:xfrm>
            <a:off x="152280" y="0"/>
            <a:ext cx="86868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aeaea"/>
                </a:solidFill>
                <a:latin typeface="Verdana"/>
              </a:rPr>
              <a:t>30 баллов.</a:t>
            </a:r>
            <a:br>
              <a:rPr sz="5400"/>
            </a:br>
            <a:r>
              <a:rPr b="0" lang="ru-RU" sz="5400" spc="-1" strike="noStrike">
                <a:solidFill>
                  <a:srgbClr val="eaeaea"/>
                </a:solidFill>
                <a:latin typeface="Verdana"/>
              </a:rPr>
              <a:t>Песня, в которой многократно повторяется числительное, соответствующее греческой приставке МЕГА..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9" name="AutoShape 3">
            <a:hlinkClick r:id="" action="ppaction://hlinkshowjump?jump=previousslide"/>
          </p:cNvPr>
          <p:cNvSpPr/>
          <p:nvPr/>
        </p:nvSpPr>
        <p:spPr>
          <a:xfrm>
            <a:off x="8532720" y="6237360"/>
            <a:ext cx="611280" cy="62064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20640"/>
              <a:gd name="textAreaBottom" fmla="*/ 581040 h 620640"/>
            </a:gdLst>
            <a:ahLst/>
            <a:rect l="textAreaLeft" t="textAreaTop" r="textAreaRight" b="textAreaBottom"/>
            <a:pathLst>
              <a:path w="21600" h="21931">
                <a:moveTo>
                  <a:pt x="0" y="0"/>
                </a:moveTo>
                <a:lnTo>
                  <a:pt x="21600" y="0"/>
                </a:lnTo>
                <a:lnTo>
                  <a:pt x="21600" y="21931"/>
                </a:lnTo>
                <a:lnTo>
                  <a:pt x="0" y="21931"/>
                </a:lnTo>
                <a:close/>
              </a:path>
              <a:path fill="lightenLess" w="21600" h="219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31">
                <a:moveTo>
                  <a:pt x="21600" y="0"/>
                </a:moveTo>
                <a:lnTo>
                  <a:pt x="21600" y="21931"/>
                </a:lnTo>
                <a:lnTo>
                  <a:pt x="20200" y="20531"/>
                </a:lnTo>
                <a:lnTo>
                  <a:pt x="20200" y="1400"/>
                </a:lnTo>
                <a:close/>
              </a:path>
              <a:path fill="darkenLess" w="21600" h="21931">
                <a:moveTo>
                  <a:pt x="21600" y="21931"/>
                </a:moveTo>
                <a:lnTo>
                  <a:pt x="0" y="21931"/>
                </a:lnTo>
                <a:lnTo>
                  <a:pt x="1400" y="20531"/>
                </a:lnTo>
                <a:lnTo>
                  <a:pt x="20200" y="20531"/>
                </a:lnTo>
                <a:close/>
              </a:path>
              <a:path fill="lighten" w="21600" h="21931">
                <a:moveTo>
                  <a:pt x="0" y="219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31"/>
                </a:lnTo>
                <a:close/>
              </a:path>
              <a:path fill="darken" w="21600" h="21931">
                <a:moveTo>
                  <a:pt x="3794" y="7658"/>
                </a:moveTo>
                <a:lnTo>
                  <a:pt x="7301" y="7658"/>
                </a:lnTo>
                <a:lnTo>
                  <a:pt x="7301" y="12993"/>
                </a:lnTo>
                <a:cubicBezTo>
                  <a:pt x="7301" y="13916"/>
                  <a:pt x="8102" y="14647"/>
                  <a:pt x="9138" y="14647"/>
                </a:cubicBezTo>
                <a:lnTo>
                  <a:pt x="10800" y="14647"/>
                </a:lnTo>
                <a:cubicBezTo>
                  <a:pt x="11836" y="14647"/>
                  <a:pt x="12636" y="13916"/>
                  <a:pt x="12636" y="12993"/>
                </a:cubicBezTo>
                <a:lnTo>
                  <a:pt x="12636" y="7658"/>
                </a:lnTo>
                <a:lnTo>
                  <a:pt x="10800" y="7658"/>
                </a:lnTo>
                <a:lnTo>
                  <a:pt x="14308" y="4150"/>
                </a:lnTo>
                <a:lnTo>
                  <a:pt x="17981" y="7658"/>
                </a:lnTo>
                <a:lnTo>
                  <a:pt x="16144" y="7658"/>
                </a:lnTo>
                <a:lnTo>
                  <a:pt x="16144" y="12993"/>
                </a:lnTo>
                <a:cubicBezTo>
                  <a:pt x="16144" y="15761"/>
                  <a:pt x="13568" y="18320"/>
                  <a:pt x="10800" y="18320"/>
                </a:cubicBezTo>
                <a:lnTo>
                  <a:pt x="9138" y="18320"/>
                </a:lnTo>
                <a:cubicBezTo>
                  <a:pt x="6370" y="18320"/>
                  <a:pt x="3794" y="15761"/>
                  <a:pt x="3794" y="12993"/>
                </a:cubicBez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Прямоугольник 1"/>
          <p:cNvSpPr/>
          <p:nvPr/>
        </p:nvSpPr>
        <p:spPr>
          <a:xfrm>
            <a:off x="457200" y="457200"/>
            <a:ext cx="83059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aeaea"/>
                </a:solidFill>
                <a:latin typeface="Verdana"/>
              </a:rPr>
              <a:t>40 баллов.</a:t>
            </a:r>
            <a:br>
              <a:rPr sz="5400"/>
            </a:br>
            <a:r>
              <a:rPr b="0" lang="ru-RU" sz="5400" spc="-1" strike="noStrike">
                <a:solidFill>
                  <a:srgbClr val="eaeaea"/>
                </a:solidFill>
                <a:latin typeface="Verdana"/>
              </a:rPr>
              <a:t>Песня, о вращении геометрического тела правильной формы, падение которого привело бы к краже..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1" name="AutoShape 3">
            <a:hlinkClick r:id="" action="ppaction://hlinkshowjump?jump=previousslide"/>
          </p:cNvPr>
          <p:cNvSpPr/>
          <p:nvPr/>
        </p:nvSpPr>
        <p:spPr>
          <a:xfrm>
            <a:off x="8305920" y="6237360"/>
            <a:ext cx="838080" cy="620640"/>
          </a:xfrm>
          <a:custGeom>
            <a:avLst/>
            <a:gdLst>
              <a:gd name="textAreaLeft" fmla="*/ 39960 w 838080"/>
              <a:gd name="textAreaRight" fmla="*/ 798120 w 83808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9163" h="21600">
                <a:moveTo>
                  <a:pt x="0" y="0"/>
                </a:moveTo>
                <a:lnTo>
                  <a:pt x="29163" y="0"/>
                </a:lnTo>
                <a:lnTo>
                  <a:pt x="29163" y="21600"/>
                </a:lnTo>
                <a:lnTo>
                  <a:pt x="0" y="21600"/>
                </a:lnTo>
                <a:close/>
              </a:path>
              <a:path fill="lightenLess" w="29163" h="21600">
                <a:moveTo>
                  <a:pt x="0" y="0"/>
                </a:moveTo>
                <a:lnTo>
                  <a:pt x="29163" y="0"/>
                </a:lnTo>
                <a:lnTo>
                  <a:pt x="27763" y="1400"/>
                </a:lnTo>
                <a:lnTo>
                  <a:pt x="1400" y="1400"/>
                </a:lnTo>
                <a:close/>
              </a:path>
              <a:path fill="darken" w="29163" h="21600">
                <a:moveTo>
                  <a:pt x="29163" y="0"/>
                </a:moveTo>
                <a:lnTo>
                  <a:pt x="29163" y="21600"/>
                </a:lnTo>
                <a:lnTo>
                  <a:pt x="27763" y="20200"/>
                </a:lnTo>
                <a:lnTo>
                  <a:pt x="27763" y="1400"/>
                </a:lnTo>
                <a:close/>
              </a:path>
              <a:path fill="darkenLess" w="29163" h="21600">
                <a:moveTo>
                  <a:pt x="29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763" y="20200"/>
                </a:lnTo>
                <a:close/>
              </a:path>
              <a:path fill="lighten" w="29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163" h="21600">
                <a:moveTo>
                  <a:pt x="7575" y="7493"/>
                </a:moveTo>
                <a:lnTo>
                  <a:pt x="11083" y="7493"/>
                </a:lnTo>
                <a:lnTo>
                  <a:pt x="11083" y="12828"/>
                </a:lnTo>
                <a:cubicBezTo>
                  <a:pt x="11083" y="13751"/>
                  <a:pt x="11883" y="14482"/>
                  <a:pt x="12919" y="14482"/>
                </a:cubicBezTo>
                <a:lnTo>
                  <a:pt x="14582" y="14482"/>
                </a:lnTo>
                <a:cubicBezTo>
                  <a:pt x="15617" y="14482"/>
                  <a:pt x="16418" y="13751"/>
                  <a:pt x="16418" y="12828"/>
                </a:cubicBezTo>
                <a:lnTo>
                  <a:pt x="16418" y="7493"/>
                </a:lnTo>
                <a:lnTo>
                  <a:pt x="14582" y="7493"/>
                </a:lnTo>
                <a:lnTo>
                  <a:pt x="18089" y="3985"/>
                </a:lnTo>
                <a:lnTo>
                  <a:pt x="21762" y="7493"/>
                </a:lnTo>
                <a:lnTo>
                  <a:pt x="19926" y="7493"/>
                </a:lnTo>
                <a:lnTo>
                  <a:pt x="19926" y="12828"/>
                </a:lnTo>
                <a:cubicBezTo>
                  <a:pt x="19926" y="15596"/>
                  <a:pt x="17349" y="18155"/>
                  <a:pt x="14582" y="18155"/>
                </a:cubicBezTo>
                <a:lnTo>
                  <a:pt x="12919" y="18155"/>
                </a:lnTo>
                <a:cubicBezTo>
                  <a:pt x="10151" y="18155"/>
                  <a:pt x="7575" y="15596"/>
                  <a:pt x="7575" y="12828"/>
                </a:cubicBez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1"/>
          <p:cNvSpPr/>
          <p:nvPr/>
        </p:nvSpPr>
        <p:spPr>
          <a:xfrm>
            <a:off x="380880" y="121932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eaeaea"/>
                </a:solidFill>
                <a:latin typeface="Verdana"/>
              </a:rPr>
              <a:t>10 баллов.</a:t>
            </a:r>
            <a:endParaRPr b="0" lang="en-US" sz="66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3" name="AutoShape 3">
            <a:hlinkClick r:id="" action="ppaction://hlinkshowjump?jump=previousslide"/>
          </p:cNvPr>
          <p:cNvSpPr/>
          <p:nvPr/>
        </p:nvSpPr>
        <p:spPr>
          <a:xfrm>
            <a:off x="8001000" y="5562720"/>
            <a:ext cx="611280" cy="62064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20640"/>
              <a:gd name="textAreaBottom" fmla="*/ 581040 h 620640"/>
            </a:gdLst>
            <a:ahLst/>
            <a:rect l="textAreaLeft" t="textAreaTop" r="textAreaRight" b="textAreaBottom"/>
            <a:pathLst>
              <a:path w="21600" h="21931">
                <a:moveTo>
                  <a:pt x="0" y="0"/>
                </a:moveTo>
                <a:lnTo>
                  <a:pt x="21600" y="0"/>
                </a:lnTo>
                <a:lnTo>
                  <a:pt x="21600" y="21931"/>
                </a:lnTo>
                <a:lnTo>
                  <a:pt x="0" y="21931"/>
                </a:lnTo>
                <a:close/>
              </a:path>
              <a:path fill="lightenLess" w="21600" h="219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31">
                <a:moveTo>
                  <a:pt x="21600" y="0"/>
                </a:moveTo>
                <a:lnTo>
                  <a:pt x="21600" y="21931"/>
                </a:lnTo>
                <a:lnTo>
                  <a:pt x="20200" y="20531"/>
                </a:lnTo>
                <a:lnTo>
                  <a:pt x="20200" y="1400"/>
                </a:lnTo>
                <a:close/>
              </a:path>
              <a:path fill="darkenLess" w="21600" h="21931">
                <a:moveTo>
                  <a:pt x="21600" y="21931"/>
                </a:moveTo>
                <a:lnTo>
                  <a:pt x="0" y="21931"/>
                </a:lnTo>
                <a:lnTo>
                  <a:pt x="1400" y="20531"/>
                </a:lnTo>
                <a:lnTo>
                  <a:pt x="20200" y="20531"/>
                </a:lnTo>
                <a:close/>
              </a:path>
              <a:path fill="lighten" w="21600" h="21931">
                <a:moveTo>
                  <a:pt x="0" y="219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31"/>
                </a:lnTo>
                <a:close/>
              </a:path>
              <a:path fill="darken" w="21600" h="21931">
                <a:moveTo>
                  <a:pt x="3794" y="7658"/>
                </a:moveTo>
                <a:lnTo>
                  <a:pt x="7301" y="7658"/>
                </a:lnTo>
                <a:lnTo>
                  <a:pt x="7301" y="12993"/>
                </a:lnTo>
                <a:cubicBezTo>
                  <a:pt x="7301" y="13916"/>
                  <a:pt x="8102" y="14647"/>
                  <a:pt x="9138" y="14647"/>
                </a:cubicBezTo>
                <a:lnTo>
                  <a:pt x="10800" y="14647"/>
                </a:lnTo>
                <a:cubicBezTo>
                  <a:pt x="11836" y="14647"/>
                  <a:pt x="12636" y="13916"/>
                  <a:pt x="12636" y="12993"/>
                </a:cubicBezTo>
                <a:lnTo>
                  <a:pt x="12636" y="7658"/>
                </a:lnTo>
                <a:lnTo>
                  <a:pt x="10800" y="7658"/>
                </a:lnTo>
                <a:lnTo>
                  <a:pt x="14308" y="4150"/>
                </a:lnTo>
                <a:lnTo>
                  <a:pt x="17981" y="7658"/>
                </a:lnTo>
                <a:lnTo>
                  <a:pt x="16144" y="7658"/>
                </a:lnTo>
                <a:lnTo>
                  <a:pt x="16144" y="12993"/>
                </a:lnTo>
                <a:cubicBezTo>
                  <a:pt x="16144" y="15761"/>
                  <a:pt x="13568" y="18320"/>
                  <a:pt x="10800" y="18320"/>
                </a:cubicBezTo>
                <a:lnTo>
                  <a:pt x="9138" y="18320"/>
                </a:lnTo>
                <a:cubicBezTo>
                  <a:pt x="6370" y="18320"/>
                  <a:pt x="3794" y="15761"/>
                  <a:pt x="3794" y="12993"/>
                </a:cubicBez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4" name="Прямоугольник 3"/>
          <p:cNvSpPr/>
          <p:nvPr/>
        </p:nvSpPr>
        <p:spPr>
          <a:xfrm>
            <a:off x="533520" y="2362320"/>
            <a:ext cx="78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aeaea"/>
                </a:solidFill>
                <a:latin typeface="Verdana"/>
              </a:rPr>
              <a:t>…  </a:t>
            </a:r>
            <a:r>
              <a:rPr b="0" lang="ru-RU" sz="5400" spc="-1" strike="noStrike">
                <a:solidFill>
                  <a:srgbClr val="eaeaea"/>
                </a:solidFill>
                <a:latin typeface="Verdana"/>
              </a:rPr>
              <a:t>голова - хорошо,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5400" spc="-1" strike="noStrike">
                <a:solidFill>
                  <a:srgbClr val="eaeaea"/>
                </a:solidFill>
                <a:latin typeface="Verdana"/>
              </a:rPr>
              <a:t>а …    - лучше</a:t>
            </a:r>
            <a:r>
              <a:rPr b="0" lang="ru-RU" sz="54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Прямоугольник 1"/>
          <p:cNvSpPr/>
          <p:nvPr/>
        </p:nvSpPr>
        <p:spPr>
          <a:xfrm>
            <a:off x="762120" y="-152280"/>
            <a:ext cx="792468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eaeaea"/>
                </a:solidFill>
                <a:latin typeface="Verdana"/>
              </a:rPr>
              <a:t>20 баллов.</a:t>
            </a:r>
            <a:endParaRPr b="0" lang="en-US" sz="66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6" name="AutoShape 3">
            <a:hlinkClick r:id="" action="ppaction://hlinkshowjump?jump=previousslide"/>
          </p:cNvPr>
          <p:cNvSpPr/>
          <p:nvPr/>
        </p:nvSpPr>
        <p:spPr>
          <a:xfrm>
            <a:off x="8001000" y="5562720"/>
            <a:ext cx="611280" cy="62064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20640"/>
              <a:gd name="textAreaBottom" fmla="*/ 581040 h 620640"/>
            </a:gdLst>
            <a:ahLst/>
            <a:rect l="textAreaLeft" t="textAreaTop" r="textAreaRight" b="textAreaBottom"/>
            <a:pathLst>
              <a:path w="21600" h="21931">
                <a:moveTo>
                  <a:pt x="0" y="0"/>
                </a:moveTo>
                <a:lnTo>
                  <a:pt x="21600" y="0"/>
                </a:lnTo>
                <a:lnTo>
                  <a:pt x="21600" y="21931"/>
                </a:lnTo>
                <a:lnTo>
                  <a:pt x="0" y="21931"/>
                </a:lnTo>
                <a:close/>
              </a:path>
              <a:path fill="lightenLess" w="21600" h="219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31">
                <a:moveTo>
                  <a:pt x="21600" y="0"/>
                </a:moveTo>
                <a:lnTo>
                  <a:pt x="21600" y="21931"/>
                </a:lnTo>
                <a:lnTo>
                  <a:pt x="20200" y="20531"/>
                </a:lnTo>
                <a:lnTo>
                  <a:pt x="20200" y="1400"/>
                </a:lnTo>
                <a:close/>
              </a:path>
              <a:path fill="darkenLess" w="21600" h="21931">
                <a:moveTo>
                  <a:pt x="21600" y="21931"/>
                </a:moveTo>
                <a:lnTo>
                  <a:pt x="0" y="21931"/>
                </a:lnTo>
                <a:lnTo>
                  <a:pt x="1400" y="20531"/>
                </a:lnTo>
                <a:lnTo>
                  <a:pt x="20200" y="20531"/>
                </a:lnTo>
                <a:close/>
              </a:path>
              <a:path fill="lighten" w="21600" h="21931">
                <a:moveTo>
                  <a:pt x="0" y="219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31"/>
                </a:lnTo>
                <a:close/>
              </a:path>
              <a:path fill="darken" w="21600" h="21931">
                <a:moveTo>
                  <a:pt x="3794" y="7658"/>
                </a:moveTo>
                <a:lnTo>
                  <a:pt x="7301" y="7658"/>
                </a:lnTo>
                <a:lnTo>
                  <a:pt x="7301" y="12993"/>
                </a:lnTo>
                <a:cubicBezTo>
                  <a:pt x="7301" y="13916"/>
                  <a:pt x="8102" y="14647"/>
                  <a:pt x="9138" y="14647"/>
                </a:cubicBezTo>
                <a:lnTo>
                  <a:pt x="10800" y="14647"/>
                </a:lnTo>
                <a:cubicBezTo>
                  <a:pt x="11836" y="14647"/>
                  <a:pt x="12636" y="13916"/>
                  <a:pt x="12636" y="12993"/>
                </a:cubicBezTo>
                <a:lnTo>
                  <a:pt x="12636" y="7658"/>
                </a:lnTo>
                <a:lnTo>
                  <a:pt x="10800" y="7658"/>
                </a:lnTo>
                <a:lnTo>
                  <a:pt x="14308" y="4150"/>
                </a:lnTo>
                <a:lnTo>
                  <a:pt x="17981" y="7658"/>
                </a:lnTo>
                <a:lnTo>
                  <a:pt x="16144" y="7658"/>
                </a:lnTo>
                <a:lnTo>
                  <a:pt x="16144" y="12993"/>
                </a:lnTo>
                <a:cubicBezTo>
                  <a:pt x="16144" y="15761"/>
                  <a:pt x="13568" y="18320"/>
                  <a:pt x="10800" y="18320"/>
                </a:cubicBezTo>
                <a:lnTo>
                  <a:pt x="9138" y="18320"/>
                </a:lnTo>
                <a:cubicBezTo>
                  <a:pt x="6370" y="18320"/>
                  <a:pt x="3794" y="15761"/>
                  <a:pt x="3794" y="12993"/>
                </a:cubicBez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7" name="Прямоугольник 3"/>
          <p:cNvSpPr/>
          <p:nvPr/>
        </p:nvSpPr>
        <p:spPr>
          <a:xfrm>
            <a:off x="380880" y="1371600"/>
            <a:ext cx="8458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aeaea"/>
                </a:solidFill>
                <a:latin typeface="Verdana"/>
              </a:rPr>
              <a:t>Не имей …  рублей, 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aeaea"/>
                </a:solidFill>
                <a:latin typeface="Verdana"/>
              </a:rPr>
              <a:t>а имей  …  друзей.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"/>
          <p:cNvSpPr/>
          <p:nvPr/>
        </p:nvSpPr>
        <p:spPr>
          <a:xfrm>
            <a:off x="685800" y="685800"/>
            <a:ext cx="8001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eaeaea"/>
                </a:solidFill>
                <a:latin typeface="Verdana"/>
              </a:rPr>
              <a:t>30 баллов.</a:t>
            </a:r>
            <a:endParaRPr b="0" lang="en-US" sz="66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9" name="AutoShape 3">
            <a:hlinkClick r:id="" action="ppaction://hlinkshowjump?jump=previousslide"/>
          </p:cNvPr>
          <p:cNvSpPr/>
          <p:nvPr/>
        </p:nvSpPr>
        <p:spPr>
          <a:xfrm>
            <a:off x="8001000" y="5562720"/>
            <a:ext cx="611280" cy="62064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20640"/>
              <a:gd name="textAreaBottom" fmla="*/ 581040 h 620640"/>
            </a:gdLst>
            <a:ahLst/>
            <a:rect l="textAreaLeft" t="textAreaTop" r="textAreaRight" b="textAreaBottom"/>
            <a:pathLst>
              <a:path w="21600" h="21931">
                <a:moveTo>
                  <a:pt x="0" y="0"/>
                </a:moveTo>
                <a:lnTo>
                  <a:pt x="21600" y="0"/>
                </a:lnTo>
                <a:lnTo>
                  <a:pt x="21600" y="21931"/>
                </a:lnTo>
                <a:lnTo>
                  <a:pt x="0" y="21931"/>
                </a:lnTo>
                <a:close/>
              </a:path>
              <a:path fill="lightenLess" w="21600" h="219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31">
                <a:moveTo>
                  <a:pt x="21600" y="0"/>
                </a:moveTo>
                <a:lnTo>
                  <a:pt x="21600" y="21931"/>
                </a:lnTo>
                <a:lnTo>
                  <a:pt x="20200" y="20531"/>
                </a:lnTo>
                <a:lnTo>
                  <a:pt x="20200" y="1400"/>
                </a:lnTo>
                <a:close/>
              </a:path>
              <a:path fill="darkenLess" w="21600" h="21931">
                <a:moveTo>
                  <a:pt x="21600" y="21931"/>
                </a:moveTo>
                <a:lnTo>
                  <a:pt x="0" y="21931"/>
                </a:lnTo>
                <a:lnTo>
                  <a:pt x="1400" y="20531"/>
                </a:lnTo>
                <a:lnTo>
                  <a:pt x="20200" y="20531"/>
                </a:lnTo>
                <a:close/>
              </a:path>
              <a:path fill="lighten" w="21600" h="21931">
                <a:moveTo>
                  <a:pt x="0" y="219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31"/>
                </a:lnTo>
                <a:close/>
              </a:path>
              <a:path fill="darken" w="21600" h="21931">
                <a:moveTo>
                  <a:pt x="3794" y="7658"/>
                </a:moveTo>
                <a:lnTo>
                  <a:pt x="7301" y="7658"/>
                </a:lnTo>
                <a:lnTo>
                  <a:pt x="7301" y="12993"/>
                </a:lnTo>
                <a:cubicBezTo>
                  <a:pt x="7301" y="13916"/>
                  <a:pt x="8102" y="14647"/>
                  <a:pt x="9138" y="14647"/>
                </a:cubicBezTo>
                <a:lnTo>
                  <a:pt x="10800" y="14647"/>
                </a:lnTo>
                <a:cubicBezTo>
                  <a:pt x="11836" y="14647"/>
                  <a:pt x="12636" y="13916"/>
                  <a:pt x="12636" y="12993"/>
                </a:cubicBezTo>
                <a:lnTo>
                  <a:pt x="12636" y="7658"/>
                </a:lnTo>
                <a:lnTo>
                  <a:pt x="10800" y="7658"/>
                </a:lnTo>
                <a:lnTo>
                  <a:pt x="14308" y="4150"/>
                </a:lnTo>
                <a:lnTo>
                  <a:pt x="17981" y="7658"/>
                </a:lnTo>
                <a:lnTo>
                  <a:pt x="16144" y="7658"/>
                </a:lnTo>
                <a:lnTo>
                  <a:pt x="16144" y="12993"/>
                </a:lnTo>
                <a:cubicBezTo>
                  <a:pt x="16144" y="15761"/>
                  <a:pt x="13568" y="18320"/>
                  <a:pt x="10800" y="18320"/>
                </a:cubicBezTo>
                <a:lnTo>
                  <a:pt x="9138" y="18320"/>
                </a:lnTo>
                <a:cubicBezTo>
                  <a:pt x="6370" y="18320"/>
                  <a:pt x="3794" y="15761"/>
                  <a:pt x="3794" y="12993"/>
                </a:cubicBez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0" name="Прямоугольник 3"/>
          <p:cNvSpPr/>
          <p:nvPr/>
        </p:nvSpPr>
        <p:spPr>
          <a:xfrm>
            <a:off x="762120" y="2362320"/>
            <a:ext cx="725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aeaea"/>
                </a:solidFill>
                <a:latin typeface="Verdana"/>
              </a:rPr>
              <a:t>…     </a:t>
            </a:r>
            <a:r>
              <a:rPr b="0" lang="ru-RU" sz="5400" spc="-1" strike="noStrike">
                <a:solidFill>
                  <a:srgbClr val="eaeaea"/>
                </a:solidFill>
                <a:latin typeface="Verdana"/>
              </a:rPr>
              <a:t>бед,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aeaea"/>
                </a:solidFill>
                <a:latin typeface="Verdana"/>
              </a:rPr>
              <a:t> …      </a:t>
            </a:r>
            <a:r>
              <a:rPr b="0" lang="ru-RU" sz="5400" spc="-1" strike="noStrike">
                <a:solidFill>
                  <a:srgbClr val="eaeaea"/>
                </a:solidFill>
                <a:latin typeface="Verdana"/>
              </a:rPr>
              <a:t>ответ.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Прямоугольник 1"/>
          <p:cNvSpPr/>
          <p:nvPr/>
        </p:nvSpPr>
        <p:spPr>
          <a:xfrm>
            <a:off x="304920" y="990720"/>
            <a:ext cx="861048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eaeaea"/>
                </a:solidFill>
                <a:latin typeface="Verdana"/>
              </a:rPr>
              <a:t>40 баллов.</a:t>
            </a:r>
            <a:endParaRPr b="0" lang="en-US" sz="66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6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2" name="AutoShape 3">
            <a:hlinkClick r:id="" action="ppaction://hlinkshowjump?jump=previousslide"/>
          </p:cNvPr>
          <p:cNvSpPr/>
          <p:nvPr/>
        </p:nvSpPr>
        <p:spPr>
          <a:xfrm>
            <a:off x="8001000" y="5562720"/>
            <a:ext cx="611280" cy="62064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20640"/>
              <a:gd name="textAreaBottom" fmla="*/ 581040 h 620640"/>
            </a:gdLst>
            <a:ahLst/>
            <a:rect l="textAreaLeft" t="textAreaTop" r="textAreaRight" b="textAreaBottom"/>
            <a:pathLst>
              <a:path w="21600" h="21931">
                <a:moveTo>
                  <a:pt x="0" y="0"/>
                </a:moveTo>
                <a:lnTo>
                  <a:pt x="21600" y="0"/>
                </a:lnTo>
                <a:lnTo>
                  <a:pt x="21600" y="21931"/>
                </a:lnTo>
                <a:lnTo>
                  <a:pt x="0" y="21931"/>
                </a:lnTo>
                <a:close/>
              </a:path>
              <a:path fill="lightenLess" w="21600" h="219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31">
                <a:moveTo>
                  <a:pt x="21600" y="0"/>
                </a:moveTo>
                <a:lnTo>
                  <a:pt x="21600" y="21931"/>
                </a:lnTo>
                <a:lnTo>
                  <a:pt x="20200" y="20531"/>
                </a:lnTo>
                <a:lnTo>
                  <a:pt x="20200" y="1400"/>
                </a:lnTo>
                <a:close/>
              </a:path>
              <a:path fill="darkenLess" w="21600" h="21931">
                <a:moveTo>
                  <a:pt x="21600" y="21931"/>
                </a:moveTo>
                <a:lnTo>
                  <a:pt x="0" y="21931"/>
                </a:lnTo>
                <a:lnTo>
                  <a:pt x="1400" y="20531"/>
                </a:lnTo>
                <a:lnTo>
                  <a:pt x="20200" y="20531"/>
                </a:lnTo>
                <a:close/>
              </a:path>
              <a:path fill="lighten" w="21600" h="21931">
                <a:moveTo>
                  <a:pt x="0" y="219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31"/>
                </a:lnTo>
                <a:close/>
              </a:path>
              <a:path fill="darken" w="21600" h="21931">
                <a:moveTo>
                  <a:pt x="3794" y="7658"/>
                </a:moveTo>
                <a:lnTo>
                  <a:pt x="7301" y="7658"/>
                </a:lnTo>
                <a:lnTo>
                  <a:pt x="7301" y="12993"/>
                </a:lnTo>
                <a:cubicBezTo>
                  <a:pt x="7301" y="13916"/>
                  <a:pt x="8102" y="14647"/>
                  <a:pt x="9138" y="14647"/>
                </a:cubicBezTo>
                <a:lnTo>
                  <a:pt x="10800" y="14647"/>
                </a:lnTo>
                <a:cubicBezTo>
                  <a:pt x="11836" y="14647"/>
                  <a:pt x="12636" y="13916"/>
                  <a:pt x="12636" y="12993"/>
                </a:cubicBezTo>
                <a:lnTo>
                  <a:pt x="12636" y="7658"/>
                </a:lnTo>
                <a:lnTo>
                  <a:pt x="10800" y="7658"/>
                </a:lnTo>
                <a:lnTo>
                  <a:pt x="14308" y="4150"/>
                </a:lnTo>
                <a:lnTo>
                  <a:pt x="17981" y="7658"/>
                </a:lnTo>
                <a:lnTo>
                  <a:pt x="16144" y="7658"/>
                </a:lnTo>
                <a:lnTo>
                  <a:pt x="16144" y="12993"/>
                </a:lnTo>
                <a:cubicBezTo>
                  <a:pt x="16144" y="15761"/>
                  <a:pt x="13568" y="18320"/>
                  <a:pt x="10800" y="18320"/>
                </a:cubicBezTo>
                <a:lnTo>
                  <a:pt x="9138" y="18320"/>
                </a:lnTo>
                <a:cubicBezTo>
                  <a:pt x="6370" y="18320"/>
                  <a:pt x="3794" y="15761"/>
                  <a:pt x="3794" y="12993"/>
                </a:cubicBez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3" name="Прямоугольник 3"/>
          <p:cNvSpPr/>
          <p:nvPr/>
        </p:nvSpPr>
        <p:spPr>
          <a:xfrm>
            <a:off x="304920" y="2514600"/>
            <a:ext cx="838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aeaea"/>
                </a:solidFill>
                <a:latin typeface="Verdana"/>
              </a:rPr>
              <a:t>…      </a:t>
            </a:r>
            <a:r>
              <a:rPr b="0" lang="ru-RU" sz="5400" spc="-1" strike="noStrike">
                <a:solidFill>
                  <a:srgbClr val="eaeaea"/>
                </a:solidFill>
                <a:latin typeface="Verdana"/>
              </a:rPr>
              <a:t>с сошкой,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aeaea"/>
                </a:solidFill>
                <a:latin typeface="Verdana"/>
              </a:rPr>
              <a:t> …        </a:t>
            </a:r>
            <a:r>
              <a:rPr b="0" lang="ru-RU" sz="5400" spc="-1" strike="noStrike">
                <a:solidFill>
                  <a:srgbClr val="eaeaea"/>
                </a:solidFill>
                <a:latin typeface="Verdana"/>
              </a:rPr>
              <a:t>с ложкой.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467480" cy="2590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eaeaea"/>
                </a:solidFill>
                <a:latin typeface="Arial"/>
              </a:rPr>
              <a:t>10 баллов.</a:t>
            </a:r>
            <a:br>
              <a:rPr sz="6600"/>
            </a:br>
            <a:br>
              <a:rPr sz="6600"/>
            </a:br>
            <a:r>
              <a:rPr b="0" lang="ru-RU" sz="6600" spc="-1" strike="noStrike">
                <a:solidFill>
                  <a:srgbClr val="eaeaea"/>
                </a:solidFill>
                <a:latin typeface="Arial"/>
              </a:rPr>
              <a:t> СПЮЛ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5" name="AutoShape 3">
            <a:hlinkClick r:id="" action="ppaction://hlinkshowjump?jump=previousslide"/>
          </p:cNvPr>
          <p:cNvSpPr/>
          <p:nvPr/>
        </p:nvSpPr>
        <p:spPr>
          <a:xfrm>
            <a:off x="8305920" y="624852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8107" y="7493"/>
                </a:moveTo>
                <a:lnTo>
                  <a:pt x="11615" y="7493"/>
                </a:lnTo>
                <a:lnTo>
                  <a:pt x="11615" y="12828"/>
                </a:lnTo>
                <a:cubicBezTo>
                  <a:pt x="11615" y="13751"/>
                  <a:pt x="12416" y="14482"/>
                  <a:pt x="13451" y="14482"/>
                </a:cubicBezTo>
                <a:lnTo>
                  <a:pt x="15114" y="14482"/>
                </a:lnTo>
                <a:cubicBezTo>
                  <a:pt x="16150" y="14482"/>
                  <a:pt x="16950" y="13751"/>
                  <a:pt x="16950" y="12828"/>
                </a:cubicBezTo>
                <a:lnTo>
                  <a:pt x="16950" y="7493"/>
                </a:lnTo>
                <a:lnTo>
                  <a:pt x="15114" y="7493"/>
                </a:lnTo>
                <a:lnTo>
                  <a:pt x="18621" y="3985"/>
                </a:lnTo>
                <a:lnTo>
                  <a:pt x="22294" y="7493"/>
                </a:lnTo>
                <a:lnTo>
                  <a:pt x="20458" y="7493"/>
                </a:lnTo>
                <a:lnTo>
                  <a:pt x="20458" y="12828"/>
                </a:lnTo>
                <a:cubicBezTo>
                  <a:pt x="20458" y="15596"/>
                  <a:pt x="17882" y="18155"/>
                  <a:pt x="15114" y="18155"/>
                </a:cubicBezTo>
                <a:lnTo>
                  <a:pt x="13451" y="18155"/>
                </a:lnTo>
                <a:cubicBezTo>
                  <a:pt x="10684" y="18155"/>
                  <a:pt x="8107" y="15596"/>
                  <a:pt x="8107" y="12828"/>
                </a:cubicBez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924680" cy="2971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eaeaea"/>
                </a:solidFill>
                <a:latin typeface="Arial"/>
              </a:rPr>
              <a:t>20 баллов.</a:t>
            </a:r>
            <a:br>
              <a:rPr sz="6600"/>
            </a:br>
            <a:br>
              <a:rPr sz="6600"/>
            </a:br>
            <a:r>
              <a:rPr b="0" lang="ru-RU" sz="6600" spc="-1" strike="noStrike">
                <a:solidFill>
                  <a:srgbClr val="eaeaea"/>
                </a:solidFill>
                <a:latin typeface="Arial"/>
              </a:rPr>
              <a:t> ТЕРЫЧЕ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7" name="AutoShape 3">
            <a:hlinkClick r:id="" action="ppaction://hlinkshowjump?jump=previousslide"/>
          </p:cNvPr>
          <p:cNvSpPr/>
          <p:nvPr/>
        </p:nvSpPr>
        <p:spPr>
          <a:xfrm>
            <a:off x="8534520" y="617220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3794" y="8844"/>
                </a:moveTo>
                <a:lnTo>
                  <a:pt x="7301" y="8844"/>
                </a:lnTo>
                <a:lnTo>
                  <a:pt x="7301" y="14180"/>
                </a:lnTo>
                <a:cubicBezTo>
                  <a:pt x="7301" y="15102"/>
                  <a:pt x="8102" y="15833"/>
                  <a:pt x="9138" y="15833"/>
                </a:cubicBezTo>
                <a:lnTo>
                  <a:pt x="10800" y="15833"/>
                </a:lnTo>
                <a:cubicBezTo>
                  <a:pt x="11836" y="15833"/>
                  <a:pt x="12636" y="15102"/>
                  <a:pt x="12636" y="14180"/>
                </a:cubicBezTo>
                <a:lnTo>
                  <a:pt x="12636" y="8844"/>
                </a:lnTo>
                <a:lnTo>
                  <a:pt x="10800" y="8844"/>
                </a:lnTo>
                <a:lnTo>
                  <a:pt x="14308" y="5337"/>
                </a:lnTo>
                <a:lnTo>
                  <a:pt x="17981" y="8844"/>
                </a:lnTo>
                <a:lnTo>
                  <a:pt x="16144" y="8844"/>
                </a:lnTo>
                <a:lnTo>
                  <a:pt x="16144" y="14180"/>
                </a:lnTo>
                <a:cubicBezTo>
                  <a:pt x="16144" y="16947"/>
                  <a:pt x="13568" y="19506"/>
                  <a:pt x="10800" y="19506"/>
                </a:cubicBezTo>
                <a:lnTo>
                  <a:pt x="9138" y="19506"/>
                </a:lnTo>
                <a:cubicBezTo>
                  <a:pt x="6370" y="19506"/>
                  <a:pt x="3794" y="16947"/>
                  <a:pt x="3794" y="14180"/>
                </a:cubicBez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Прямоугольник 1"/>
          <p:cNvSpPr/>
          <p:nvPr/>
        </p:nvSpPr>
        <p:spPr>
          <a:xfrm>
            <a:off x="304920" y="304920"/>
            <a:ext cx="83818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eaeaea"/>
                </a:solidFill>
                <a:latin typeface="Verdana"/>
              </a:rPr>
              <a:t>30 баллов.</a:t>
            </a:r>
            <a:endParaRPr b="0" lang="en-US" sz="66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0" lang="ru-RU" sz="6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6600" spc="-1" strike="noStrike">
                <a:solidFill>
                  <a:srgbClr val="eaeaea"/>
                </a:solidFill>
                <a:latin typeface="Verdana"/>
              </a:rPr>
              <a:t>ВРАДКАТ</a:t>
            </a:r>
            <a:endParaRPr b="0" lang="en-US" sz="6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9" name="AutoShape 3">
            <a:hlinkClick r:id="" action="ppaction://hlinkshowjump?jump=previousslide"/>
          </p:cNvPr>
          <p:cNvSpPr/>
          <p:nvPr/>
        </p:nvSpPr>
        <p:spPr>
          <a:xfrm>
            <a:off x="7924680" y="54100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3 раунд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2438280"/>
                <a:gridCol w="1447920"/>
                <a:gridCol w="1447920"/>
                <a:gridCol w="1523880"/>
                <a:gridCol w="1371600"/>
              </a:tblGrid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ff"/>
                          </a:solidFill>
                          <a:latin typeface="Verdana"/>
                        </a:rPr>
                        <a:t>Пословицы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10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20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30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40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ff"/>
                          </a:solidFill>
                          <a:latin typeface="Verdana"/>
                        </a:rPr>
                        <a:t>Анаграмм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10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20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30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40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5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ff"/>
                          </a:solidFill>
                          <a:latin typeface="Verdana"/>
                        </a:rPr>
                        <a:t>Загадк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10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20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30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40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620120" cy="3048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eaeaea"/>
                </a:solidFill>
                <a:latin typeface="Arial"/>
              </a:rPr>
              <a:t>40 баллов.</a:t>
            </a:r>
            <a:br>
              <a:rPr sz="6600"/>
            </a:br>
            <a:br>
              <a:rPr sz="6600"/>
            </a:br>
            <a:r>
              <a:rPr b="0" lang="ru-RU" sz="6600" spc="-1" strike="noStrike">
                <a:solidFill>
                  <a:srgbClr val="eaeaea"/>
                </a:solidFill>
                <a:latin typeface="Arial"/>
              </a:rPr>
              <a:t>ЗОСЬТАРН</a:t>
            </a:r>
            <a:br>
              <a:rPr sz="6600"/>
            </a:br>
            <a:r>
              <a:rPr b="0" lang="ru-RU" sz="4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1" name="AutoShape 3">
            <a:hlinkClick r:id="" action="ppaction://hlinkshowjump?jump=previousslide"/>
          </p:cNvPr>
          <p:cNvSpPr/>
          <p:nvPr/>
        </p:nvSpPr>
        <p:spPr>
          <a:xfrm>
            <a:off x="8458200" y="6095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eaeaea"/>
                </a:solidFill>
                <a:latin typeface="Verdana"/>
              </a:rPr>
              <a:t>10 баллов.</a:t>
            </a:r>
            <a:endParaRPr b="0" lang="en-US" sz="6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aeaea"/>
                </a:solidFill>
                <a:latin typeface="Verdana"/>
              </a:rPr>
              <a:t>Шея длинная такая, хвост крючком…</a:t>
            </a:r>
            <a:br>
              <a:rPr sz="4800"/>
            </a:br>
            <a:r>
              <a:rPr b="0" lang="ru-RU" sz="4800" spc="-1" strike="noStrike">
                <a:solidFill>
                  <a:srgbClr val="eaeaea"/>
                </a:solidFill>
                <a:latin typeface="Verdana"/>
              </a:rPr>
              <a:t>И не секрет, любит всех она лентяев, а ее лентяи – нет!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3" name="AutoShape 3">
            <a:hlinkClick r:id="" action="ppaction://hlinkshowjump?jump=previousslide"/>
          </p:cNvPr>
          <p:cNvSpPr/>
          <p:nvPr/>
        </p:nvSpPr>
        <p:spPr>
          <a:xfrm>
            <a:off x="81532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7493"/>
                </a:moveTo>
                <a:lnTo>
                  <a:pt x="8502" y="7493"/>
                </a:lnTo>
                <a:lnTo>
                  <a:pt x="8502" y="12828"/>
                </a:lnTo>
                <a:cubicBezTo>
                  <a:pt x="8502" y="13751"/>
                  <a:pt x="9303" y="14482"/>
                  <a:pt x="10339" y="14482"/>
                </a:cubicBezTo>
                <a:lnTo>
                  <a:pt x="12001" y="14482"/>
                </a:lnTo>
                <a:cubicBezTo>
                  <a:pt x="13037" y="14482"/>
                  <a:pt x="13838" y="13751"/>
                  <a:pt x="13838" y="12828"/>
                </a:cubicBezTo>
                <a:lnTo>
                  <a:pt x="13838" y="7493"/>
                </a:lnTo>
                <a:lnTo>
                  <a:pt x="12001" y="7493"/>
                </a:lnTo>
                <a:lnTo>
                  <a:pt x="15509" y="3985"/>
                </a:lnTo>
                <a:lnTo>
                  <a:pt x="19182" y="7493"/>
                </a:lnTo>
                <a:lnTo>
                  <a:pt x="17345" y="7493"/>
                </a:lnTo>
                <a:lnTo>
                  <a:pt x="17345" y="12828"/>
                </a:lnTo>
                <a:cubicBezTo>
                  <a:pt x="17345" y="15596"/>
                  <a:pt x="14769" y="18155"/>
                  <a:pt x="12001" y="18155"/>
                </a:cubicBezTo>
                <a:lnTo>
                  <a:pt x="10339" y="18155"/>
                </a:lnTo>
                <a:cubicBezTo>
                  <a:pt x="7571" y="18155"/>
                  <a:pt x="4995" y="15596"/>
                  <a:pt x="4995" y="12828"/>
                </a:cubicBez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457200" y="6854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eaeaea"/>
                </a:solidFill>
                <a:latin typeface="Verdana"/>
              </a:rPr>
              <a:t>20 баллов.</a:t>
            </a:r>
            <a:endParaRPr b="0" lang="en-US" sz="6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aeaea"/>
                </a:solidFill>
                <a:latin typeface="Verdana"/>
              </a:rPr>
              <a:t>Треугольная доска, а на ней три волоска. Волосок – тонкий, голосок – звонкий. 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5" name="AutoShape 3">
            <a:hlinkClick r:id="" action="ppaction://hlinkshowjump?jump=previousslide"/>
          </p:cNvPr>
          <p:cNvSpPr/>
          <p:nvPr/>
        </p:nvSpPr>
        <p:spPr>
          <a:xfrm>
            <a:off x="81532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7493"/>
                </a:moveTo>
                <a:lnTo>
                  <a:pt x="8502" y="7493"/>
                </a:lnTo>
                <a:lnTo>
                  <a:pt x="8502" y="12828"/>
                </a:lnTo>
                <a:cubicBezTo>
                  <a:pt x="8502" y="13751"/>
                  <a:pt x="9303" y="14482"/>
                  <a:pt x="10339" y="14482"/>
                </a:cubicBezTo>
                <a:lnTo>
                  <a:pt x="12001" y="14482"/>
                </a:lnTo>
                <a:cubicBezTo>
                  <a:pt x="13037" y="14482"/>
                  <a:pt x="13838" y="13751"/>
                  <a:pt x="13838" y="12828"/>
                </a:cubicBezTo>
                <a:lnTo>
                  <a:pt x="13838" y="7493"/>
                </a:lnTo>
                <a:lnTo>
                  <a:pt x="12001" y="7493"/>
                </a:lnTo>
                <a:lnTo>
                  <a:pt x="15509" y="3985"/>
                </a:lnTo>
                <a:lnTo>
                  <a:pt x="19182" y="7493"/>
                </a:lnTo>
                <a:lnTo>
                  <a:pt x="17345" y="7493"/>
                </a:lnTo>
                <a:lnTo>
                  <a:pt x="17345" y="12828"/>
                </a:lnTo>
                <a:cubicBezTo>
                  <a:pt x="17345" y="15596"/>
                  <a:pt x="14769" y="18155"/>
                  <a:pt x="12001" y="18155"/>
                </a:cubicBezTo>
                <a:lnTo>
                  <a:pt x="10339" y="18155"/>
                </a:lnTo>
                <a:cubicBezTo>
                  <a:pt x="7571" y="18155"/>
                  <a:pt x="4995" y="15596"/>
                  <a:pt x="4995" y="12828"/>
                </a:cubicBez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eaeaea"/>
                </a:solidFill>
                <a:latin typeface="Verdana"/>
              </a:rPr>
              <a:t>30 баллов.</a:t>
            </a:r>
            <a:endParaRPr b="0" lang="en-US" sz="6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aeaea"/>
                </a:solidFill>
                <a:latin typeface="Verdana"/>
              </a:rPr>
              <a:t>Если на голову встанет, ровно на три больше станет .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7" name="AutoShape 3">
            <a:hlinkClick r:id="" action="ppaction://hlinkshowjump?jump=previousslide"/>
          </p:cNvPr>
          <p:cNvSpPr/>
          <p:nvPr/>
        </p:nvSpPr>
        <p:spPr>
          <a:xfrm>
            <a:off x="81532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7493"/>
                </a:moveTo>
                <a:lnTo>
                  <a:pt x="8502" y="7493"/>
                </a:lnTo>
                <a:lnTo>
                  <a:pt x="8502" y="12828"/>
                </a:lnTo>
                <a:cubicBezTo>
                  <a:pt x="8502" y="13751"/>
                  <a:pt x="9303" y="14482"/>
                  <a:pt x="10339" y="14482"/>
                </a:cubicBezTo>
                <a:lnTo>
                  <a:pt x="12001" y="14482"/>
                </a:lnTo>
                <a:cubicBezTo>
                  <a:pt x="13037" y="14482"/>
                  <a:pt x="13838" y="13751"/>
                  <a:pt x="13838" y="12828"/>
                </a:cubicBezTo>
                <a:lnTo>
                  <a:pt x="13838" y="7493"/>
                </a:lnTo>
                <a:lnTo>
                  <a:pt x="12001" y="7493"/>
                </a:lnTo>
                <a:lnTo>
                  <a:pt x="15509" y="3985"/>
                </a:lnTo>
                <a:lnTo>
                  <a:pt x="19182" y="7493"/>
                </a:lnTo>
                <a:lnTo>
                  <a:pt x="17345" y="7493"/>
                </a:lnTo>
                <a:lnTo>
                  <a:pt x="17345" y="12828"/>
                </a:lnTo>
                <a:cubicBezTo>
                  <a:pt x="17345" y="15596"/>
                  <a:pt x="14769" y="18155"/>
                  <a:pt x="12001" y="18155"/>
                </a:cubicBezTo>
                <a:lnTo>
                  <a:pt x="10339" y="18155"/>
                </a:lnTo>
                <a:cubicBezTo>
                  <a:pt x="7571" y="18155"/>
                  <a:pt x="4995" y="15596"/>
                  <a:pt x="4995" y="12828"/>
                </a:cubicBez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457200" y="6854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eaeaea"/>
                </a:solidFill>
                <a:latin typeface="Verdana"/>
              </a:rPr>
              <a:t>40 баллов.</a:t>
            </a:r>
            <a:endParaRPr b="0" lang="en-US" sz="6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aeaea"/>
                </a:solidFill>
                <a:latin typeface="Verdana"/>
              </a:rPr>
              <a:t>Кто в году четыре раза переодевается?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9" name="AutoShape 3">
            <a:hlinkClick r:id="" action="ppaction://hlinkshowjump?jump=previousslide"/>
          </p:cNvPr>
          <p:cNvSpPr/>
          <p:nvPr/>
        </p:nvSpPr>
        <p:spPr>
          <a:xfrm>
            <a:off x="81532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7493"/>
                </a:moveTo>
                <a:lnTo>
                  <a:pt x="8502" y="7493"/>
                </a:lnTo>
                <a:lnTo>
                  <a:pt x="8502" y="12828"/>
                </a:lnTo>
                <a:cubicBezTo>
                  <a:pt x="8502" y="13751"/>
                  <a:pt x="9303" y="14482"/>
                  <a:pt x="10339" y="14482"/>
                </a:cubicBezTo>
                <a:lnTo>
                  <a:pt x="12001" y="14482"/>
                </a:lnTo>
                <a:cubicBezTo>
                  <a:pt x="13037" y="14482"/>
                  <a:pt x="13838" y="13751"/>
                  <a:pt x="13838" y="12828"/>
                </a:cubicBezTo>
                <a:lnTo>
                  <a:pt x="13838" y="7493"/>
                </a:lnTo>
                <a:lnTo>
                  <a:pt x="12001" y="7493"/>
                </a:lnTo>
                <a:lnTo>
                  <a:pt x="15509" y="3985"/>
                </a:lnTo>
                <a:lnTo>
                  <a:pt x="19182" y="7493"/>
                </a:lnTo>
                <a:lnTo>
                  <a:pt x="17345" y="7493"/>
                </a:lnTo>
                <a:lnTo>
                  <a:pt x="17345" y="12828"/>
                </a:lnTo>
                <a:cubicBezTo>
                  <a:pt x="17345" y="15596"/>
                  <a:pt x="14769" y="18155"/>
                  <a:pt x="12001" y="18155"/>
                </a:cubicBezTo>
                <a:lnTo>
                  <a:pt x="10339" y="18155"/>
                </a:lnTo>
                <a:cubicBezTo>
                  <a:pt x="7571" y="18155"/>
                  <a:pt x="4995" y="15596"/>
                  <a:pt x="4995" y="12828"/>
                </a:cubicBez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57200" y="609120"/>
            <a:ext cx="8229600" cy="55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ff0000"/>
                </a:solidFill>
                <a:latin typeface="Monotype Corsiva"/>
              </a:rPr>
              <a:t>С п а с и б о</a:t>
            </a:r>
            <a:endParaRPr b="0" lang="en-US" sz="9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ff0000"/>
                </a:solidFill>
                <a:latin typeface="Monotype Corsiva"/>
              </a:rPr>
              <a:t>За</a:t>
            </a:r>
            <a:endParaRPr b="0" lang="en-US" sz="9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ff0000"/>
                </a:solidFill>
                <a:latin typeface="Monotype Corsiva"/>
              </a:rPr>
              <a:t>Игру!!!</a:t>
            </a:r>
            <a:endParaRPr b="0" lang="en-US" sz="9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43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eaeaea"/>
                </a:solidFill>
                <a:latin typeface="Arial"/>
              </a:rPr>
              <a:t>10 баллов.</a:t>
            </a:r>
            <a:br>
              <a:rPr sz="6000"/>
            </a:br>
            <a:r>
              <a:rPr b="0" lang="ru-RU" sz="6000" spc="-1" strike="noStrike">
                <a:solidFill>
                  <a:srgbClr val="eaeaea"/>
                </a:solidFill>
                <a:latin typeface="Arial"/>
              </a:rPr>
              <a:t>Сколько дюжин в сутках?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AutoShape 3">
            <a:hlinkClick r:id="" action="ppaction://hlinkshowjump?jump=previousslide"/>
          </p:cNvPr>
          <p:cNvSpPr/>
          <p:nvPr/>
        </p:nvSpPr>
        <p:spPr>
          <a:xfrm>
            <a:off x="8459640" y="6165720"/>
            <a:ext cx="684360" cy="69228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692280"/>
              <a:gd name="textAreaBottom" fmla="*/ 648000 h 692280"/>
            </a:gdLst>
            <a:ahLst/>
            <a:rect l="textAreaLeft" t="textAreaTop" r="textAreaRight" b="textAreaBottom"/>
            <a:pathLst>
              <a:path w="21600" h="21850">
                <a:moveTo>
                  <a:pt x="0" y="0"/>
                </a:moveTo>
                <a:lnTo>
                  <a:pt x="21600" y="0"/>
                </a:lnTo>
                <a:lnTo>
                  <a:pt x="21600" y="21850"/>
                </a:lnTo>
                <a:lnTo>
                  <a:pt x="0" y="21850"/>
                </a:lnTo>
                <a:close/>
              </a:path>
              <a:path fill="lightenLess" w="21600" h="2185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50">
                <a:moveTo>
                  <a:pt x="21600" y="0"/>
                </a:moveTo>
                <a:lnTo>
                  <a:pt x="21600" y="21850"/>
                </a:lnTo>
                <a:lnTo>
                  <a:pt x="20200" y="20450"/>
                </a:lnTo>
                <a:lnTo>
                  <a:pt x="20200" y="1400"/>
                </a:lnTo>
                <a:close/>
              </a:path>
              <a:path fill="darkenLess" w="21600" h="21850">
                <a:moveTo>
                  <a:pt x="21600" y="21850"/>
                </a:moveTo>
                <a:lnTo>
                  <a:pt x="0" y="21850"/>
                </a:lnTo>
                <a:lnTo>
                  <a:pt x="1400" y="20450"/>
                </a:lnTo>
                <a:lnTo>
                  <a:pt x="20200" y="20450"/>
                </a:lnTo>
                <a:close/>
              </a:path>
              <a:path fill="lighten" w="21600" h="21850">
                <a:moveTo>
                  <a:pt x="0" y="2185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50"/>
                </a:lnTo>
                <a:close/>
              </a:path>
              <a:path fill="darken" w="21600" h="21850">
                <a:moveTo>
                  <a:pt x="3794" y="7618"/>
                </a:moveTo>
                <a:lnTo>
                  <a:pt x="7301" y="7618"/>
                </a:lnTo>
                <a:lnTo>
                  <a:pt x="7301" y="12953"/>
                </a:lnTo>
                <a:cubicBezTo>
                  <a:pt x="7301" y="13875"/>
                  <a:pt x="8102" y="14607"/>
                  <a:pt x="9138" y="14607"/>
                </a:cubicBezTo>
                <a:lnTo>
                  <a:pt x="10800" y="14607"/>
                </a:lnTo>
                <a:cubicBezTo>
                  <a:pt x="11836" y="14607"/>
                  <a:pt x="12636" y="13875"/>
                  <a:pt x="12636" y="12953"/>
                </a:cubicBezTo>
                <a:lnTo>
                  <a:pt x="12636" y="7618"/>
                </a:lnTo>
                <a:lnTo>
                  <a:pt x="10800" y="7618"/>
                </a:lnTo>
                <a:lnTo>
                  <a:pt x="14308" y="4110"/>
                </a:lnTo>
                <a:lnTo>
                  <a:pt x="17981" y="7618"/>
                </a:lnTo>
                <a:lnTo>
                  <a:pt x="16144" y="7618"/>
                </a:lnTo>
                <a:lnTo>
                  <a:pt x="16144" y="12953"/>
                </a:lnTo>
                <a:cubicBezTo>
                  <a:pt x="16144" y="15721"/>
                  <a:pt x="13568" y="18280"/>
                  <a:pt x="10800" y="18280"/>
                </a:cubicBezTo>
                <a:lnTo>
                  <a:pt x="9138" y="18280"/>
                </a:lnTo>
                <a:cubicBezTo>
                  <a:pt x="6370" y="18280"/>
                  <a:pt x="3794" y="15721"/>
                  <a:pt x="3794" y="12953"/>
                </a:cubicBez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91520" cy="6216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eaeaea"/>
                </a:solidFill>
                <a:latin typeface="Arial"/>
              </a:rPr>
              <a:t>20 баллов.</a:t>
            </a:r>
            <a:br>
              <a:rPr sz="6000"/>
            </a:br>
            <a:r>
              <a:rPr b="0" lang="ru-RU" sz="6000" spc="-1" strike="noStrike">
                <a:solidFill>
                  <a:srgbClr val="eaeaea"/>
                </a:solidFill>
                <a:latin typeface="Arial"/>
              </a:rPr>
              <a:t>Сколько подвигов совершил Геракл?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AutoShape 3">
            <a:hlinkClick r:id="" action="ppaction://hlinkshowjump?jump=previousslide"/>
          </p:cNvPr>
          <p:cNvSpPr/>
          <p:nvPr/>
        </p:nvSpPr>
        <p:spPr>
          <a:xfrm>
            <a:off x="8532720" y="6237360"/>
            <a:ext cx="611280" cy="62064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20640"/>
              <a:gd name="textAreaBottom" fmla="*/ 581040 h 620640"/>
            </a:gdLst>
            <a:ahLst/>
            <a:rect l="textAreaLeft" t="textAreaTop" r="textAreaRight" b="textAreaBottom"/>
            <a:pathLst>
              <a:path w="21600" h="21931">
                <a:moveTo>
                  <a:pt x="0" y="0"/>
                </a:moveTo>
                <a:lnTo>
                  <a:pt x="21600" y="0"/>
                </a:lnTo>
                <a:lnTo>
                  <a:pt x="21600" y="21931"/>
                </a:lnTo>
                <a:lnTo>
                  <a:pt x="0" y="21931"/>
                </a:lnTo>
                <a:close/>
              </a:path>
              <a:path fill="lightenLess" w="21600" h="219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31">
                <a:moveTo>
                  <a:pt x="21600" y="0"/>
                </a:moveTo>
                <a:lnTo>
                  <a:pt x="21600" y="21931"/>
                </a:lnTo>
                <a:lnTo>
                  <a:pt x="20200" y="20531"/>
                </a:lnTo>
                <a:lnTo>
                  <a:pt x="20200" y="1400"/>
                </a:lnTo>
                <a:close/>
              </a:path>
              <a:path fill="darkenLess" w="21600" h="21931">
                <a:moveTo>
                  <a:pt x="21600" y="21931"/>
                </a:moveTo>
                <a:lnTo>
                  <a:pt x="0" y="21931"/>
                </a:lnTo>
                <a:lnTo>
                  <a:pt x="1400" y="20531"/>
                </a:lnTo>
                <a:lnTo>
                  <a:pt x="20200" y="20531"/>
                </a:lnTo>
                <a:close/>
              </a:path>
              <a:path fill="lighten" w="21600" h="21931">
                <a:moveTo>
                  <a:pt x="0" y="219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31"/>
                </a:lnTo>
                <a:close/>
              </a:path>
              <a:path fill="darken" w="21600" h="21931">
                <a:moveTo>
                  <a:pt x="3794" y="7658"/>
                </a:moveTo>
                <a:lnTo>
                  <a:pt x="7301" y="7658"/>
                </a:lnTo>
                <a:lnTo>
                  <a:pt x="7301" y="12993"/>
                </a:lnTo>
                <a:cubicBezTo>
                  <a:pt x="7301" y="13916"/>
                  <a:pt x="8102" y="14647"/>
                  <a:pt x="9138" y="14647"/>
                </a:cubicBezTo>
                <a:lnTo>
                  <a:pt x="10800" y="14647"/>
                </a:lnTo>
                <a:cubicBezTo>
                  <a:pt x="11836" y="14647"/>
                  <a:pt x="12636" y="13916"/>
                  <a:pt x="12636" y="12993"/>
                </a:cubicBezTo>
                <a:lnTo>
                  <a:pt x="12636" y="7658"/>
                </a:lnTo>
                <a:lnTo>
                  <a:pt x="10800" y="7658"/>
                </a:lnTo>
                <a:lnTo>
                  <a:pt x="14308" y="4150"/>
                </a:lnTo>
                <a:lnTo>
                  <a:pt x="17981" y="7658"/>
                </a:lnTo>
                <a:lnTo>
                  <a:pt x="16144" y="7658"/>
                </a:lnTo>
                <a:lnTo>
                  <a:pt x="16144" y="12993"/>
                </a:lnTo>
                <a:cubicBezTo>
                  <a:pt x="16144" y="15761"/>
                  <a:pt x="13568" y="18320"/>
                  <a:pt x="10800" y="18320"/>
                </a:cubicBezTo>
                <a:lnTo>
                  <a:pt x="9138" y="18320"/>
                </a:lnTo>
                <a:cubicBezTo>
                  <a:pt x="6370" y="18320"/>
                  <a:pt x="3794" y="15761"/>
                  <a:pt x="3794" y="12993"/>
                </a:cubicBez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216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eaeaea"/>
                </a:solidFill>
                <a:latin typeface="Arial"/>
              </a:rPr>
              <a:t>30 баллов.</a:t>
            </a:r>
            <a:br>
              <a:rPr sz="6000"/>
            </a:br>
            <a:r>
              <a:rPr b="0" lang="ru-RU" sz="6000" spc="-1" strike="noStrike">
                <a:solidFill>
                  <a:srgbClr val="eaeaea"/>
                </a:solidFill>
                <a:latin typeface="Arial"/>
              </a:rPr>
              <a:t>Сколько насчитывается чудес света?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AutoShape 3">
            <a:hlinkClick r:id="" action="ppaction://hlinkshowjump?jump=previousslide"/>
          </p:cNvPr>
          <p:cNvSpPr/>
          <p:nvPr/>
        </p:nvSpPr>
        <p:spPr>
          <a:xfrm>
            <a:off x="8532720" y="6237360"/>
            <a:ext cx="611280" cy="62064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20640"/>
              <a:gd name="textAreaBottom" fmla="*/ 581040 h 620640"/>
            </a:gdLst>
            <a:ahLst/>
            <a:rect l="textAreaLeft" t="textAreaTop" r="textAreaRight" b="textAreaBottom"/>
            <a:pathLst>
              <a:path w="21600" h="21931">
                <a:moveTo>
                  <a:pt x="0" y="0"/>
                </a:moveTo>
                <a:lnTo>
                  <a:pt x="21600" y="0"/>
                </a:lnTo>
                <a:lnTo>
                  <a:pt x="21600" y="21931"/>
                </a:lnTo>
                <a:lnTo>
                  <a:pt x="0" y="21931"/>
                </a:lnTo>
                <a:close/>
              </a:path>
              <a:path fill="lightenLess" w="21600" h="219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31">
                <a:moveTo>
                  <a:pt x="21600" y="0"/>
                </a:moveTo>
                <a:lnTo>
                  <a:pt x="21600" y="21931"/>
                </a:lnTo>
                <a:lnTo>
                  <a:pt x="20200" y="20531"/>
                </a:lnTo>
                <a:lnTo>
                  <a:pt x="20200" y="1400"/>
                </a:lnTo>
                <a:close/>
              </a:path>
              <a:path fill="darkenLess" w="21600" h="21931">
                <a:moveTo>
                  <a:pt x="21600" y="21931"/>
                </a:moveTo>
                <a:lnTo>
                  <a:pt x="0" y="21931"/>
                </a:lnTo>
                <a:lnTo>
                  <a:pt x="1400" y="20531"/>
                </a:lnTo>
                <a:lnTo>
                  <a:pt x="20200" y="20531"/>
                </a:lnTo>
                <a:close/>
              </a:path>
              <a:path fill="lighten" w="21600" h="21931">
                <a:moveTo>
                  <a:pt x="0" y="219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31"/>
                </a:lnTo>
                <a:close/>
              </a:path>
              <a:path fill="darken" w="21600" h="21931">
                <a:moveTo>
                  <a:pt x="3794" y="7658"/>
                </a:moveTo>
                <a:lnTo>
                  <a:pt x="7301" y="7658"/>
                </a:lnTo>
                <a:lnTo>
                  <a:pt x="7301" y="12993"/>
                </a:lnTo>
                <a:cubicBezTo>
                  <a:pt x="7301" y="13916"/>
                  <a:pt x="8102" y="14647"/>
                  <a:pt x="9138" y="14647"/>
                </a:cubicBezTo>
                <a:lnTo>
                  <a:pt x="10800" y="14647"/>
                </a:lnTo>
                <a:cubicBezTo>
                  <a:pt x="11836" y="14647"/>
                  <a:pt x="12636" y="13916"/>
                  <a:pt x="12636" y="12993"/>
                </a:cubicBezTo>
                <a:lnTo>
                  <a:pt x="12636" y="7658"/>
                </a:lnTo>
                <a:lnTo>
                  <a:pt x="10800" y="7658"/>
                </a:lnTo>
                <a:lnTo>
                  <a:pt x="14308" y="4150"/>
                </a:lnTo>
                <a:lnTo>
                  <a:pt x="17981" y="7658"/>
                </a:lnTo>
                <a:lnTo>
                  <a:pt x="16144" y="7658"/>
                </a:lnTo>
                <a:lnTo>
                  <a:pt x="16144" y="12993"/>
                </a:lnTo>
                <a:cubicBezTo>
                  <a:pt x="16144" y="15761"/>
                  <a:pt x="13568" y="18320"/>
                  <a:pt x="10800" y="18320"/>
                </a:cubicBezTo>
                <a:lnTo>
                  <a:pt x="9138" y="18320"/>
                </a:lnTo>
                <a:cubicBezTo>
                  <a:pt x="6370" y="18320"/>
                  <a:pt x="3794" y="15761"/>
                  <a:pt x="3794" y="12993"/>
                </a:cubicBez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02560" cy="6400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eaeaea"/>
                </a:solidFill>
                <a:latin typeface="Arial"/>
              </a:rPr>
              <a:t>40 баллов.</a:t>
            </a:r>
            <a:br>
              <a:rPr sz="6000"/>
            </a:br>
            <a:r>
              <a:rPr b="0" lang="ru-RU" sz="6000" spc="-1" strike="noStrike">
                <a:solidFill>
                  <a:srgbClr val="eaeaea"/>
                </a:solidFill>
                <a:latin typeface="Arial"/>
              </a:rPr>
              <a:t>Сколько мишек на картине Шишкина «Утро в сосновом бору?»</a:t>
            </a:r>
            <a:br>
              <a:rPr sz="6000"/>
            </a:b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AutoShape 3">
            <a:hlinkClick r:id="" action="ppaction://hlinkshowjump?jump=previousslide"/>
          </p:cNvPr>
          <p:cNvSpPr/>
          <p:nvPr/>
        </p:nvSpPr>
        <p:spPr>
          <a:xfrm>
            <a:off x="8532720" y="6165720"/>
            <a:ext cx="611280" cy="69228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92280"/>
              <a:gd name="textAreaBottom" fmla="*/ 652680 h 692280"/>
            </a:gdLst>
            <a:ahLst/>
            <a:rect l="textAreaLeft" t="textAreaTop" r="textAreaRight" b="textAreaBottom"/>
            <a:pathLst>
              <a:path w="21600" h="24461">
                <a:moveTo>
                  <a:pt x="0" y="0"/>
                </a:moveTo>
                <a:lnTo>
                  <a:pt x="21600" y="0"/>
                </a:lnTo>
                <a:lnTo>
                  <a:pt x="21600" y="24461"/>
                </a:lnTo>
                <a:lnTo>
                  <a:pt x="0" y="24461"/>
                </a:lnTo>
                <a:close/>
              </a:path>
              <a:path fill="lightenLess" w="21600" h="244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461">
                <a:moveTo>
                  <a:pt x="21600" y="0"/>
                </a:moveTo>
                <a:lnTo>
                  <a:pt x="21600" y="24461"/>
                </a:lnTo>
                <a:lnTo>
                  <a:pt x="20200" y="23061"/>
                </a:lnTo>
                <a:lnTo>
                  <a:pt x="20200" y="1400"/>
                </a:lnTo>
                <a:close/>
              </a:path>
              <a:path fill="darkenLess" w="21600" h="24461">
                <a:moveTo>
                  <a:pt x="21600" y="24461"/>
                </a:moveTo>
                <a:lnTo>
                  <a:pt x="0" y="24461"/>
                </a:lnTo>
                <a:lnTo>
                  <a:pt x="1400" y="23061"/>
                </a:lnTo>
                <a:lnTo>
                  <a:pt x="20200" y="23061"/>
                </a:lnTo>
                <a:close/>
              </a:path>
              <a:path fill="lighten" w="21600" h="24461">
                <a:moveTo>
                  <a:pt x="0" y="244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061"/>
                </a:lnTo>
                <a:close/>
              </a:path>
              <a:path fill="darken" w="21600" h="24461">
                <a:moveTo>
                  <a:pt x="3794" y="8923"/>
                </a:moveTo>
                <a:lnTo>
                  <a:pt x="7301" y="8923"/>
                </a:lnTo>
                <a:lnTo>
                  <a:pt x="7301" y="14258"/>
                </a:lnTo>
                <a:cubicBezTo>
                  <a:pt x="7301" y="15181"/>
                  <a:pt x="8102" y="15912"/>
                  <a:pt x="9138" y="15912"/>
                </a:cubicBezTo>
                <a:lnTo>
                  <a:pt x="10800" y="15912"/>
                </a:lnTo>
                <a:cubicBezTo>
                  <a:pt x="11836" y="15912"/>
                  <a:pt x="12636" y="15181"/>
                  <a:pt x="12636" y="14258"/>
                </a:cubicBezTo>
                <a:lnTo>
                  <a:pt x="12636" y="8923"/>
                </a:lnTo>
                <a:lnTo>
                  <a:pt x="10800" y="8923"/>
                </a:lnTo>
                <a:lnTo>
                  <a:pt x="14308" y="5415"/>
                </a:lnTo>
                <a:lnTo>
                  <a:pt x="17981" y="8923"/>
                </a:lnTo>
                <a:lnTo>
                  <a:pt x="16144" y="8923"/>
                </a:lnTo>
                <a:lnTo>
                  <a:pt x="16144" y="14258"/>
                </a:lnTo>
                <a:cubicBezTo>
                  <a:pt x="16144" y="17026"/>
                  <a:pt x="13568" y="19585"/>
                  <a:pt x="10800" y="19585"/>
                </a:cubicBezTo>
                <a:lnTo>
                  <a:pt x="9138" y="19585"/>
                </a:lnTo>
                <a:cubicBezTo>
                  <a:pt x="6370" y="19585"/>
                  <a:pt x="3794" y="17026"/>
                  <a:pt x="3794" y="14258"/>
                </a:cubicBez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0" y="4568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eaeaea"/>
                </a:solidFill>
                <a:latin typeface="Verdana"/>
              </a:rPr>
              <a:t>10 баллов. </a:t>
            </a:r>
            <a:endParaRPr b="0" lang="en-US" sz="6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eaeaea"/>
                </a:solidFill>
                <a:latin typeface="Verdana"/>
              </a:rPr>
              <a:t>Древнегреческий математик, автор первого трактата по геометрии.</a:t>
            </a:r>
            <a:endParaRPr b="0" lang="en-US" sz="6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AutoShape 3">
            <a:hlinkClick r:id="" action="ppaction://hlinkshowjump?jump=previousslide"/>
          </p:cNvPr>
          <p:cNvSpPr/>
          <p:nvPr/>
        </p:nvSpPr>
        <p:spPr>
          <a:xfrm>
            <a:off x="8610480" y="624852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9029"/>
                </a:moveTo>
                <a:lnTo>
                  <a:pt x="7301" y="9029"/>
                </a:lnTo>
                <a:lnTo>
                  <a:pt x="7301" y="14365"/>
                </a:lnTo>
                <a:cubicBezTo>
                  <a:pt x="7301" y="15287"/>
                  <a:pt x="8102" y="16018"/>
                  <a:pt x="9138" y="16018"/>
                </a:cubicBezTo>
                <a:lnTo>
                  <a:pt x="10800" y="16018"/>
                </a:lnTo>
                <a:cubicBezTo>
                  <a:pt x="11836" y="16018"/>
                  <a:pt x="12636" y="15287"/>
                  <a:pt x="12636" y="14365"/>
                </a:cubicBezTo>
                <a:lnTo>
                  <a:pt x="12636" y="9029"/>
                </a:lnTo>
                <a:lnTo>
                  <a:pt x="10800" y="9029"/>
                </a:lnTo>
                <a:lnTo>
                  <a:pt x="14308" y="5522"/>
                </a:lnTo>
                <a:lnTo>
                  <a:pt x="17981" y="9029"/>
                </a:lnTo>
                <a:lnTo>
                  <a:pt x="16144" y="9029"/>
                </a:lnTo>
                <a:lnTo>
                  <a:pt x="16144" y="14365"/>
                </a:lnTo>
                <a:cubicBezTo>
                  <a:pt x="16144" y="17132"/>
                  <a:pt x="13568" y="19691"/>
                  <a:pt x="10800" y="19691"/>
                </a:cubicBezTo>
                <a:lnTo>
                  <a:pt x="9138" y="19691"/>
                </a:lnTo>
                <a:cubicBezTo>
                  <a:pt x="6370" y="19691"/>
                  <a:pt x="3794" y="17132"/>
                  <a:pt x="3794" y="14365"/>
                </a:cubicBez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3-26T18:12:15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