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jpeg" ContentType="image/jpeg"/>
  <Override PartName="/ppt/media/image53.jpeg" ContentType="image/jpeg"/>
  <Override PartName="/ppt/media/image51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8.jpeg" ContentType="image/jpeg"/>
  <Override PartName="/ppt/media/image1.jpeg" ContentType="image/jpeg"/>
  <Override PartName="/ppt/media/image35.jpeg" ContentType="image/jpeg"/>
  <Override PartName="/ppt/media/image67.png" ContentType="image/png"/>
  <Override PartName="/ppt/media/image60.jpeg" ContentType="image/jpeg"/>
  <Override PartName="/ppt/media/image30.png" ContentType="image/png"/>
  <Override PartName="/ppt/media/image63.jpeg" ContentType="image/jpeg"/>
  <Override PartName="/ppt/media/image6.jpeg" ContentType="image/jpeg"/>
  <Override PartName="/ppt/media/image65.jpeg" ContentType="image/jpeg"/>
  <Override PartName="/ppt/media/image39.jpeg" ContentType="image/jpeg"/>
  <Override PartName="/ppt/media/image38.jpeg" ContentType="image/jpeg"/>
  <Override PartName="/ppt/media/image64.jpeg" ContentType="image/jpeg"/>
  <Override PartName="/ppt/media/image2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40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1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image8.png" ContentType="image/png"/>
  <Override PartName="/ppt/media/image23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52.jpeg" ContentType="image/jpeg"/>
  <Override PartName="/ppt/media/image13.png" ContentType="image/png"/>
  <Override PartName="/ppt/media/image33.png" ContentType="image/png"/>
  <Override PartName="/ppt/media/image54.jpeg" ContentType="image/jpeg"/>
  <Override PartName="/ppt/media/image31.jpeg" ContentType="image/jpeg"/>
  <Override PartName="/ppt/media/image32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41.jpeg" ContentType="image/jpeg"/>
  <Override PartName="/ppt/media/image42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784-8996-4C7C-B5C6-AB4B3BB9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26E-CAC4-476B-87FA-053444F5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B07-473C-4752-AFAE-AD1303F2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287-A7C4-4756-B0B8-EEC10EA3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6702-F290-41A3-8BE4-5CB2D7E8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6C6-B434-4E0B-B558-FE3B1B5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DCC-5FFF-48FB-9478-AC1459B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C0B9-99B3-4E05-A226-87059E0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9A3-B206-484A-BD5E-B7039B0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9AAD-FED3-48EB-9E27-01D4B11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3402-DB66-430E-9A2E-AA3534D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084-1E56-44B2-9B04-531EFA9F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291E-FB0F-486D-9BE0-1CAE6B8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C389-6A4C-4F5C-8AD4-1A76E4F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F7B-CC7F-4BB0-830E-64DB7BE6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336-3C23-446D-A706-11AA72C3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8DE8-E8F0-40AE-AD18-F044ED28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F67B-94A0-44AA-A7FC-1E5536D4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D911-05DD-4DDB-B4DF-C95BAEC1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67F9-9D49-4DBF-97B1-C8C5CBA7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9609-E66E-4D92-B75F-84A4EAC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8B22-C8E3-4639-9330-5F7DFE56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F8F-6A92-4A9F-9771-8FF4E2BF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68E2-AF9E-49A7-87F1-663FF38D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0134-8A22-43C7-849C-3246C3A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A74F-7D84-48D4-9A50-CDFF894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219F-6610-4F51-BEFD-FA54356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9705-7D51-4C74-AFE1-639D9A2A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D578-723D-497D-851E-BF0826B6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B731-AB7E-41B8-8806-94F5FDA3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3526-6DCB-445E-95E3-8BA58F99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5CAE-A666-4F6A-BA2B-1788824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25ED-D83C-4A45-9130-BA503863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642-3D2B-4700-8424-3FB6EC40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B18B-335A-4D5A-8DAB-B6733DF9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C48F-C2A4-415C-9A51-306203E3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12E0-4F35-4602-8A00-0C98E33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DEC67-878C-40DD-8E36-34B8132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51B2-F920-4B17-AA55-7BAE695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A93C-18F0-4CD8-885D-A79C6D9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93C2-4E80-4408-8849-524E1803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0B08-316B-45B2-8D4A-8B9DD7EE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190D-B617-403C-A470-5C638474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BD04-9338-45F6-B3B7-C7D3BA38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084-4E4E-4C25-BE29-78FF2056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2961-51BA-4007-9ED3-E3E31667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77F4-A84F-4DC4-97DA-0147D6B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A843-8492-44D4-B3D0-4AF8CAF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CBE7-62D8-4316-9E84-5CB9609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E75A-1197-49C7-945F-A1FE1B6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AD75-CEDC-4B67-B5EA-72294A9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0A25-DD23-4254-9385-FE99E47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B7A7-3547-4DF7-B062-3D30BD8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7F76-D3A8-44AC-9C27-8484D0EB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3DA2-F1F8-489B-9696-5E70E96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575-F08D-4170-B4B8-31AA55F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F8A3-59A8-4967-8B2A-886BDA9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284F-4AD2-4605-BA07-C3A1CD7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B37E-8C0C-4C62-8FF4-FD1CF21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AB81-00C8-4064-9418-8EAC775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4169-76B5-444C-AA39-C2597C5B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8EFC-8F8D-4AD2-BA69-ADF3239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178A-A765-41DC-B5AB-BD4620F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7C83-DA61-4B76-B7D9-DE33BBC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8F9C-233E-40D9-B56E-43771EC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85E03-32D3-47CC-9EB1-A83AD91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51F-EF26-4BC2-AF51-A9B89B4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F8E03-15CF-4B15-A0BB-8CF28E3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3F23-C20F-447D-B5E7-5F5619F4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1961-CC62-4930-B1DB-21A531A9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0254-E72F-42DC-B6A8-9993770E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3BA8-6C5F-452B-AF66-A402085C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0C497-1B44-4E12-B15A-5F1602D8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44D0F-DA99-48D1-96A6-B7CAE41A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4D05-34AC-4329-944C-00D7CE0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4D05-32B9-4919-BA44-7B1413A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A4B45-F4D3-4EC8-A587-0BB31A8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F5D-56E9-44D1-8720-0DDBC13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9A5B-8AF8-4F5B-8F25-2342374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2D26-4A8C-4F13-AD46-E5AD3BF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5734-E96A-4E47-B800-B7D90AEA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BEE65-007A-4EBB-B3DC-98DD66DC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A66C-FBB4-4D6A-A548-F7A4F800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EF32-D8A1-46EA-8746-C8F0950F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F780-3356-4585-92F4-15F08A8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239E7-8A8D-4C04-AFAF-0CB64171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B050-DC2F-4C59-96DC-05437BB8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DA62-8354-4AEF-A83F-78B9BEF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703-054A-4F98-B8D8-6554556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6E0F-A8FA-4F43-8845-34B1C54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EB2F7-575E-4FFC-9827-5AAB476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96AA-FEAD-4504-94FB-7643191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9B0E1-3072-4A1D-AAB3-B793969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46F1-760A-4B75-BEC7-D1D5F38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480E4-3FC9-43A5-98B8-73A526E5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B57F5-87F5-4CC6-99E8-4E4822FA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6D4-26E9-4A6B-BBA6-28A1374BA0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303D-8032-4DA5-9C22-EF58D047DE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71F-A445-40E6-950E-67BBC79B3F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CDDD-8F86-4EAB-9DCB-24E8EA44D4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9C6-0D57-477A-9C48-8542E183E9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65F-6558-4313-8EE0-971EE254FF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455-6EFF-416B-93A1-39D7132271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C5E-9A49-4E73-9128-096864F6F3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oialbinoi.de/wp-content/uploads/2009/09/fresh-150x150.jpg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consumer-club.com.ua/modules/multimedia/media/foto/20443.jpg" TargetMode="External"/><Relationship Id="rId4" Type="http://schemas.openxmlformats.org/officeDocument/2006/relationships/image" Target="../media/image28.png"/><Relationship Id="rId5" Type="http://schemas.openxmlformats.org/officeDocument/2006/relationships/hyperlink" Target="http://fotobank.ru/image/SF01-5825.html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erebrennikova.ru/wp-content/uploads/pirojki_pechenie.jpg" TargetMode="External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hyperlink" Target="http://www.sweetsensationscakes.com/Happy%20New%20Year.jpg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km.ru/images/kitchen/desert/pastila2.jpg" TargetMode="External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varenok.ru/images/all/39269.jpg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otki.yandex.ru/users/rosa2003/view/239922/?page=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Detskie_prezentatsii/nasekomye_i_ptitsy/Ptitsy_1.files/slide0003_image009.jp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s61.radikal.ru/i171/0905/c6/fd54e1640a27.jp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900igr.net/Detskie_prezentatsii/biologiya/Domashnie_5.files/slide0011_image017.jpg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rs-g.ru/uploads/www_rs_g_ru/image_upload/102683/medium/slide0014_image021.jp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kakadu.509.com1.ru:8018/WWW/zooclub/birds/374.jpg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hudet-tut.ru/images/stories/%20.pn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s.uz/book/key/images/2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rkerovka.ru/images/big-2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fotki.yandex.ru/users/dmitrijmig/view/84240/?page=0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sk.old.kp.ru/readyimages/32553.jpg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ambria Math"/>
                <a:ea typeface="Cambria Math"/>
              </a:rPr>
              <a:t>МОАУ  Новопетровская СОШ</a:t>
            </a:r>
            <a:br>
              <a:rPr sz="2700"/>
            </a:b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ЯЙЦА </a:t>
            </a:r>
            <a:r>
              <a:rPr b="1" lang="ru-RU" sz="4800" spc="-1" strike="noStrike">
                <a:solidFill>
                  <a:srgbClr val="a50021"/>
                </a:solidFill>
                <a:latin typeface="Cambria"/>
              </a:rPr>
              <a:t>И БЛЮДА ИЗ НИХ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Picture 17" descr="яйца"/>
          <p:cNvPicPr/>
          <p:nvPr/>
        </p:nvPicPr>
        <p:blipFill>
          <a:blip r:embed="rId1"/>
          <a:stretch/>
        </p:blipFill>
        <p:spPr>
          <a:xfrm>
            <a:off x="1979640" y="1989000"/>
            <a:ext cx="4824360" cy="34419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96000" y="5157720"/>
            <a:ext cx="3348000" cy="13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rbe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mbria"/>
              </a:rPr>
              <a:t>Автор: учитель технологи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mbria"/>
              </a:rPr>
              <a:t>Ковалевская Виктория Сергее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оугольник 2"/>
          <p:cNvSpPr/>
          <p:nvPr/>
        </p:nvSpPr>
        <p:spPr>
          <a:xfrm>
            <a:off x="8325000" y="2387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СВЕЖЕСТЬ ЯЙЦА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63640" y="4723920"/>
            <a:ext cx="2352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яйцо недельной давности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7" descr="Картинка 6 из 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49360"/>
            <a:ext cx="2843280" cy="284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только что снесённое яйцо"/>
          <p:cNvPicPr/>
          <p:nvPr/>
        </p:nvPicPr>
        <p:blipFill>
          <a:blip r:embed="rId3"/>
          <a:stretch/>
        </p:blipFill>
        <p:spPr>
          <a:xfrm>
            <a:off x="1116000" y="1125360"/>
            <a:ext cx="2317680" cy="2519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яйцо недельной давности "/>
          <p:cNvPicPr/>
          <p:nvPr/>
        </p:nvPicPr>
        <p:blipFill>
          <a:blip r:embed="rId4"/>
          <a:stretch/>
        </p:blipFill>
        <p:spPr>
          <a:xfrm>
            <a:off x="3564000" y="1989000"/>
            <a:ext cx="2352600" cy="2597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свежесть яйца = 15-20 дней"/>
          <p:cNvPicPr/>
          <p:nvPr/>
        </p:nvPicPr>
        <p:blipFill>
          <a:blip r:embed="rId5"/>
          <a:stretch/>
        </p:blipFill>
        <p:spPr>
          <a:xfrm>
            <a:off x="6300720" y="3284640"/>
            <a:ext cx="2286000" cy="2609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4"/>
          <p:cNvSpPr/>
          <p:nvPr/>
        </p:nvSpPr>
        <p:spPr>
          <a:xfrm>
            <a:off x="6156360" y="5949000"/>
            <a:ext cx="25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вежесть яйца = 15-2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826920" y="385956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олько что снесённое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5" descr="bitki"/>
          <p:cNvPicPr/>
          <p:nvPr/>
        </p:nvPicPr>
        <p:blipFill>
          <a:blip r:embed="rId1"/>
          <a:stretch/>
        </p:blipFill>
        <p:spPr>
          <a:xfrm>
            <a:off x="950760" y="421812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6" descr="%D0%B7%D0%B0%D0%BF%D0%B5%D0%BA%D0%B0%D0%BD%D0%BA%D0%B0%20%D0%B8%D0%B7%20%D0%BA%D1%83%D1%80%D0%B8%D1%86%D1%8B"/>
          <p:cNvPicPr/>
          <p:nvPr/>
        </p:nvPicPr>
        <p:blipFill>
          <a:blip r:embed="rId2"/>
          <a:stretch/>
        </p:blipFill>
        <p:spPr>
          <a:xfrm>
            <a:off x="6095880" y="423864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1"/>
          <p:cNvSpPr/>
          <p:nvPr/>
        </p:nvSpPr>
        <p:spPr>
          <a:xfrm>
            <a:off x="3635280" y="220500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ambria"/>
              </a:rPr>
              <a:t>Связыв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ambria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4" descr="Картинка 112 из 273">
            <a:hlinkClick r:id="rId3"/>
          </p:cNvPr>
          <p:cNvPicPr/>
          <p:nvPr/>
        </p:nvPicPr>
        <p:blipFill>
          <a:blip r:embed="rId4"/>
          <a:srcRect l="11690" t="0" r="7789" b="0"/>
          <a:stretch/>
        </p:blipFill>
        <p:spPr>
          <a:xfrm>
            <a:off x="900000" y="1332000"/>
            <a:ext cx="2592360" cy="2138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SF01-5825">
            <a:hlinkClick r:id="rId5"/>
          </p:cNvPr>
          <p:cNvPicPr/>
          <p:nvPr/>
        </p:nvPicPr>
        <p:blipFill>
          <a:blip r:embed="rId6"/>
          <a:srcRect l="0" t="0" r="-2060" b="6878"/>
          <a:stretch/>
        </p:blipFill>
        <p:spPr>
          <a:xfrm>
            <a:off x="3614760" y="4238640"/>
            <a:ext cx="2325600" cy="194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Картинка 20 из 34007">
            <a:hlinkClick r:id="rId7"/>
          </p:cNvPr>
          <p:cNvPicPr/>
          <p:nvPr/>
        </p:nvPicPr>
        <p:blipFill>
          <a:blip r:embed="rId8"/>
          <a:srcRect l="3787" t="2750" r="8738" b="4627"/>
          <a:stretch/>
        </p:blipFill>
        <p:spPr>
          <a:xfrm>
            <a:off x="6372360" y="1341360"/>
            <a:ext cx="2303280" cy="21290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5"/>
          <p:cNvSpPr/>
          <p:nvPr/>
        </p:nvSpPr>
        <p:spPr>
          <a:xfrm>
            <a:off x="111600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Блин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6"/>
          <p:cNvSpPr/>
          <p:nvPr/>
        </p:nvSpPr>
        <p:spPr>
          <a:xfrm>
            <a:off x="6095880" y="3357720"/>
            <a:ext cx="25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Пир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755640" y="6165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Кот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363528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Лап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6516720" y="61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Запек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ИСПОЛЬЗОВАНИЕ В КУЛИНАР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9" descr="1260809870_lebed-ozero-00"/>
          <p:cNvPicPr/>
          <p:nvPr/>
        </p:nvPicPr>
        <p:blipFill>
          <a:blip r:embed="rId1"/>
          <a:stretch/>
        </p:blipFill>
        <p:spPr>
          <a:xfrm>
            <a:off x="1039680" y="2892600"/>
            <a:ext cx="4176720" cy="3138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1" descr="1"/>
          <p:cNvPicPr/>
          <p:nvPr/>
        </p:nvPicPr>
        <p:blipFill>
          <a:blip r:embed="rId2"/>
          <a:srcRect l="0" t="0" r="-372" b="1074"/>
          <a:stretch/>
        </p:blipFill>
        <p:spPr>
          <a:xfrm>
            <a:off x="5219640" y="2852640"/>
            <a:ext cx="3673440" cy="30974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30"/>
          <p:cNvSpPr/>
          <p:nvPr/>
        </p:nvSpPr>
        <p:spPr>
          <a:xfrm>
            <a:off x="1116000" y="1773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Осветляющие свойства яичного 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6"/>
          <p:cNvSpPr/>
          <p:nvPr/>
        </p:nvSpPr>
        <p:spPr>
          <a:xfrm>
            <a:off x="755640" y="6093000"/>
            <a:ext cx="44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Зал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7"/>
          <p:cNvSpPr/>
          <p:nvPr/>
        </p:nvSpPr>
        <p:spPr>
          <a:xfrm>
            <a:off x="5796000" y="6165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Буль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2360" y="33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ИСПОЛЬЗОВАНИЕ В КУЛИНАР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zefir"/>
          <p:cNvPicPr/>
          <p:nvPr/>
        </p:nvPicPr>
        <p:blipFill>
          <a:blip r:embed="rId1"/>
          <a:stretch/>
        </p:blipFill>
        <p:spPr>
          <a:xfrm>
            <a:off x="900000" y="177336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418700666_tonnel"/>
          <p:cNvPicPr/>
          <p:nvPr/>
        </p:nvPicPr>
        <p:blipFill>
          <a:blip r:embed="rId2"/>
          <a:stretch/>
        </p:blipFill>
        <p:spPr>
          <a:xfrm>
            <a:off x="939960" y="3967200"/>
            <a:ext cx="2898720" cy="2232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parovarkin"/>
          <p:cNvPicPr/>
          <p:nvPr/>
        </p:nvPicPr>
        <p:blipFill>
          <a:blip r:embed="rId3"/>
          <a:stretch/>
        </p:blipFill>
        <p:spPr>
          <a:xfrm>
            <a:off x="6243480" y="4005360"/>
            <a:ext cx="2808360" cy="22352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8"/>
          <p:cNvSpPr/>
          <p:nvPr/>
        </p:nvSpPr>
        <p:spPr>
          <a:xfrm>
            <a:off x="2771640" y="2276640"/>
            <a:ext cx="36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Пено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св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Картинка 58 из 8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43360" y="3933720"/>
            <a:ext cx="2374920" cy="23004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Картинка 36 из 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1844640"/>
            <a:ext cx="2590920" cy="17128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23"/>
          <p:cNvSpPr/>
          <p:nvPr/>
        </p:nvSpPr>
        <p:spPr>
          <a:xfrm>
            <a:off x="826920" y="61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Б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3924360" y="6237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Кр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6877080" y="61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Суф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10429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Зе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651672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Паст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ИСПОЛЬЗОВАНИЕ В КУЛИНАР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5"/>
          <p:cNvSpPr/>
          <p:nvPr/>
        </p:nvSpPr>
        <p:spPr>
          <a:xfrm>
            <a:off x="2484360" y="18900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ЯЙЦО ВАРЁ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4" descr="Яйца "/>
          <p:cNvPicPr/>
          <p:nvPr/>
        </p:nvPicPr>
        <p:blipFill>
          <a:blip r:embed="rId1"/>
          <a:stretch/>
        </p:blipFill>
        <p:spPr>
          <a:xfrm>
            <a:off x="5651640" y="3860640"/>
            <a:ext cx="2735280" cy="2189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7" descr="Фото к статье *Польза блюд из яиц*"/>
          <p:cNvPicPr/>
          <p:nvPr/>
        </p:nvPicPr>
        <p:blipFill>
          <a:blip r:embed="rId2"/>
          <a:srcRect l="0" t="3515" r="-457" b="10752"/>
          <a:stretch/>
        </p:blipFill>
        <p:spPr>
          <a:xfrm>
            <a:off x="1116000" y="3846600"/>
            <a:ext cx="3097080" cy="2203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8" descr=""/>
          <p:cNvPicPr/>
          <p:nvPr/>
        </p:nvPicPr>
        <p:blipFill>
          <a:blip r:embed="rId3"/>
          <a:stretch/>
        </p:blipFill>
        <p:spPr>
          <a:xfrm>
            <a:off x="5364000" y="1052640"/>
            <a:ext cx="3168720" cy="20397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0"/>
          <p:cNvSpPr/>
          <p:nvPr/>
        </p:nvSpPr>
        <p:spPr>
          <a:xfrm>
            <a:off x="5219640" y="603576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«пашот»</a:t>
            </a:r>
            <a:r>
              <a:rPr b="1" lang="en-US" sz="2400" spc="-1" strike="noStrike">
                <a:solidFill>
                  <a:srgbClr val="feb80a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без скорл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1"/>
          <p:cNvSpPr/>
          <p:nvPr/>
        </p:nvSpPr>
        <p:spPr>
          <a:xfrm>
            <a:off x="539640" y="3213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Всмятку </a:t>
            </a:r>
            <a:r>
              <a:rPr b="1" lang="en-US" sz="2400" spc="-1" strike="noStrike">
                <a:solidFill>
                  <a:srgbClr val="feb80a"/>
                </a:solidFill>
                <a:latin typeface="Arial"/>
              </a:rPr>
              <a:t> 2 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2"/>
          <p:cNvSpPr/>
          <p:nvPr/>
        </p:nvSpPr>
        <p:spPr>
          <a:xfrm>
            <a:off x="5364000" y="314172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«В мешочек» 4-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826920" y="6093000"/>
            <a:ext cx="30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Вкрутую 1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2" descr="всмятку"/>
          <p:cNvPicPr/>
          <p:nvPr/>
        </p:nvPicPr>
        <p:blipFill>
          <a:blip r:embed="rId4"/>
          <a:stretch/>
        </p:blipFill>
        <p:spPr>
          <a:xfrm>
            <a:off x="1403280" y="907920"/>
            <a:ext cx="18399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1763640" y="200124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ющим кулина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ДЖЕТ поможет сварить куриные яйца вкрутую, "в мешочек" или всмя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Картинка 43 из 36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68840"/>
            <a:ext cx="1981440" cy="2676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Картинка 39 из 3693"/>
          <p:cNvPicPr/>
          <p:nvPr/>
        </p:nvPicPr>
        <p:blipFill>
          <a:blip r:embed="rId3"/>
          <a:stretch/>
        </p:blipFill>
        <p:spPr>
          <a:xfrm>
            <a:off x="6750000" y="3768840"/>
            <a:ext cx="2374920" cy="2676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Картинка 2 из 66"/>
          <p:cNvPicPr/>
          <p:nvPr/>
        </p:nvPicPr>
        <p:blipFill>
          <a:blip r:embed="rId4"/>
          <a:stretch/>
        </p:blipFill>
        <p:spPr>
          <a:xfrm>
            <a:off x="3157560" y="3768840"/>
            <a:ext cx="3567240" cy="2676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10"/>
          <p:cNvSpPr/>
          <p:nvPr/>
        </p:nvSpPr>
        <p:spPr>
          <a:xfrm>
            <a:off x="1763640" y="333360"/>
            <a:ext cx="55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ОБОРУДОВАНИЕ ДЛЯ ВАРКИ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2"/>
          <p:cNvSpPr/>
          <p:nvPr/>
        </p:nvSpPr>
        <p:spPr>
          <a:xfrm>
            <a:off x="2484360" y="4762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ЯИЧ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2771640" y="126828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Нату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из я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4716360" y="4724280"/>
            <a:ext cx="374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С гарн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обавлением различн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3" descr="kul179"/>
          <p:cNvPicPr/>
          <p:nvPr/>
        </p:nvPicPr>
        <p:blipFill>
          <a:blip r:embed="rId1"/>
          <a:stretch/>
        </p:blipFill>
        <p:spPr>
          <a:xfrm>
            <a:off x="1116000" y="1268280"/>
            <a:ext cx="2303640" cy="2022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5" descr="Картинка 25 из 1154"/>
          <p:cNvPicPr/>
          <p:nvPr/>
        </p:nvPicPr>
        <p:blipFill>
          <a:blip r:embed="rId2"/>
          <a:stretch/>
        </p:blipFill>
        <p:spPr>
          <a:xfrm>
            <a:off x="6156360" y="1268280"/>
            <a:ext cx="2268360" cy="20894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9" descr="Картинка 1 из 82"/>
          <p:cNvPicPr/>
          <p:nvPr/>
        </p:nvPicPr>
        <p:blipFill>
          <a:blip r:embed="rId3"/>
          <a:stretch/>
        </p:blipFill>
        <p:spPr>
          <a:xfrm>
            <a:off x="1403280" y="4149720"/>
            <a:ext cx="3330720" cy="24987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1"/>
          <p:cNvSpPr/>
          <p:nvPr/>
        </p:nvSpPr>
        <p:spPr>
          <a:xfrm>
            <a:off x="755640" y="33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ту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2"/>
          <p:cNvSpPr/>
          <p:nvPr/>
        </p:nvSpPr>
        <p:spPr>
          <a:xfrm>
            <a:off x="622764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у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Картинка 1 из 86"/>
          <p:cNvPicPr/>
          <p:nvPr/>
        </p:nvPicPr>
        <p:blipFill>
          <a:blip r:embed="rId1"/>
          <a:stretch/>
        </p:blipFill>
        <p:spPr>
          <a:xfrm>
            <a:off x="1116000" y="3357720"/>
            <a:ext cx="3600360" cy="2571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2771640" y="476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ОМЛ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8" descr="Картинка 15 из 193"/>
          <p:cNvPicPr/>
          <p:nvPr/>
        </p:nvPicPr>
        <p:blipFill>
          <a:blip r:embed="rId2"/>
          <a:stretch/>
        </p:blipFill>
        <p:spPr>
          <a:xfrm>
            <a:off x="4932360" y="3357720"/>
            <a:ext cx="3529080" cy="2590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3"/>
          <p:cNvSpPr/>
          <p:nvPr/>
        </p:nvSpPr>
        <p:spPr>
          <a:xfrm>
            <a:off x="900000" y="1413000"/>
            <a:ext cx="33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Натур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яйца,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4859280" y="141300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С гарни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рш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1" descr="9b323c715334fbb4b760db649cc9a0a8"/>
          <p:cNvPicPr/>
          <p:nvPr/>
        </p:nvPicPr>
        <p:blipFill>
          <a:blip r:embed="rId1"/>
          <a:stretch/>
        </p:blipFill>
        <p:spPr>
          <a:xfrm>
            <a:off x="1042920" y="260280"/>
            <a:ext cx="3203640" cy="2111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9" descr="paskha-eggs-06"/>
          <p:cNvPicPr/>
          <p:nvPr/>
        </p:nvPicPr>
        <p:blipFill>
          <a:blip r:embed="rId2"/>
          <a:stretch/>
        </p:blipFill>
        <p:spPr>
          <a:xfrm>
            <a:off x="1042920" y="3573360"/>
            <a:ext cx="331308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2"/>
          <p:cNvSpPr/>
          <p:nvPr/>
        </p:nvSpPr>
        <p:spPr>
          <a:xfrm>
            <a:off x="1835280" y="256536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УКРАШЕНИЕ БЛЮ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5" descr="мыши из яйц"/>
          <p:cNvPicPr/>
          <p:nvPr/>
        </p:nvPicPr>
        <p:blipFill>
          <a:blip r:embed="rId3"/>
          <a:stretch/>
        </p:blipFill>
        <p:spPr>
          <a:xfrm>
            <a:off x="4932360" y="260280"/>
            <a:ext cx="3149640" cy="21193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7" descr="паучки из яиц"/>
          <p:cNvPicPr/>
          <p:nvPr/>
        </p:nvPicPr>
        <p:blipFill>
          <a:blip r:embed="rId4"/>
          <a:stretch/>
        </p:blipFill>
        <p:spPr>
          <a:xfrm>
            <a:off x="5003640" y="3573360"/>
            <a:ext cx="316728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9" descr="Картинка 126 из 4885"/>
          <p:cNvPicPr/>
          <p:nvPr/>
        </p:nvPicPr>
        <p:blipFill>
          <a:blip r:embed="rId1"/>
          <a:stretch/>
        </p:blipFill>
        <p:spPr>
          <a:xfrm>
            <a:off x="4516560" y="1052640"/>
            <a:ext cx="4303440" cy="5445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2"/>
          <p:cNvSpPr/>
          <p:nvPr/>
        </p:nvSpPr>
        <p:spPr>
          <a:xfrm>
            <a:off x="1042920" y="612000"/>
            <a:ext cx="356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8631"/>
                </a:solidFill>
                <a:latin typeface="Arial"/>
              </a:rPr>
              <a:t>правильный способ хранения яиц в холодильн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8631"/>
                </a:solidFill>
                <a:latin typeface="Arial"/>
              </a:rPr>
              <a:t>яйца направлены вниз своим острым концом, так как они «дышат» через тупой 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19280" y="333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ХРАНЕНИЕ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ЦЕЛЬ УРО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бразовательная </a:t>
            </a: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– дать представление о видах яиц, познакомить с их питательной ценностью, строением, с признаками доброкачественности яиц, использованием в кулинарии и технологической последовательностью приготовления варёных яиц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 – воспитывать аккуратность в работе, культуру труда, формировать навыки коммуникативного общения, сервировки стола и этике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вивающая</a:t>
            </a: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 – развивать творческие способности, практические навыки планирования и выполнения задуманно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5"/>
          <p:cNvSpPr/>
          <p:nvPr/>
        </p:nvSpPr>
        <p:spPr>
          <a:xfrm>
            <a:off x="900000" y="1484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Научиться готовить вареные яй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539640" y="476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ПРАКТИЧЕСКАЯ РАБОТА</a:t>
            </a: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8" descr="рис"/>
          <p:cNvPicPr/>
          <p:nvPr/>
        </p:nvPicPr>
        <p:blipFill>
          <a:blip r:embed="rId1"/>
          <a:stretch/>
        </p:blipFill>
        <p:spPr>
          <a:xfrm>
            <a:off x="2411280" y="2565360"/>
            <a:ext cx="4176720" cy="38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ТЕХНИКА БЕЗОПАСНОС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76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rbel"/>
              </a:rPr>
              <a:t>РАБОТА С ГОРЯЧЕЙ ПОСУДОЙ И ГОРЯЧЕЙ ЖИДКОСТ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rbel"/>
              </a:rPr>
              <a:t>РАБОТА С ЭЛЕКТРОПРИБОРА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5" name="Picture 4" descr="повар2"/>
          <p:cNvPicPr/>
          <p:nvPr/>
        </p:nvPicPr>
        <p:blipFill>
          <a:blip r:embed="rId1"/>
          <a:stretch/>
        </p:blipFill>
        <p:spPr>
          <a:xfrm>
            <a:off x="5940360" y="4226040"/>
            <a:ext cx="320364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6"/>
          <p:cNvSpPr/>
          <p:nvPr/>
        </p:nvSpPr>
        <p:spPr>
          <a:xfrm>
            <a:off x="2843280" y="2975040"/>
            <a:ext cx="6049800" cy="172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2843280" y="981000"/>
            <a:ext cx="6049800" cy="172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2843280" y="4869000"/>
            <a:ext cx="6049800" cy="180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64"/>
          <p:cNvPicPr/>
          <p:nvPr/>
        </p:nvPicPr>
        <p:blipFill>
          <a:blip r:embed="rId4"/>
          <a:stretch/>
        </p:blipFill>
        <p:spPr>
          <a:xfrm>
            <a:off x="971640" y="981000"/>
            <a:ext cx="1728720" cy="1728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490" name="Picture 7" descr="65"/>
          <p:cNvPicPr/>
          <p:nvPr/>
        </p:nvPicPr>
        <p:blipFill>
          <a:blip r:embed="rId5"/>
          <a:stretch/>
        </p:blipFill>
        <p:spPr>
          <a:xfrm>
            <a:off x="998640" y="3017880"/>
            <a:ext cx="1728720" cy="1728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491" name="Picture 9" descr="66"/>
          <p:cNvPicPr/>
          <p:nvPr/>
        </p:nvPicPr>
        <p:blipFill>
          <a:blip r:embed="rId6"/>
          <a:stretch/>
        </p:blipFill>
        <p:spPr>
          <a:xfrm>
            <a:off x="927000" y="4869000"/>
            <a:ext cx="1800360" cy="1800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492" name="Rectangle 11"/>
          <p:cNvSpPr/>
          <p:nvPr/>
        </p:nvSpPr>
        <p:spPr>
          <a:xfrm>
            <a:off x="3059280" y="2998080"/>
            <a:ext cx="58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рекрасно сваренное яйц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ок сваренного всмятку яйца должен быть нежным, а желток - рыхлый, но плот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3059280" y="4755240"/>
            <a:ext cx="57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ереваренное яйц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ок переваренного яйца становится "резиновым" на вкус; на желтке появляется неприятный зеленовато-серый нале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3059280" y="883080"/>
            <a:ext cx="57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едоваренное яйц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ы разрезаете недоваренное яйцо, желток будет жидковат и цвет будет темно-золотой вместо светло-желт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826920" y="189000"/>
            <a:ext cx="80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КАЧЕСТВО ГОТОВОГО БЛЮ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5867280" y="3500280"/>
            <a:ext cx="29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5398920" y="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Картинка 28 из 1099"/>
          <p:cNvPicPr/>
          <p:nvPr/>
        </p:nvPicPr>
        <p:blipFill>
          <a:blip r:embed="rId1"/>
          <a:stretch/>
        </p:blipFill>
        <p:spPr>
          <a:xfrm>
            <a:off x="4067280" y="3357720"/>
            <a:ext cx="4787640" cy="31892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90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ПРОФЕССИИ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932360" y="1699920"/>
            <a:ext cx="3960720" cy="1127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ОПЕРАТОР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ПТИЦЕФЕР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1547640" y="162864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ПТИЧНИЦ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птичница"/>
          <p:cNvPicPr/>
          <p:nvPr/>
        </p:nvPicPr>
        <p:blipFill>
          <a:blip r:embed="rId2"/>
          <a:stretch/>
        </p:blipFill>
        <p:spPr>
          <a:xfrm>
            <a:off x="179280" y="2349360"/>
            <a:ext cx="4703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ПРОФЕССИИ</a:t>
            </a: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04" name="Picture 3" descr="повар"/>
          <p:cNvPicPr/>
          <p:nvPr/>
        </p:nvPicPr>
        <p:blipFill>
          <a:blip r:embed="rId1"/>
          <a:stretch/>
        </p:blipFill>
        <p:spPr>
          <a:xfrm>
            <a:off x="971640" y="2421000"/>
            <a:ext cx="3657600" cy="2720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повар1"/>
          <p:cNvPicPr/>
          <p:nvPr/>
        </p:nvPicPr>
        <p:blipFill>
          <a:blip r:embed="rId2"/>
          <a:stretch/>
        </p:blipFill>
        <p:spPr>
          <a:xfrm>
            <a:off x="4694400" y="2438280"/>
            <a:ext cx="4270320" cy="264636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4360" y="141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788000" y="14288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b80a"/>
                </a:solidFill>
                <a:latin typeface="Arial"/>
              </a:rPr>
              <a:t>КОНД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9"/>
          <p:cNvSpPr/>
          <p:nvPr/>
        </p:nvSpPr>
        <p:spPr>
          <a:xfrm>
            <a:off x="395280" y="1557360"/>
            <a:ext cx="8569440" cy="99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ценная часть яй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395280" y="2565360"/>
            <a:ext cx="8569440" cy="99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ются яйца, поступивши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ажу не позднее 7 су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395280" y="3581280"/>
            <a:ext cx="8569440" cy="99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блюдо приготавливают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ично-молочной смес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380880" y="4572000"/>
            <a:ext cx="8583840" cy="99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яйцо варится 10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3"/>
          <p:cNvSpPr/>
          <p:nvPr/>
        </p:nvSpPr>
        <p:spPr>
          <a:xfrm>
            <a:off x="380880" y="5562720"/>
            <a:ext cx="8583840" cy="99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называются яй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вшие в продажу на 8 су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24"/>
          <p:cNvSpPr txBox="1"/>
          <p:nvPr/>
        </p:nvSpPr>
        <p:spPr>
          <a:xfrm>
            <a:off x="611280" y="5805360"/>
            <a:ext cx="28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Times New Roman"/>
              </a:rPr>
              <a:t>5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4" name="WordArt 25"/>
          <p:cNvSpPr txBox="1"/>
          <p:nvPr/>
        </p:nvSpPr>
        <p:spPr>
          <a:xfrm>
            <a:off x="611280" y="4724280"/>
            <a:ext cx="28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Times New Roman"/>
              </a:rPr>
              <a:t>4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WordArt 26"/>
          <p:cNvSpPr txBox="1"/>
          <p:nvPr/>
        </p:nvSpPr>
        <p:spPr>
          <a:xfrm>
            <a:off x="539640" y="270828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Times New Roman"/>
              </a:rPr>
              <a:t>2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WordArt 27"/>
          <p:cNvSpPr txBox="1"/>
          <p:nvPr/>
        </p:nvSpPr>
        <p:spPr>
          <a:xfrm>
            <a:off x="539640" y="3789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Times New Roman"/>
              </a:rPr>
              <a:t>3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7" name="WordArt 28"/>
          <p:cNvSpPr txBox="1"/>
          <p:nvPr/>
        </p:nvSpPr>
        <p:spPr>
          <a:xfrm>
            <a:off x="539640" y="184464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Times New Roman"/>
              </a:rPr>
              <a:t>1</a:t>
            </a:r>
            <a:endParaRPr b="0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ВОПРОСЫ ДЛЯ ПРОВЕРКИ</a:t>
            </a:r>
            <a:r>
              <a:rPr b="1" lang="ru-RU" sz="4000" spc="-1" strike="noStrike">
                <a:solidFill>
                  <a:srgbClr val="feb80a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049049055053053053048050124053048048124052048048"/>
          <p:cNvPicPr/>
          <p:nvPr/>
        </p:nvPicPr>
        <p:blipFill>
          <a:blip r:embed="rId1"/>
          <a:stretch/>
        </p:blipFill>
        <p:spPr>
          <a:xfrm>
            <a:off x="5270400" y="2781360"/>
            <a:ext cx="3873600" cy="40766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9"/>
          <p:cNvSpPr/>
          <p:nvPr/>
        </p:nvSpPr>
        <p:spPr>
          <a:xfrm>
            <a:off x="179280" y="404640"/>
            <a:ext cx="89647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Тема урока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cademy"/>
              </a:rPr>
              <a:t>ЯЙЦА И БЛЮДА ИЗ Н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18920" y="2781000"/>
            <a:ext cx="48243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eb80a"/>
                </a:solidFill>
                <a:latin typeface="Academy"/>
              </a:rPr>
              <a:t>Я узнала…</a:t>
            </a:r>
            <a:br>
              <a:rPr sz="4300"/>
            </a:br>
            <a:r>
              <a:rPr b="1" i="1" lang="ru-RU" sz="4300" spc="-1" strike="noStrike">
                <a:solidFill>
                  <a:srgbClr val="feb80a"/>
                </a:solidFill>
                <a:latin typeface="Academy"/>
              </a:rPr>
              <a:t>Я научилась…</a:t>
            </a:r>
            <a:br>
              <a:rPr sz="4300"/>
            </a:br>
            <a:r>
              <a:rPr b="1" i="1" lang="ru-RU" sz="4300" spc="-1" strike="noStrike">
                <a:solidFill>
                  <a:srgbClr val="feb80a"/>
                </a:solidFill>
                <a:latin typeface="Academy"/>
              </a:rPr>
              <a:t>Мне пригодиться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ОБОРУДОВАНИЕ К УРОКУ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Таблиц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«Пищевые веществ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«Яйц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«Блюда из яиц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«Правила безопасности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«Сервировка стол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даточный материал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Инструкционная карта «Отваривание яиц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нвентарь и посуд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Кастрюли, столовые ложки, мис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4500720" y="692280"/>
            <a:ext cx="446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Древние народы считали яйцо прообразом Вселенной - из него родился мир, окружающий человека. Древние греки, римляне, египтяне и многие другие народы относились к яйцу как к символу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0_40ba0_c45fc3c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38240" y="727200"/>
            <a:ext cx="34624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Картинка 159 из 28677">
            <a:hlinkClick r:id="rId1"/>
          </p:cNvPr>
          <p:cNvPicPr/>
          <p:nvPr/>
        </p:nvPicPr>
        <p:blipFill>
          <a:blip r:embed="rId2"/>
          <a:srcRect l="0" t="0" r="0" b="5685"/>
          <a:stretch/>
        </p:blipFill>
        <p:spPr>
          <a:xfrm>
            <a:off x="6948360" y="3645000"/>
            <a:ext cx="1974960" cy="2303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Картинка 134 из 3622">
            <a:hlinkClick r:id="rId3"/>
          </p:cNvPr>
          <p:cNvPicPr/>
          <p:nvPr/>
        </p:nvPicPr>
        <p:blipFill>
          <a:blip r:embed="rId4"/>
          <a:srcRect l="13449" t="0" r="0" b="0"/>
          <a:stretch/>
        </p:blipFill>
        <p:spPr>
          <a:xfrm>
            <a:off x="2987640" y="126828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20 из 5885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9640" y="1341360"/>
            <a:ext cx="1225440" cy="1720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Картинка 5 из 19941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1160" y="3789360"/>
            <a:ext cx="1392120" cy="1728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Картинка 118 из 165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48360" y="1557360"/>
            <a:ext cx="1440000" cy="1274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1666_"/>
          <p:cNvPicPr/>
          <p:nvPr/>
        </p:nvPicPr>
        <p:blipFill>
          <a:blip r:embed="rId11"/>
          <a:stretch/>
        </p:blipFill>
        <p:spPr>
          <a:xfrm>
            <a:off x="2700360" y="3573360"/>
            <a:ext cx="3816360" cy="2967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0" descr=""/>
          <p:cNvPicPr/>
          <p:nvPr/>
        </p:nvPicPr>
        <p:blipFill>
          <a:blip r:embed="rId12"/>
          <a:stretch/>
        </p:blipFill>
        <p:spPr>
          <a:xfrm>
            <a:off x="4608360" y="1433520"/>
            <a:ext cx="1584360" cy="15606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eb80a"/>
                </a:solidFill>
                <a:latin typeface="Cambria"/>
              </a:rPr>
              <a:t>ВИДЫ ЯИЦ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2573280" y="299736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гус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900000" y="29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ут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435600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индюшач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659640" y="2997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перепел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1181160" y="60213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кур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877080" y="602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страус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1332000" y="12664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</a:rPr>
              <a:t>В одном яйце /70 калорий/ находится 13 главных витаминов и минералов. Усваиваются яйца почти полностью – на 98 проц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Картинка 32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521080"/>
            <a:ext cx="7632720" cy="4113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971640" y="476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ПИТАТЕЛЬНАЯ ЦЕННОСТЬ Я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0" descr="egg"/>
          <p:cNvPicPr/>
          <p:nvPr/>
        </p:nvPicPr>
        <p:blipFill>
          <a:blip r:embed="rId3"/>
          <a:stretch/>
        </p:blipFill>
        <p:spPr>
          <a:xfrm>
            <a:off x="2411280" y="4797360"/>
            <a:ext cx="9842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Картинка 2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27476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eb80a"/>
                </a:solidFill>
                <a:latin typeface="Cambria"/>
              </a:rPr>
              <a:t>СТРОЕНИЕ ЯЙЦ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Картинка 1 из 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1320" y="3105000"/>
            <a:ext cx="4037040" cy="2629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0_14916_e856acff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2760" y="3141720"/>
            <a:ext cx="2535120" cy="25923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1"/>
          <p:cNvSpPr/>
          <p:nvPr/>
        </p:nvSpPr>
        <p:spPr>
          <a:xfrm>
            <a:off x="900000" y="1557360"/>
            <a:ext cx="41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Диетически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не позднее 7 су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5076720" y="155736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Столовы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b80a"/>
                </a:solidFill>
                <a:latin typeface="Arial"/>
              </a:rPr>
              <a:t>с 8 по 25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284328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Cambria"/>
              </a:rPr>
              <a:t>В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5" descr="Картинка 143 из 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6160" y="2700360"/>
            <a:ext cx="2170080" cy="2852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6" descr="ab2d2e741ccf2bc35482b71c8b6148da29b81cc1"/>
          <p:cNvPicPr/>
          <p:nvPr/>
        </p:nvPicPr>
        <p:blipFill>
          <a:blip r:embed="rId3"/>
          <a:stretch/>
        </p:blipFill>
        <p:spPr>
          <a:xfrm>
            <a:off x="3413160" y="4005360"/>
            <a:ext cx="2368440" cy="24987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8"/>
          <p:cNvSpPr/>
          <p:nvPr/>
        </p:nvSpPr>
        <p:spPr>
          <a:xfrm>
            <a:off x="900000" y="620640"/>
            <a:ext cx="720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3206160" y="1484280"/>
            <a:ext cx="27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Arial"/>
              </a:rPr>
              <a:t>Ово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mbria"/>
              </a:rPr>
              <a:t>ДОБРОКАЧЕСТВЕННОСТЬ ЯИЦ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6" name="Picture 25" descr="овоскоп"/>
          <p:cNvPicPr/>
          <p:nvPr/>
        </p:nvPicPr>
        <p:blipFill>
          <a:blip r:embed="rId4"/>
          <a:stretch/>
        </p:blipFill>
        <p:spPr>
          <a:xfrm>
            <a:off x="6156360" y="2852640"/>
            <a:ext cx="2658960" cy="267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7:32:59Z</dcterms:created>
  <dc:creator>Алекс</dc:creator>
  <dc:description/>
  <dc:language>en-US</dc:language>
  <cp:lastModifiedBy>Юля и Вика</cp:lastModifiedBy>
  <dcterms:modified xsi:type="dcterms:W3CDTF">2013-01-09T15:44:32Z</dcterms:modified>
  <cp:revision>49</cp:revision>
  <dc:subject/>
  <dc:title>Слайд 1</dc:title>
</cp:coreProperties>
</file>