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DD7-2072-40DA-B6B6-5437316B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F68-1279-4FED-A3EA-7B249D5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559-9A36-4461-BF47-46C3B2C4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E9D-83C3-4313-94F8-1367B9FA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CD76-8AD0-404C-8C58-095FEEAE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4F34-3DE4-45A1-A98E-1CF249E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8C3D-2A5B-43A7-88BE-C88164F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4699-E045-498F-ABA3-41461803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D2FC-85C8-4FB7-9388-5ED89867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DA8D-30EE-42D4-9021-1669ECB9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4F72-283E-4FAF-8D06-9C032CD6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AC6-0125-433F-BD2D-8302B4B7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5C07-D67A-4580-B4BC-A80FE13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154C-7094-4AFB-B4A2-5ED8226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276-F515-4E73-AF69-0F57EB0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FC51-9748-44BE-B929-2FE08871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EE3C-7482-4B27-990D-528A645B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4656-049B-4685-9772-EC4F97DB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276E-CE38-47CF-8E9F-0BDD70B5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8D10-C0E3-4E2E-B5BE-60F3F559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3305-7F88-471C-997F-E25226A6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5E3D-B159-4409-BE47-A78D525D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29F-A7C6-442B-B4F8-829C130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4934-D224-49E4-A91E-1FCE8148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80C7-9FC1-4FA5-84DE-98B0941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2961-C4E0-49BE-81FB-8C8B613E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9389-0625-45D3-B39A-DE83AA8C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F17E-9077-463A-AB02-096C8482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A116-D2B7-4D8B-900E-5D0ADA33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C6BD-0B65-4500-A00B-689DBF7C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983B-3B91-466A-9F4B-4DFD6AAC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21E2-8867-4591-A41F-94554E81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4CF2-9AD7-45E9-A49F-8209E919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E14-FD4F-4BCA-BB8F-1464704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82750-CC54-4B81-BC66-1F88CF6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3712-15BF-4E39-8967-0C1DF86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8A5FD-C1E8-43B1-B921-2A07E6B1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2C33-6BC7-49CD-9C37-15EE247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F2C6-B7F1-4738-858E-ECE27E6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6CAE-AB9C-4E86-AE98-1380FEC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0F67-E4D1-459E-8C78-FE162CE6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B9BA-59E0-4703-AA32-0D7E727C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D836-D9B3-4D7D-880B-7B662588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68A5-C90A-4250-BA1D-2CC0D531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F73-81BF-45B3-ABD7-1FEA533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F4EF9-6947-4B91-A371-569883F6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FF34-3EF2-4897-B8FF-4FD18633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5C5A-67D3-4A64-B403-05D641D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4730-5893-45B6-B58F-9D11541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F634-CA9C-4C69-B8A0-EF53C688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60A3-4523-4264-B4C6-C9BCB9AF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29D2-5EDA-440A-836D-6FB6D90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B8CB-A172-4E53-8831-36DCC49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8D96-7D47-4C56-B52B-C96DD3A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9A530-4510-4181-A82A-A183B62D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3D1-0FD3-4DB9-A73A-E09B53B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553C-DF95-4B87-8C67-83CE8EA2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2A3E9-AE66-4A35-86C9-C93857A4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CFC7-7E0A-4A1F-B2D8-99819900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75AB-FF5E-42DA-AFDE-D3884C5B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89A8C-D74E-4CC6-A445-A3CBADDE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41940-06A5-4E23-9F0D-B3948ADC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16D90-34EC-4083-85C1-E989296C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4A3DD-92C1-4598-B756-21A1967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AC33-4E40-4779-9972-62A86AF7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B8C0-A7B6-4BD3-9CD4-0F7B2C5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5E5-3053-46E3-9E4B-DCF161F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00AFF-C192-48A7-9791-3F568B67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F63DC-E551-4C20-935D-8AF34C40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F3BFF-3653-46C6-A8B1-2BDA9588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77891-726D-423D-839C-0446F23B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B408-AED2-4BCF-AC55-D37D1EE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72BA-C7FD-49A5-B317-54A6BC9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97FF-144F-4216-96AA-20FE6A2E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23A3-4C3A-4A19-9B35-29299E3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3ACE0-C81B-43B4-A02D-FFD31DFE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06BB9-9C74-44E2-A3F8-D2E0F78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D18-E9EA-4DA7-A0CC-56BEDF54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43779-EF7C-4FF4-80EF-A65DD8F5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70AD-5E03-4D09-8F4B-7AA48AC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845D-2C94-4010-9814-FEB970E4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04780-9A7C-4EF0-AB96-93F87035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A68AB-1280-4583-BF18-7F1527F8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BD2-4700-41B5-8B8E-9CAB244C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BA50-1922-48CC-9376-AFC1767D6D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BB55-034E-45B0-8681-8701175EA92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EE8C-B12C-49BB-A2E1-B6DCD0B361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F25C-64B0-4CF5-8FA8-8A0345DF4D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634-9574-4A93-A85C-457B128E68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07FD-6994-4171-9548-448A0D599B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AC8F-B4FF-4796-9FA4-A7EA655188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ткрытый урок по швейному делу в 5класс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68360" y="1512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ы пришивания пуговиц со сквозными отверстиями (соединить стрелками)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988920" y="1512720"/>
            <a:ext cx="9144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ndar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4"/>
          <p:cNvSpPr/>
          <p:nvPr/>
        </p:nvSpPr>
        <p:spPr>
          <a:xfrm>
            <a:off x="988920" y="2637000"/>
            <a:ext cx="9144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5"/>
          <p:cNvSpPr/>
          <p:nvPr/>
        </p:nvSpPr>
        <p:spPr>
          <a:xfrm>
            <a:off x="955800" y="3716280"/>
            <a:ext cx="9144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6"/>
          <p:cNvSpPr/>
          <p:nvPr/>
        </p:nvSpPr>
        <p:spPr>
          <a:xfrm>
            <a:off x="955800" y="4869000"/>
            <a:ext cx="9144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6516720" y="1512720"/>
            <a:ext cx="91440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Равно 8"/>
          <p:cNvSpPr/>
          <p:nvPr/>
        </p:nvSpPr>
        <p:spPr>
          <a:xfrm>
            <a:off x="6300720" y="2514600"/>
            <a:ext cx="1590840" cy="1201680"/>
          </a:xfrm>
          <a:custGeom>
            <a:avLst/>
            <a:gdLst/>
            <a:ahLst/>
            <a:rect l="l" t="t" r="r" b="b"/>
            <a:pathLst>
              <a:path w="1590675" h="1201738">
                <a:moveTo>
                  <a:pt x="210844" y="247558"/>
                </a:moveTo>
                <a:lnTo>
                  <a:pt x="1379831" y="247558"/>
                </a:lnTo>
                <a:lnTo>
                  <a:pt x="1379831" y="530207"/>
                </a:lnTo>
                <a:lnTo>
                  <a:pt x="210844" y="530207"/>
                </a:lnTo>
                <a:lnTo>
                  <a:pt x="210844" y="247558"/>
                </a:lnTo>
                <a:close/>
                <a:moveTo>
                  <a:pt x="210844" y="671531"/>
                </a:moveTo>
                <a:lnTo>
                  <a:pt x="1379831" y="671531"/>
                </a:lnTo>
                <a:lnTo>
                  <a:pt x="1379831" y="954180"/>
                </a:lnTo>
                <a:lnTo>
                  <a:pt x="210844" y="954180"/>
                </a:lnTo>
                <a:lnTo>
                  <a:pt x="210844" y="671531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лево 9"/>
          <p:cNvSpPr/>
          <p:nvPr/>
        </p:nvSpPr>
        <p:spPr>
          <a:xfrm>
            <a:off x="6535800" y="393228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множение 10"/>
          <p:cNvSpPr/>
          <p:nvPr/>
        </p:nvSpPr>
        <p:spPr>
          <a:xfrm>
            <a:off x="6567480" y="4700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Умножение 11"/>
          <p:cNvSpPr/>
          <p:nvPr/>
        </p:nvSpPr>
        <p:spPr>
          <a:xfrm>
            <a:off x="968400" y="37130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43578" y="295654"/>
                </a:moveTo>
                <a:lnTo>
                  <a:pt x="295654" y="143578"/>
                </a:lnTo>
                <a:lnTo>
                  <a:pt x="457200" y="305125"/>
                </a:lnTo>
                <a:lnTo>
                  <a:pt x="618746" y="143578"/>
                </a:lnTo>
                <a:lnTo>
                  <a:pt x="770822" y="295654"/>
                </a:lnTo>
                <a:lnTo>
                  <a:pt x="609275" y="457200"/>
                </a:lnTo>
                <a:lnTo>
                  <a:pt x="770822" y="618746"/>
                </a:lnTo>
                <a:lnTo>
                  <a:pt x="618746" y="770822"/>
                </a:lnTo>
                <a:lnTo>
                  <a:pt x="457200" y="609275"/>
                </a:lnTo>
                <a:lnTo>
                  <a:pt x="295654" y="770822"/>
                </a:lnTo>
                <a:lnTo>
                  <a:pt x="143578" y="618746"/>
                </a:lnTo>
                <a:lnTo>
                  <a:pt x="305125" y="457200"/>
                </a:lnTo>
                <a:lnTo>
                  <a:pt x="143578" y="295654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1235160" y="2924280"/>
            <a:ext cx="423720" cy="320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Равно 13"/>
          <p:cNvSpPr/>
          <p:nvPr/>
        </p:nvSpPr>
        <p:spPr>
          <a:xfrm>
            <a:off x="1235160" y="1741320"/>
            <a:ext cx="469800" cy="457200"/>
          </a:xfrm>
          <a:custGeom>
            <a:avLst/>
            <a:gdLst/>
            <a:ahLst/>
            <a:rect l="l" t="t" r="r" b="b"/>
            <a:pathLst>
              <a:path w="469900" h="457200">
                <a:moveTo>
                  <a:pt x="62285" y="98456"/>
                </a:moveTo>
                <a:lnTo>
                  <a:pt x="407615" y="98456"/>
                </a:lnTo>
                <a:lnTo>
                  <a:pt x="407615" y="205989"/>
                </a:lnTo>
                <a:lnTo>
                  <a:pt x="62285" y="205989"/>
                </a:lnTo>
                <a:lnTo>
                  <a:pt x="62285" y="98456"/>
                </a:lnTo>
                <a:close/>
                <a:moveTo>
                  <a:pt x="62285" y="251211"/>
                </a:moveTo>
                <a:lnTo>
                  <a:pt x="407615" y="251211"/>
                </a:lnTo>
                <a:lnTo>
                  <a:pt x="407615" y="358744"/>
                </a:lnTo>
                <a:lnTo>
                  <a:pt x="62285" y="358744"/>
                </a:lnTo>
                <a:lnTo>
                  <a:pt x="62285" y="251211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трелка влево 14"/>
          <p:cNvSpPr/>
          <p:nvPr/>
        </p:nvSpPr>
        <p:spPr>
          <a:xfrm rot="20304000">
            <a:off x="1213920" y="5248440"/>
            <a:ext cx="536760" cy="24120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– «Путаница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Прямоугольник 3"/>
          <p:cNvSpPr/>
          <p:nvPr/>
        </p:nvSpPr>
        <p:spPr>
          <a:xfrm>
            <a:off x="684360" y="263700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4"/>
          <p:cNvSpPr/>
          <p:nvPr/>
        </p:nvSpPr>
        <p:spPr>
          <a:xfrm>
            <a:off x="684360" y="371952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684360" y="479736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7373880" y="262908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7383600" y="369396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7383600" y="476100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3693960" y="119700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0"/>
          <p:cNvSpPr/>
          <p:nvPr/>
        </p:nvSpPr>
        <p:spPr>
          <a:xfrm>
            <a:off x="4859280" y="1193760"/>
            <a:ext cx="91440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39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ndara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21:11:41Z</dcterms:created>
  <dc:creator>WIN7XP</dc:creator>
  <dc:description/>
  <dc:language>en-US</dc:language>
  <cp:lastModifiedBy> </cp:lastModifiedBy>
  <dcterms:modified xsi:type="dcterms:W3CDTF">2013-11-17T09:00:55Z</dcterms:modified>
  <cp:revision>20</cp:revision>
  <dc:subject/>
  <dc:title>Технологическая карта</dc:title>
</cp:coreProperties>
</file>