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8EF8-80BC-4574-8117-BEBDA965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10C-1FA3-45DA-8958-1B188084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383-0A28-4204-8C39-6CFD17EA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BFA-2627-43EC-993D-0515D922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B86-74E3-4B4B-B2D9-A6AA23BE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A23-B6C1-4C05-9B7B-D2424A01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3FA-1E66-4680-8336-87FBE455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6D2-AAC8-4FAB-B490-F6C47609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25C-E208-4E35-9FA4-6C670D1E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3EB-452B-4B53-AE8C-1D1523EB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D05-174E-40C1-8E7F-B6372AA8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A74-FE07-4EEB-8F98-91618B59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D373-E7F7-4CF2-B738-936411E2F2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215"/>
          <p:cNvPicPr/>
          <p:nvPr/>
        </p:nvPicPr>
        <p:blipFill>
          <a:blip r:embed="rId1"/>
          <a:stretch/>
        </p:blipFill>
        <p:spPr>
          <a:xfrm>
            <a:off x="395280" y="1125360"/>
            <a:ext cx="7993080" cy="5243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604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Станция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ff3399"/>
                </a:solidFill>
                <a:latin typeface="Arial Black"/>
              </a:rPr>
              <a:t>«Культура Север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7667640" y="5516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39640" y="11970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Памятник архите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Станция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ff3399"/>
                </a:solidFill>
                <a:latin typeface="Arial Black"/>
              </a:rPr>
              <a:t>«Культура Север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DSCN0215-web"/>
          <p:cNvPicPr/>
          <p:nvPr/>
        </p:nvPicPr>
        <p:blipFill>
          <a:blip r:embed="rId1"/>
          <a:stretch/>
        </p:blipFill>
        <p:spPr>
          <a:xfrm>
            <a:off x="900000" y="1197000"/>
            <a:ext cx="4103640" cy="5472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8102880" y="57340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6012000" y="436572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м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Станция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ff3399"/>
                </a:solidFill>
                <a:latin typeface="Arial Black"/>
              </a:rPr>
              <a:t>«Культура Север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monosov"/>
          <p:cNvPicPr/>
          <p:nvPr/>
        </p:nvPicPr>
        <p:blipFill>
          <a:blip r:embed="rId1"/>
          <a:stretch/>
        </p:blipFill>
        <p:spPr>
          <a:xfrm>
            <a:off x="684360" y="1268280"/>
            <a:ext cx="4344840" cy="5185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8129160" y="55054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796000" y="2781360"/>
            <a:ext cx="295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Великий русский учё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Станция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ff3399"/>
                </a:solidFill>
                <a:latin typeface="Arial Black"/>
              </a:rPr>
              <a:t>«Культура Север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howpic"/>
          <p:cNvPicPr/>
          <p:nvPr/>
        </p:nvPicPr>
        <p:blipFill>
          <a:blip r:embed="rId1"/>
          <a:stretch/>
        </p:blipFill>
        <p:spPr>
          <a:xfrm>
            <a:off x="468360" y="1413000"/>
            <a:ext cx="3724200" cy="5059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7740720" y="551664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284720" y="400536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Пинежская сказитель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Станция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ff3399"/>
                </a:solidFill>
                <a:latin typeface="Arial Black"/>
              </a:rPr>
              <a:t>«Культура Север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Торцева"/>
          <p:cNvPicPr/>
          <p:nvPr/>
        </p:nvPicPr>
        <p:blipFill>
          <a:blip r:embed="rId1"/>
          <a:stretch/>
        </p:blipFill>
        <p:spPr>
          <a:xfrm>
            <a:off x="539640" y="1268280"/>
            <a:ext cx="4013280" cy="5329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7768800" y="48690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076720" y="5013360"/>
            <a:ext cx="345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Памятник</a:t>
            </a: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 Северодвин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Станция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ff3399"/>
                </a:solidFill>
                <a:latin typeface="Arial Black"/>
              </a:rPr>
              <a:t>«Культура Север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7913160" y="54338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игрушка"/>
          <p:cNvPicPr/>
          <p:nvPr/>
        </p:nvPicPr>
        <p:blipFill>
          <a:blip r:embed="rId1"/>
          <a:stretch/>
        </p:blipFill>
        <p:spPr>
          <a:xfrm>
            <a:off x="971640" y="1341360"/>
            <a:ext cx="6875280" cy="4851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4356000" y="5516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Вид игр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Станция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ff3399"/>
                </a:solidFill>
                <a:latin typeface="Arial Black"/>
              </a:rPr>
              <a:t>«Культура Север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мать-родина"/>
          <p:cNvPicPr/>
          <p:nvPr/>
        </p:nvPicPr>
        <p:blipFill>
          <a:blip r:embed="rId1"/>
          <a:stretch/>
        </p:blipFill>
        <p:spPr>
          <a:xfrm>
            <a:off x="611280" y="1197000"/>
            <a:ext cx="3589200" cy="5202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8056080" y="56498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810680" y="4365720"/>
            <a:ext cx="326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Памят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Северодвин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Станция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ff3399"/>
                </a:solidFill>
                <a:latin typeface="Arial Black"/>
              </a:rPr>
              <a:t>«Культура Север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первостроит"/>
          <p:cNvPicPr/>
          <p:nvPr/>
        </p:nvPicPr>
        <p:blipFill>
          <a:blip r:embed="rId1"/>
          <a:stretch/>
        </p:blipFill>
        <p:spPr>
          <a:xfrm>
            <a:off x="684360" y="1484280"/>
            <a:ext cx="8280360" cy="4105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8056080" y="56498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071360" y="5575320"/>
            <a:ext cx="53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Black"/>
              </a:rPr>
              <a:t>Памятник Северодвин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7:03:30Z</dcterms:created>
  <dc:creator>МОУ</dc:creator>
  <dc:description/>
  <dc:language>en-US</dc:language>
  <cp:lastModifiedBy>Depo</cp:lastModifiedBy>
  <dcterms:modified xsi:type="dcterms:W3CDTF">2010-01-16T16:31:11Z</dcterms:modified>
  <cp:revision>8</cp:revision>
  <dc:subject/>
  <dc:title>Станция «Культура Севера»</dc:title>
</cp:coreProperties>
</file>