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034-6D4C-4755-8618-CBB80C04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408-DAD9-46E8-AAA5-EAB3FDFA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DCE-1ABD-4E27-B15A-19488936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59D-F49A-4847-8C51-B4A53A31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C369-A77E-48F3-BC84-607F3F5E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7DEF-5C18-4D45-86EC-F19331E4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2FC2-6FC9-43CD-892C-F75E2203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12E2-FB9A-4DC7-8512-51C038B4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B71C-8765-4984-A716-ABDDFAE1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5BA2-979B-4E12-89B2-3DABE08A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B5D0-EEC4-40EC-9F1F-724C84DD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53C-7F44-4252-A8B6-1F9CFF0C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8260-25E8-411E-948A-795A6CE2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0ABB-6353-4AA3-BB96-A5980AA8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0565-18EF-40F5-8AB5-8DF7D1E5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28EB-1FEA-45EA-9B17-8D092617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FB2A-08CC-4814-A844-A1C5E081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536-132C-4470-AAC7-304B7D75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296-BF92-4E72-A079-8381F4C5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E1E-7A2B-444D-ACD5-8D35ED20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AD7-DCA6-4CD0-9E4B-2442D539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FAB-CEA1-40D8-8BA0-BE4E5E4D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866-16A0-4134-8F87-24C65F92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051-6C70-4945-92A6-396E4123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73F2-5027-4934-9778-C482C340B1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6045-8723-44CC-AD79-BF77908539E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3" descr="http://www.apatitylibr.ru/images/stories/hobby/russkoe/2.jpg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Инструктаж                                    по технике безопас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Всегда давайте отмет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Мы травмы и опасност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 в каждом деле соблюда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Законы безопас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Целостный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технологический процесс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о изготовлению вязаных издел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239840" y="1865160"/>
            <a:ext cx="15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39640" y="5516640"/>
            <a:ext cx="1727280" cy="1099800"/>
          </a:xfrm>
          <a:prstGeom prst="rect">
            <a:avLst/>
          </a:prstGeom>
          <a:solidFill>
            <a:srgbClr val="993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556000" y="4437000"/>
            <a:ext cx="1942920" cy="1465560"/>
          </a:xfrm>
          <a:prstGeom prst="rect">
            <a:avLst/>
          </a:prstGeom>
          <a:solidFill>
            <a:srgbClr val="993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вяз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572000" y="2924280"/>
            <a:ext cx="2664000" cy="1557000"/>
          </a:xfrm>
          <a:prstGeom prst="rect">
            <a:avLst/>
          </a:prstGeom>
          <a:solidFill>
            <a:srgbClr val="993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а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7093080" y="1700280"/>
            <a:ext cx="1800000" cy="1099800"/>
          </a:xfrm>
          <a:prstGeom prst="rect">
            <a:avLst/>
          </a:prstGeom>
          <a:solidFill>
            <a:srgbClr val="993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дел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1116000" y="4724280"/>
            <a:ext cx="1513080" cy="795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3132000" y="3357720"/>
            <a:ext cx="1656000" cy="10839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5508720" y="1844640"/>
            <a:ext cx="1584360" cy="10796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img068"/>
          <p:cNvPicPr/>
          <p:nvPr/>
        </p:nvPicPr>
        <p:blipFill>
          <a:blip r:embed="rId1"/>
          <a:stretch/>
        </p:blipFill>
        <p:spPr>
          <a:xfrm>
            <a:off x="914400" y="1905120"/>
            <a:ext cx="2114640" cy="18698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Технологический процесс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 изготовлению вязаной прихватк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239840" y="1865160"/>
            <a:ext cx="15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28600" y="5410080"/>
            <a:ext cx="1727280" cy="1099800"/>
          </a:xfrm>
          <a:prstGeom prst="rect">
            <a:avLst/>
          </a:prstGeom>
          <a:solidFill>
            <a:srgbClr val="993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286000" y="4800600"/>
            <a:ext cx="1940040" cy="1465560"/>
          </a:xfrm>
          <a:prstGeom prst="rect">
            <a:avLst/>
          </a:prstGeom>
          <a:solidFill>
            <a:srgbClr val="993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яз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419720" y="4191120"/>
            <a:ext cx="2663640" cy="1557000"/>
          </a:xfrm>
          <a:prstGeom prst="rect">
            <a:avLst/>
          </a:prstGeom>
          <a:solidFill>
            <a:srgbClr val="993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а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7162920" y="3276720"/>
            <a:ext cx="1800000" cy="1099800"/>
          </a:xfrm>
          <a:prstGeom prst="rect">
            <a:avLst/>
          </a:prstGeom>
          <a:solidFill>
            <a:srgbClr val="993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дел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img041"/>
          <p:cNvPicPr/>
          <p:nvPr/>
        </p:nvPicPr>
        <p:blipFill>
          <a:blip r:embed="rId1"/>
          <a:stretch/>
        </p:blipFill>
        <p:spPr>
          <a:xfrm>
            <a:off x="2209680" y="2743200"/>
            <a:ext cx="2057400" cy="1779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img040"/>
          <p:cNvPicPr/>
          <p:nvPr/>
        </p:nvPicPr>
        <p:blipFill>
          <a:blip r:embed="rId2"/>
          <a:stretch/>
        </p:blipFill>
        <p:spPr>
          <a:xfrm>
            <a:off x="228600" y="3048120"/>
            <a:ext cx="1889280" cy="2092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P1000576"/>
          <p:cNvPicPr/>
          <p:nvPr/>
        </p:nvPicPr>
        <p:blipFill>
          <a:blip r:embed="rId3"/>
          <a:stretch/>
        </p:blipFill>
        <p:spPr>
          <a:xfrm>
            <a:off x="4495680" y="2209680"/>
            <a:ext cx="2179800" cy="1633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P1000587"/>
          <p:cNvPicPr/>
          <p:nvPr/>
        </p:nvPicPr>
        <p:blipFill>
          <a:blip r:embed="rId4"/>
          <a:stretch/>
        </p:blipFill>
        <p:spPr>
          <a:xfrm>
            <a:off x="6781680" y="1447920"/>
            <a:ext cx="2210040" cy="1657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D:\документы ОЛЯ\открытый урок\c51c7f421936.jpg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коративно-прикладно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43000" y="1700280"/>
            <a:ext cx="632448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язание крючк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«РУССКИЕ ПОСИДЕЛ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648320" y="4267080"/>
            <a:ext cx="183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img035"/>
          <p:cNvPicPr/>
          <p:nvPr/>
        </p:nvPicPr>
        <p:blipFill>
          <a:blip r:embed="rId1"/>
          <a:stretch/>
        </p:blipFill>
        <p:spPr>
          <a:xfrm rot="20616000">
            <a:off x="732960" y="3931920"/>
            <a:ext cx="3853080" cy="19749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ЦЕЛЬ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ть и обобщить изученный материал, совершенствовать навыки вязания крюч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ть кругозор, эстетический вкус, фантазию и творчество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ывать любовь к труду, Родине, пробуждая любовь  к традициям устного народного творчества и декоративно-приклад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-7643880" y="29160"/>
            <a:ext cx="2443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чером ужинали(ели то, что осталось от обеда), а после ужина молодежь шла в чей-нибудь дом на посиделки. С собой брали какую-нибудь работу, девушки пряли, вышивали, вязали, а парни плели из бересты, соснового корня, делали другую работу. Игры и танцы начинались лишь после того, как иссякали принесенные из дома «уроки», (т.е. работа, рукоделие). На посиделках рассказывали интересные истории, сказки, загадывали загадки.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05" name="Picture 2" descr="C:\Users\ольга\Desktop\открытый урок\sam_0267.jpg"/>
          <p:cNvPicPr/>
          <p:nvPr/>
        </p:nvPicPr>
        <p:blipFill>
          <a:blip r:embed="rId1"/>
          <a:stretch/>
        </p:blipFill>
        <p:spPr>
          <a:xfrm>
            <a:off x="380880" y="45720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img065"/>
          <p:cNvPicPr/>
          <p:nvPr/>
        </p:nvPicPr>
        <p:blipFill>
          <a:blip r:embed="rId1"/>
          <a:stretch/>
        </p:blipFill>
        <p:spPr>
          <a:xfrm>
            <a:off x="4788000" y="1052640"/>
            <a:ext cx="1728720" cy="1911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img066"/>
          <p:cNvPicPr/>
          <p:nvPr/>
        </p:nvPicPr>
        <p:blipFill>
          <a:blip r:embed="rId2"/>
          <a:stretch/>
        </p:blipFill>
        <p:spPr>
          <a:xfrm>
            <a:off x="1763640" y="1125360"/>
            <a:ext cx="1666800" cy="180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img067"/>
          <p:cNvPicPr/>
          <p:nvPr/>
        </p:nvPicPr>
        <p:blipFill>
          <a:blip r:embed="rId3"/>
          <a:stretch/>
        </p:blipFill>
        <p:spPr>
          <a:xfrm>
            <a:off x="6084720" y="3357720"/>
            <a:ext cx="2459160" cy="28638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1172880" y="444600"/>
            <a:ext cx="736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язанием крючком можно украсить одеж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56160" y="3468600"/>
            <a:ext cx="424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редметы домашн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и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img084"/>
          <p:cNvPicPr/>
          <p:nvPr/>
        </p:nvPicPr>
        <p:blipFill>
          <a:blip r:embed="rId4"/>
          <a:stretch/>
        </p:blipFill>
        <p:spPr>
          <a:xfrm>
            <a:off x="2843280" y="4005360"/>
            <a:ext cx="2763720" cy="2636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40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4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4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44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44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244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вязания крючком в современном мире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18960"/>
            <a:ext cx="87138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язание даёт возможность создавать индивидуальные вещи из простого клубка ниток. К тому же вязание – прекрасный отдых за раб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язание крючком – распространенный вид руко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язание крючком осваивается легко и быстр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боты потребуются только крючок и пря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словное обозначение основных элементов вяз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img011"/>
          <p:cNvPicPr/>
          <p:nvPr/>
        </p:nvPicPr>
        <p:blipFill>
          <a:blip r:embed="rId1"/>
          <a:stretch/>
        </p:blipFill>
        <p:spPr>
          <a:xfrm>
            <a:off x="4952880" y="1219320"/>
            <a:ext cx="2819520" cy="2514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img093"/>
          <p:cNvPicPr/>
          <p:nvPr/>
        </p:nvPicPr>
        <p:blipFill>
          <a:blip r:embed="rId2"/>
          <a:stretch/>
        </p:blipFill>
        <p:spPr>
          <a:xfrm>
            <a:off x="1371600" y="1219320"/>
            <a:ext cx="2895480" cy="2590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img008"/>
          <p:cNvPicPr/>
          <p:nvPr/>
        </p:nvPicPr>
        <p:blipFill>
          <a:blip r:embed="rId3"/>
          <a:stretch/>
        </p:blipFill>
        <p:spPr>
          <a:xfrm>
            <a:off x="5029200" y="4114800"/>
            <a:ext cx="2819520" cy="2590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img017"/>
          <p:cNvPicPr/>
          <p:nvPr/>
        </p:nvPicPr>
        <p:blipFill>
          <a:blip r:embed="rId4"/>
          <a:stretch/>
        </p:blipFill>
        <p:spPr>
          <a:xfrm>
            <a:off x="1371600" y="4038480"/>
            <a:ext cx="2936880" cy="2667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Какие виды пряжи используют для вязания крючком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11\Desktop\фотографии\HWScan00068.bmp"/>
          <p:cNvPicPr/>
          <p:nvPr/>
        </p:nvPicPr>
        <p:blipFill>
          <a:blip r:embed="rId1"/>
          <a:stretch/>
        </p:blipFill>
        <p:spPr>
          <a:xfrm>
            <a:off x="2362320" y="609480"/>
            <a:ext cx="449568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анкевская Л.П. </dc:creator>
  <dc:description/>
  <dc:language>en-US</dc:language>
  <cp:lastModifiedBy>ольга</cp:lastModifiedBy>
  <dcterms:modified xsi:type="dcterms:W3CDTF">2014-12-25T18:18:48Z</dcterms:modified>
  <cp:revision>176</cp:revision>
  <dc:subject/>
  <dc:title>Вязание крючк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