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018F7-B879-43F4-949A-002AB6D9D57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76275-182F-42BC-A3C3-D2868A85A0D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1008C-6FE5-4628-87D1-00DE8720C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406E9-FAC0-4847-9D81-79834CD83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A0613-D7A5-4B05-8CD6-4ACB840DD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99512-9B52-4D9C-9967-D636D5352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51B77-BDFE-406B-812E-DBEA87769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1A51C-B17C-45A9-B0FB-CA578E54E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32C32-2D80-47D3-8A48-D719AE76D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1BC07-668C-4B0E-85FD-D2FBA854A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66187-24B9-4BCF-831D-A9B699B07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66DB6-301B-4D4C-B25B-70A213BE1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6140D-E364-4789-9667-44E96AC4A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970F8-2698-46C4-ABC6-EFAD3E356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668AD-F46E-46F2-8441-845971A9B33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11280" y="1125360"/>
            <a:ext cx="7773840" cy="367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Памятники г.Рязани, посвященные </a:t>
            </a: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Великой Отечественной войн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4067280" y="4960800"/>
            <a:ext cx="367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дготовила Мукомолова С.Н.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читель ОГБОУ «Рязанская специальная (коррекционная) школа-интернат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ffff"/>
                </a:solidFill>
                <a:latin typeface="Arial"/>
              </a:rPr>
              <a:t>Памятник Герою Советского Союза, создателю современных воздушно-десантных войск генералу армии </a:t>
            </a:r>
            <a:br>
              <a:rPr sz="2200"/>
            </a:br>
            <a:r>
              <a:rPr b="1" i="1" lang="ru-RU" sz="2200" spc="-1" strike="noStrike">
                <a:solidFill>
                  <a:srgbClr val="ffffff"/>
                </a:solidFill>
                <a:latin typeface="Arial"/>
              </a:rPr>
              <a:t>Василию Маргелову (27.12.1908 - 04.03.1990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5092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аргелов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Василий Филиппович участвовал в советско-финляндской войне 1939-40 гг. Во время Великой Отечественной войны командир стрелкового полка, начальник штаба, заместитель командира и командир гвардейской стрелковой дивизии, участвовал в обороне Ленинграда, в глубоких рейдах по тылам противника, в Сталинградской битве, в боях за Украину и Крым, в освобождении Румынии, Болгарии, Югославии, Чехословакии, Венгрии и Австрии. После войны на командных должностях, с 1954 года командующий Воздушно-десантными войсками.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.Ф.Маргелов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гражден 3 орденами Ленина, 2 орденами Красного Знамени, орденами Суворова 2-й степени, Отечественной войны 1-й степени, Красной Звезды и медалями, а также 8 орденами иностранных государст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2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амятник Cоветско-Польскому Братству по оружию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 сквере на площади генерала армии В. Ф. Маргелова в Ряза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54"/>
          <p:cNvPicPr/>
          <p:nvPr/>
        </p:nvPicPr>
        <p:blipFill>
          <a:blip r:embed="rId2"/>
          <a:stretch/>
        </p:blipFill>
        <p:spPr>
          <a:xfrm>
            <a:off x="3348000" y="2421000"/>
            <a:ext cx="4824360" cy="361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5" descr="П"/>
          <p:cNvPicPr/>
          <p:nvPr/>
        </p:nvPicPr>
        <p:blipFill>
          <a:blip r:embed="rId3"/>
          <a:stretch/>
        </p:blipFill>
        <p:spPr>
          <a:xfrm>
            <a:off x="250920" y="1628640"/>
            <a:ext cx="2984400" cy="46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Стела на территории училища ВДВ имени В.Ф. Маргело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5" descr="image20873210"/>
          <p:cNvPicPr/>
          <p:nvPr/>
        </p:nvPicPr>
        <p:blipFill>
          <a:blip r:embed="rId2"/>
          <a:stretch/>
        </p:blipFill>
        <p:spPr>
          <a:xfrm>
            <a:off x="468360" y="1557360"/>
            <a:ext cx="3352680" cy="50990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7" descr="image20873205"/>
          <p:cNvPicPr/>
          <p:nvPr/>
        </p:nvPicPr>
        <p:blipFill>
          <a:blip r:embed="rId3"/>
          <a:stretch/>
        </p:blipFill>
        <p:spPr>
          <a:xfrm>
            <a:off x="4140360" y="1557360"/>
            <a:ext cx="3825720" cy="51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Памятник Федору Полетаев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8000" y="3573000"/>
            <a:ext cx="8712000" cy="31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амятник Герою Советского Союза и национальному герою Италии Ф.А.Полетаеву был открыт в 1970 году. Федор Андрианович Полетаев - уроженец Рязанской области. В годы Великой Отечественной войны гвардеец-артиллерист храбро сражался против гитлеровцев под Москвой, на Украине, рука об руку с итальянскими патриотами бил врага на земле далёкого Аппенинского полуострова. Там он совершил свой последний подвиг, став героем двух народов. Памятник герою решен в виде горизонтальной массивной стелы из красного гранита. Портрет Ф.А.Полетаева представляет собой горельеф. Это благородное лицо советского солдата, идущего в бой. Брови нахмурены, губы сурово сжаты, взгляд решителен. Могучая рука сжимает оружие. Ствол автомата, далеко выходящий за грань стелы, обрамлён колосом пшеницы и ветвью оливы, которые олицетворяют Россию и Италию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549960_1380x1040"/>
          <p:cNvPicPr/>
          <p:nvPr/>
        </p:nvPicPr>
        <p:blipFill>
          <a:blip r:embed="rId2"/>
          <a:stretch/>
        </p:blipFill>
        <p:spPr>
          <a:xfrm>
            <a:off x="2411280" y="981000"/>
            <a:ext cx="3600720" cy="24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6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Памятник В.А.Молодцову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924000" y="1196640"/>
            <a:ext cx="476244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1985 году в городе Рязани открыт памятник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.А.Молодцову,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созданный  Заслуженным художником РСФСР скульптором А.П.Усаченко и архитектором Н.Истоминым. Памятник сооружен на улице Октябрьской в Московском районе. Владимир Александрович Молодцов был руководителем Одесского подполья в годы Великой Отечественной войны. Рязанцы по праву гордятся своим земляком. Его именем названы улицы в Сасове и Рязани, в 52-й рязанской школе создан музей В.А. Молодцова. Открытие памятника является еще одним ярким свидетельством искренней благодарности потомков всем, кто отдал свои жизни за свободу и независимость нашей Родины. Памятник В.А. Молодцову сооружен на средства трудящихся област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Молодцов"/>
          <p:cNvPicPr/>
          <p:nvPr/>
        </p:nvPicPr>
        <p:blipFill>
          <a:blip r:embed="rId2"/>
          <a:stretch/>
        </p:blipFill>
        <p:spPr>
          <a:xfrm>
            <a:off x="250920" y="1268280"/>
            <a:ext cx="3666960" cy="492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5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70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амятник А.В. Белякову 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(1897-1982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50560" y="1125000"/>
            <a:ext cx="453708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900" spc="-1" strike="noStrike">
                <a:solidFill>
                  <a:srgbClr val="ffffff"/>
                </a:solidFill>
                <a:latin typeface="Arial"/>
              </a:rPr>
              <a:t>Памятник герою-рязанцу, окончившему Рязанскую гимназию, Герою Советского Союза, штурману в экипаже Валерия Чкалова при перелете Москва – остров Удд, </a:t>
            </a: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основателю школы штурманов в Рязани - Александру Васильевичу Белякову, </a:t>
            </a:r>
            <a:r>
              <a:rPr b="0" lang="ru-RU" sz="1900" spc="-1" strike="noStrike">
                <a:solidFill>
                  <a:srgbClr val="ffffff"/>
                </a:solidFill>
                <a:latin typeface="Arial"/>
              </a:rPr>
              <a:t>был поставлен возле дома офицеров Дягилевского Центра боевого применения и переподготовки летного состава Дальней авиации 15 сентября 2010 года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1900" spc="-1" strike="noStrike">
                <a:solidFill>
                  <a:srgbClr val="ffffff"/>
                </a:solidFill>
                <a:latin typeface="Arial"/>
              </a:rPr>
              <a:t>В годы Великой Отечественной войны А.В.Беляков продолжал руководить Рязанской высшей школой штурманов ВВС и готовил кадры для фронта. Весной 1945 года принимал участие в Берлинской операции в должности главного штурмана 16-й воздушной армии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" descr="131"/>
          <p:cNvPicPr/>
          <p:nvPr/>
        </p:nvPicPr>
        <p:blipFill>
          <a:blip r:embed="rId2"/>
          <a:stretch/>
        </p:blipFill>
        <p:spPr>
          <a:xfrm>
            <a:off x="4788000" y="1989000"/>
            <a:ext cx="35290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4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2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2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Мемориал погибшим работникам Рязанского приборного заво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95280" y="134136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 проходной Рязанского приборного завода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8" descr="201106280814230"/>
          <p:cNvPicPr/>
          <p:nvPr/>
        </p:nvPicPr>
        <p:blipFill>
          <a:blip r:embed="rId2"/>
          <a:stretch/>
        </p:blipFill>
        <p:spPr>
          <a:xfrm>
            <a:off x="1476360" y="1881360"/>
            <a:ext cx="6191280" cy="46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6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Монументальный комплекс 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на площади Побед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355640" y="1628640"/>
            <a:ext cx="431964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  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1975 году на Площади Победы было завершено сооружение монументального комплекса в честь победы советского народа над фашистской Германией в Великой Отечественной войне. В центре его скульптурная группа, символизирующая единство фронта и тыла в то героическое время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8" descr="200609282311300"/>
          <p:cNvPicPr/>
          <p:nvPr/>
        </p:nvPicPr>
        <p:blipFill>
          <a:blip r:embed="rId2"/>
          <a:stretch/>
        </p:blipFill>
        <p:spPr>
          <a:xfrm>
            <a:off x="179280" y="2349360"/>
            <a:ext cx="4535640" cy="27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Монументальный комплекс 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на площади Побед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23640" y="1484280"/>
            <a:ext cx="793116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кульптор памятника - Б.С.Горбунов, архитекторы - Н.Н.Истомин и Н.И.Сидоркин. Здесь же обелиск поднял на 30 метровую высоту многократно увеличенную копию ордена Победы. Вечный огонь славы, горящий у монумента, зажжён от вечного огня на могиле Неизвестного солдата в Москве. По сложившейся традиции сюда в день Победы приходят ветераны Великий Отечественной войны. Здесь встречаются фронтовые друзья, однополчане. Отсюда уходят стройными колоннами подразделения курсантов рязанских военных училищ на традиционный праздник строевой песни. В праздники у подножья монумента всегда лежат живые цвет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ryazan-30447"/>
          <p:cNvPicPr/>
          <p:nvPr/>
        </p:nvPicPr>
        <p:blipFill>
          <a:blip r:embed="rId2"/>
          <a:stretch/>
        </p:blipFill>
        <p:spPr>
          <a:xfrm>
            <a:off x="4788000" y="4076640"/>
            <a:ext cx="3671640" cy="24447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7" descr="Pobeda_f"/>
          <p:cNvPicPr/>
          <p:nvPr/>
        </p:nvPicPr>
        <p:blipFill>
          <a:blip r:embed="rId3"/>
          <a:stretch/>
        </p:blipFill>
        <p:spPr>
          <a:xfrm>
            <a:off x="250920" y="4076640"/>
            <a:ext cx="4392360" cy="24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56944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Мемориальный парк 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на Скорбященском кладбищ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427280" y="1484280"/>
            <a:ext cx="425916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емориальный парк Рязани расположился недалеко от центрального городского парка, между Голенчинским шоссе и улицей Халтурина. Вход в парк увенчан массивной аркой, с вырезанным на фасаде изречением «Бессмертен отдавший жизнь за свободу Родины». Посетителей встречает Вечный огонь и бронзовый барельеф. В глубину парка ведет аллея Славы, на которой построена колокольня со звонницей. Другие аллеи ведут мимо воинских захоронений, выложенных ровными рядами надгробных камней с именами солда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IMG_7975"/>
          <p:cNvPicPr/>
          <p:nvPr/>
        </p:nvPicPr>
        <p:blipFill>
          <a:blip r:embed="rId2"/>
          <a:stretch/>
        </p:blipFill>
        <p:spPr>
          <a:xfrm>
            <a:off x="611280" y="1484280"/>
            <a:ext cx="3868560" cy="51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50752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Мемориальный парк </a:t>
            </a:r>
            <a:br>
              <a:rPr sz="3600"/>
            </a:b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на Скорбященском кладбищ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708360" y="1601280"/>
            <a:ext cx="49910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емориал, воздвигнутый на воинском участке Скорбященского кладбища, где в годы  Великой Отечественной войны хоронили умерших в госпиталях Рязани раненых, был создан по проекту рязанских архитекторов Н.Н. Истомина и А.В. Буслакова при участии В.Л. Сытых и стал поистине народной стройк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жалуй, не найти в городе предприятия или организации, которые так или иначе не участвовали бы в создании мемориала. Память героев, отдавших жизнь за свободу и независимость нашей Родины, священна во веки веков. Бригада участников Великой Отечественной войны, кавалера ордена Славы двух степеней Н.В. Щербатова из первого строительного управления треста №1 объединения «Рязаньстрой» готовила фундаменты для сооружений зимой в снежные заносы и мороз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5" descr="201004241843360"/>
          <p:cNvPicPr/>
          <p:nvPr/>
        </p:nvPicPr>
        <p:blipFill>
          <a:blip r:embed="rId2"/>
          <a:stretch/>
        </p:blipFill>
        <p:spPr>
          <a:xfrm>
            <a:off x="539640" y="4005360"/>
            <a:ext cx="3382920" cy="25416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8" descr="201004241844020"/>
          <p:cNvPicPr/>
          <p:nvPr/>
        </p:nvPicPr>
        <p:blipFill>
          <a:blip r:embed="rId3"/>
          <a:stretch/>
        </p:blipFill>
        <p:spPr>
          <a:xfrm>
            <a:off x="539640" y="1268280"/>
            <a:ext cx="3384720" cy="25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0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Мемориал ленинградца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ейчас здесь находятся могилы более чем 2 тысяч солдат и ленинградцев, эвакуированных в Рязань и скончавшихся здесь в годы блокады. В 1985 году к 40-летию Великой победы в парке был построен мемориал, который в народе так же называют Скорбященским мемориал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7" descr="201004241847510"/>
          <p:cNvPicPr/>
          <p:nvPr/>
        </p:nvPicPr>
        <p:blipFill>
          <a:blip r:embed="rId2"/>
          <a:stretch/>
        </p:blipFill>
        <p:spPr>
          <a:xfrm>
            <a:off x="1332000" y="2708280"/>
            <a:ext cx="6072120" cy="39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9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4716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Памятник советско-польскому братству по оружию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708000" y="1341000"/>
            <a:ext cx="52578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ткрыт в 1983 году в честь 40-ой годовщины формирования под Рязанью польской пехотной дивизии имени Тадеуша Костюшко.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Памятник является символом дружбы двух народов и стремления польской и советской армий к победе над Германией. Он представляет собой 19 метровую скульптурную композицию, сделанную из гранита и бронзы.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Монумент изображает уносящуюся ракету и устремившихся вперед из окопов советских и польских солдат, изображенных в прыжке и поднятых на высоту более 3 метров над постаментом. Перед монументом находится блок из красного полированного гранита с бронзовой лавровой ветвью и надписью на двух языках: “В честь советско-польского братства по оружию”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6" descr="62"/>
          <p:cNvPicPr/>
          <p:nvPr/>
        </p:nvPicPr>
        <p:blipFill>
          <a:blip r:embed="rId2"/>
          <a:stretch/>
        </p:blipFill>
        <p:spPr>
          <a:xfrm>
            <a:off x="179280" y="1484280"/>
            <a:ext cx="3870360" cy="51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8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Памятник советско-польскому братству по оружи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78920" y="1341000"/>
            <a:ext cx="842508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права от глубокой аллеи, идущей от улицы Октябрьской к памятнику, установлен блок – монолит с эмблемами Советской Армии и Войска Польского и стихотворным текстом на русском языке и польском (написанным поэтом Янушем Лясковским, перевод Роберта Рождественского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От Оки и до Берлина не страшась преград,</a:t>
            </a:r>
            <a:br>
              <a:rPr sz="1800"/>
            </a:b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Шли солдаты – братья по оружию.</a:t>
            </a:r>
            <a:br>
              <a:rPr sz="1800"/>
            </a:b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Был щитом для брата брат,</a:t>
            </a:r>
            <a:br>
              <a:rPr sz="1800"/>
            </a:b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Умирал за брата брат.</a:t>
            </a:r>
            <a:br>
              <a:rPr sz="1800"/>
            </a:b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Родила победу эта дружб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вторы – польские скульпторы Бронислав Хромы, Станислав Хохула, Яцек Сарапту, Генрих Фудали и советские специалисты: архитектор Ю. Вознесенский и инженер-конструктор Хаджибаров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49ec5364ba5f6680719bc20aacb7ee64"/>
          <p:cNvPicPr/>
          <p:nvPr/>
        </p:nvPicPr>
        <p:blipFill>
          <a:blip r:embed="rId2"/>
          <a:stretch/>
        </p:blipFill>
        <p:spPr>
          <a:xfrm>
            <a:off x="1979640" y="4437000"/>
            <a:ext cx="4824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60" dur="20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ffff"/>
                </a:solidFill>
                <a:latin typeface="Arial"/>
              </a:rPr>
              <a:t>Памятник Герою Советского Союза, создателю современных воздушно-десантных войск генералу армии </a:t>
            </a:r>
            <a:br>
              <a:rPr sz="2200"/>
            </a:br>
            <a:r>
              <a:rPr b="1" i="1" lang="ru-RU" sz="2200" spc="-1" strike="noStrike">
                <a:solidFill>
                  <a:srgbClr val="ffffff"/>
                </a:solidFill>
                <a:latin typeface="Arial"/>
              </a:rPr>
              <a:t>Василию Маргелову (27.12.1908 - 04.03.1990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835344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амятник работы известного рязанского скульптора Бориса Горбунова, размещенный в сквере перед зданием Рязанского воздушно-десантного училища, был открыт 6 мая 2013 года. Монумент выполнен из бронзы и мрамора, в центре композиции находятся фигура генерала и арка, символизирующая раскрытый парашют. Рязанское десантное училище – главная кузница офицерских кадров для «крылатой гвардии» России, которой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.Ф.Маргелов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командовал без малого 25 л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121"/>
          <p:cNvPicPr/>
          <p:nvPr/>
        </p:nvPicPr>
        <p:blipFill>
          <a:blip r:embed="rId2"/>
          <a:stretch/>
        </p:blipFill>
        <p:spPr>
          <a:xfrm>
            <a:off x="0" y="3716280"/>
            <a:ext cx="4643280" cy="30434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7" descr="99"/>
          <p:cNvPicPr/>
          <p:nvPr/>
        </p:nvPicPr>
        <p:blipFill>
          <a:blip r:embed="rId3"/>
          <a:stretch/>
        </p:blipFill>
        <p:spPr>
          <a:xfrm>
            <a:off x="4859280" y="3645000"/>
            <a:ext cx="4103640" cy="30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4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6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09T09:12:19Z</dcterms:created>
  <dc:creator>Анастасия</dc:creator>
  <dc:description/>
  <dc:language>en-US</dc:language>
  <cp:lastModifiedBy>Анастасия</cp:lastModifiedBy>
  <dcterms:modified xsi:type="dcterms:W3CDTF">2015-01-18T20:22:55Z</dcterms:modified>
  <cp:revision>17</cp:revision>
  <dc:subject/>
  <dc:title>Памятники г.Рязани, посвященные  Великой Отечественной Войне</dc:title>
</cp:coreProperties>
</file>