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7D8-9070-4E61-9EEB-A6285AA6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3D8-C2D2-420E-AD22-A47A4FDA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015-5FA5-4795-8D67-017028EF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3AA6-62E5-426F-B5F9-547F6180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01B0-268F-4863-B50A-70B911EF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454A-6971-417F-B8BC-78192CF9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EAA4-DF34-426F-BED5-E58A63BF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6BEA-26C9-47B2-960A-52013F4E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9F5A-5B31-4514-9303-92AE1331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CACC-6C00-4D5B-9B16-93896C1D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8247-4C23-48E1-8AEA-D509429A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E2CB-8E5C-4A03-BD00-B7125014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B2D6-0555-42B5-80C4-9F8D6EAE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5906-FC9F-4FF2-B714-7D5F6A33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056B-03A7-4517-9969-65957340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8C24-E5BD-49B1-B0E8-AAB9FAF0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00F5-B948-4C3C-BEB5-869C6A4F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A1653-CE3C-49A2-92C8-B51F253D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D063F-7726-47DA-9D55-69047E47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2D767-0E06-4D4A-9005-02FF043D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BF46F-C426-4E62-BC28-02AAE250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00E63-E34D-4481-8C19-27EA18A3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F0B-5557-48BE-B2B5-B79D9456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56742-543C-4CBB-A0E4-440F75FB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3E676-BC71-46CC-AA5D-B6FB2AD6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D3B8F-4009-4496-997F-33D5D7B1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6F3AF-4C84-4B0A-9471-D8FFFD87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F9643-C416-4AFD-A166-A200A9F0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A2705-04CD-419C-9C0A-205005D6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46AD3-67A6-48F9-80D2-5E81CD8E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3619B-C4DF-4B1D-8AE6-E84AB253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5B9B8-F2B3-4F9B-AF9F-B0964759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96BE6-F279-4A9D-8DE4-3036360E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97C7-D9EA-4D57-A513-2F5EDECB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F8D58-0744-4BDA-AD11-BA0AF589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B6E23-9AD2-41AD-8ACD-B1D74AB8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2DC83-414D-4D93-8530-69557951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3239F-6C4A-4A94-9C9F-487D7F76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9325B-4D55-47C9-BA87-B672724F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F0256-375F-466F-95BE-B482DF78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894E4-41BB-4A59-948E-757F5B10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919A8-823E-467C-82CC-BFECCBFD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303FC-D479-404B-87A1-6C83792E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49E8C-A6ED-4B65-BC2D-1C7DCA4F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3AB-E0F9-4B46-8869-DFB29E7F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3F7B1-8EF7-4C85-B45E-F4D56D57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1BAB3-07EA-4BB0-A6F0-4B64259E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5B0B7-8D31-4CE6-B985-F9F18073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F9784-763F-4057-9FFA-3D6C4BC9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1EB0B-01CF-460D-9BE2-446A41F4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D7D9A-E76A-43EB-A979-F169A416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621DE-EF4E-41D2-9A2C-D7538C2C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4246D-C35D-433E-8509-738C225B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F357F-29A0-4294-9418-9D334041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89CF2-5957-4B88-9C8C-9B3182AF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4476-125E-46AB-A5C0-A707DB23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F1DEC-D302-49EF-BE4F-F147AE43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BB17-5660-4282-BD4B-B6B65D1C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8794-D353-4DEE-B411-DD66F269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989-C135-4066-B8B6-3344E51A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7DF6-429E-432F-B66B-7BE51B484ED8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5815-3C15-42C4-8E50-54CCBE92CAA7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E4E9-9CD0-4A14-9515-024DC53378F7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4F11-C7A0-4C3B-A96E-493D2A64079E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7CE3-13CD-4A70-A959-A7AE3F08BE8C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320004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62626"/>
                </a:solidFill>
                <a:latin typeface="Impact"/>
              </a:rPr>
              <a:t>Подросток и суицид</a:t>
            </a:r>
            <a:endParaRPr b="0" lang="en-US" sz="8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татистика 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1" name="Объект 3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936360" cy="79236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4"/>
          <p:cNvSpPr/>
          <p:nvPr/>
        </p:nvSpPr>
        <p:spPr>
          <a:xfrm>
            <a:off x="3492360" y="2136600"/>
            <a:ext cx="4751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ибольшее количество суицидов совершается осенью (в октябре) и весной (в апреле, мае). По возрасту пик суицидов приходится на 15 – 16 лет и практически не встречается у детей до 8 лет. По половой принадлежности больше склонны к суицидам мальчики. 92% детей и подростков, совершивших суицид, не попадали в поле зрения психиат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Мотивы 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61760" y="40428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03030"/>
                </a:solidFill>
                <a:latin typeface="Times New Roman"/>
              </a:rPr>
              <a:t>- Переживание обиды, одиночества, отчужденности и непонимания.</a:t>
            </a:r>
            <a:endParaRPr b="0" lang="en-US" sz="19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303030"/>
                </a:solidFill>
                <a:latin typeface="Times New Roman"/>
              </a:rPr>
              <a:t>- Действительная или мнимая утрата любви родителей, неразделенное чувство и ревность.</a:t>
            </a:r>
            <a:endParaRPr b="0" lang="en-US" sz="19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303030"/>
                </a:solidFill>
                <a:latin typeface="Times New Roman"/>
              </a:rPr>
              <a:t>- Переживания, связанные со смертью, разводом или уходом родителей из семьи.</a:t>
            </a:r>
            <a:endParaRPr b="0" lang="en-US" sz="19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303030"/>
                </a:solidFill>
                <a:latin typeface="Times New Roman"/>
              </a:rPr>
              <a:t>- Чувства вины, стыда, оскорбленного самолюбия, самообвинения.</a:t>
            </a:r>
            <a:endParaRPr b="0" lang="en-US" sz="19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303030"/>
                </a:solidFill>
                <a:latin typeface="Times New Roman"/>
              </a:rPr>
              <a:t>- Боязнь позора, насмешек или унижения.</a:t>
            </a:r>
            <a:endParaRPr b="0" lang="en-US" sz="19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303030"/>
                </a:solidFill>
                <a:latin typeface="Times New Roman"/>
              </a:rPr>
              <a:t>- Страх наказания, нежелание извиниться.</a:t>
            </a:r>
            <a:endParaRPr b="0" lang="en-US" sz="19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303030"/>
                </a:solidFill>
                <a:latin typeface="Times New Roman"/>
              </a:rPr>
              <a:t>- Любовные неудачи, сексуальные эксцессы, беременность.</a:t>
            </a:r>
            <a:endParaRPr b="0" lang="en-US" sz="19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303030"/>
                </a:solidFill>
                <a:latin typeface="Times New Roman"/>
              </a:rPr>
              <a:t>- Чувство мести, злобы, протеста; угроза или вымогательство.</a:t>
            </a:r>
            <a:endParaRPr b="0" lang="en-US" sz="19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03030"/>
                </a:solidFill>
                <a:latin typeface="Times New Roman"/>
              </a:rPr>
              <a:t>Желание привлечь к себе внимание, вызвать сочувствие, избежать неприятных последствий, уйти от трудной ситуации.</a:t>
            </a:r>
            <a:endParaRPr b="0" lang="en-US" sz="19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303030"/>
                </a:solidFill>
                <a:latin typeface="Times New Roman"/>
              </a:rPr>
              <a:t>- Сочувствие или подражание товарищам, героям книг или фильмов.</a:t>
            </a:r>
            <a:endParaRPr b="0" lang="en-US" sz="19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Виды аутоагрессии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03030"/>
                </a:solidFill>
                <a:latin typeface="Times New Roman"/>
              </a:rPr>
              <a:t>Несерьезность, мимолетность и незначительность (с точки зрения взрослых) мотивов, которыми дети объясняют попытки самоубийства. Этим обусловлены трудности своевременного распознавания суицидальных тенденций и существенная частота неожиданных для окружающих случаев.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03030"/>
                </a:solidFill>
                <a:latin typeface="Times New Roman"/>
              </a:rPr>
              <a:t> 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0303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303030"/>
                </a:solidFill>
                <a:latin typeface="Times New Roman"/>
              </a:rPr>
              <a:t>Наличие взаимосвязи попыток самоубийств детей и подростков с отклоняющимся поведением: побегами из дома, прогулами школы, ранним курением, мелкими правонарушениями, конфликтами с родителями, алкоголизацией, наркотизацией, сексуальными эксцессами и т.д.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03030"/>
                </a:solidFill>
                <a:latin typeface="Times New Roman"/>
              </a:rPr>
              <a:t> 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303030"/>
                </a:solidFill>
                <a:latin typeface="Times New Roman"/>
              </a:rPr>
              <a:t>В детском и подростковом возрасте возникновению суицидального поведения способствуют депрессивные состояния, которые проявляются иначе, чем у взрослых, и существенно разнятся между собой.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Признаки 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61760" y="685800"/>
            <a:ext cx="7543800" cy="41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Словесные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оведенческие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Ситуационные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2843280" y="765000"/>
            <a:ext cx="5113440" cy="863640"/>
          </a:xfrm>
          <a:prstGeom prst="rect">
            <a:avLst/>
          </a:prstGeom>
          <a:solidFill>
            <a:srgbClr val="ad0101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Я не могу так дальше жить!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3348000" y="1916280"/>
            <a:ext cx="5545080" cy="1368360"/>
          </a:xfrm>
          <a:prstGeom prst="rect">
            <a:avLst/>
          </a:prstGeom>
          <a:solidFill>
            <a:srgbClr val="ad0101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дает  другим вещи, имеющие большую личную значимость, окончательно приводит в порядок дела, мирится с давними враг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оугольник 6"/>
          <p:cNvSpPr/>
          <p:nvPr/>
        </p:nvSpPr>
        <p:spPr>
          <a:xfrm>
            <a:off x="3203640" y="3429000"/>
            <a:ext cx="5689440" cy="1871640"/>
          </a:xfrm>
          <a:prstGeom prst="rect">
            <a:avLst/>
          </a:prstGeom>
          <a:solidFill>
            <a:srgbClr val="ad0101"/>
          </a:solidFill>
          <a:ln w="2232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о изолирован, чувствует себя отверженны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живёт в нестабильном окружении (серьёзный кризис в семье; алкоголизм- личная или семейная проблем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ощущает себя жертвой насилия - физического, сексуального или эмоционального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предпринимал раньше попытки самоуби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Рекомендации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61760" y="259920"/>
            <a:ext cx="75438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03030"/>
                </a:solidFill>
                <a:latin typeface="Times New Roman"/>
              </a:rPr>
              <a:t>Внимательно  выслушайте  решившегося  на  самоубийство  подростка. Приложите  все  усилия, чтобы понять  проблему, скрытую за  словами.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303030"/>
                </a:solidFill>
                <a:latin typeface="Times New Roman"/>
              </a:rPr>
              <a:t>Оцените  серьезность, намерений и чувств,  глубину  эмоционального  кризиса ребенка.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303030"/>
                </a:solidFill>
                <a:latin typeface="Times New Roman"/>
              </a:rPr>
              <a:t>Внимательно  отнеситесь ко  всем   даже   самым   незначительным   обидам  и жалобам. Не  пренебрегайте  ничем  из  сказанного.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303030"/>
                </a:solidFill>
                <a:latin typeface="Times New Roman"/>
              </a:rPr>
              <a:t>Не  бойтесь  прямо  спросить, не  думает   ли   он   или   она   о   самоубийстве. Опыт  показывает, что  такой   вопрос   редко  приносит   вред. Часто  подросток бывает  рад  возможности  открыто  высказать  свои  проблемы. Ребенок  может почувствовать  облегчение  после  разговора  о  самоубийстве, но  вскоре  опять может  вернуться  к  тем  же  мыслям. Поэтому   важно    не   оставлять   его     в одиночестве  даже  после  успешного  разговора.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303030"/>
                </a:solidFill>
                <a:latin typeface="Times New Roman"/>
              </a:rPr>
              <a:t>Поддерживайте  его  и будьте  настойчивы. Человеку  в  состоянии  душевного кризиса  нужны  строгие  и  утвердительные  указания.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303030"/>
                </a:solidFill>
                <a:latin typeface="Times New Roman"/>
              </a:rPr>
              <a:t>Убедите  его   в  том, что  он  сделал  верный  шаг, приняв  вашу  помощь. Осознание  вашей   компетентности,   заинтересованности   в   его  судьбе  и  готовности  помочь  дадут  ему  эмоциональную  опору.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303030"/>
                </a:solidFill>
                <a:latin typeface="Times New Roman"/>
              </a:rPr>
              <a:t>Следует  принять  во  внимание  и  другие  возможные  источники  помощи: друзей, семью, врачей, священников, к  которым  можно  обратиться.  </a:t>
            </a: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9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4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9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Группы суицидов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Истинные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Скрытые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Демонстративные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36" name="Рисунок 3" descr=""/>
          <p:cNvPicPr/>
          <p:nvPr/>
        </p:nvPicPr>
        <p:blipFill>
          <a:blip r:embed="rId1"/>
          <a:stretch/>
        </p:blipFill>
        <p:spPr>
          <a:xfrm>
            <a:off x="6084720" y="2265480"/>
            <a:ext cx="126396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6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1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262626"/>
                </a:solidFill>
                <a:latin typeface="Impact"/>
              </a:rPr>
              <a:t>Суицид - не повод для осуждения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38" name="Объект 3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11509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3:48:54Z</dcterms:created>
  <dc:creator>User</dc:creator>
  <dc:description/>
  <dc:language>en-US</dc:language>
  <cp:lastModifiedBy>User</cp:lastModifiedBy>
  <dcterms:modified xsi:type="dcterms:W3CDTF">2013-03-05T14:03:37Z</dcterms:modified>
  <cp:revision>11</cp:revision>
  <dc:subject/>
  <dc:title>Подросток и суицид</dc:title>
</cp:coreProperties>
</file>