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4CA-07B7-47C6-B669-D29A2873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DB4-15EA-4A2B-84CF-5AE8AAFF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627-8096-43BD-A4BB-90D57E13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A53-A702-47C1-BB94-B70B09C3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921-C066-4A47-8B14-F53FF3A9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555-805D-46B2-9F07-1622CCDC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12C-C2DC-4F0C-B54E-0E1F6E2D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CF5-184F-4815-9B55-64C526D4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D53-0D47-48B1-BD97-2BC6B47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31C-814B-4858-9FD9-61470665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75B-78F7-4560-9953-2767D24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48B-7FBA-4847-8F47-F482B55A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BD4A-F3A2-432F-B996-4EBB688E2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5866560" y="3933720"/>
            <a:ext cx="2808360" cy="1436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6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539280" y="400536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11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aple"/>
          <p:cNvPicPr/>
          <p:nvPr/>
        </p:nvPicPr>
        <p:blipFill>
          <a:blip r:embed="rId1">
            <a:lum bright="-6000"/>
          </a:blip>
          <a:stretch/>
        </p:blipFill>
        <p:spPr>
          <a:xfrm rot="20778000">
            <a:off x="5867280" y="764640"/>
            <a:ext cx="2241720" cy="207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079513_337"/>
          <p:cNvPicPr/>
          <p:nvPr/>
        </p:nvPicPr>
        <p:blipFill>
          <a:blip r:embed="rId2"/>
          <a:srcRect l="0" t="58642" r="67529" b="0"/>
          <a:stretch/>
        </p:blipFill>
        <p:spPr>
          <a:xfrm rot="20596800">
            <a:off x="395280" y="475920"/>
            <a:ext cx="2013120" cy="2073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079513_337"/>
          <p:cNvPicPr/>
          <p:nvPr/>
        </p:nvPicPr>
        <p:blipFill>
          <a:blip r:embed="rId3"/>
          <a:srcRect l="27721" t="0" r="48425" b="59862"/>
          <a:stretch/>
        </p:blipFill>
        <p:spPr>
          <a:xfrm rot="9734400">
            <a:off x="3708000" y="1556640"/>
            <a:ext cx="1557360" cy="21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079513_337"/>
          <p:cNvPicPr/>
          <p:nvPr/>
        </p:nvPicPr>
        <p:blipFill>
          <a:blip r:embed="rId4"/>
          <a:srcRect l="36625" t="63809" r="32495" b="0"/>
          <a:stretch/>
        </p:blipFill>
        <p:spPr>
          <a:xfrm>
            <a:off x="826920" y="2637000"/>
            <a:ext cx="1730520" cy="163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079513_337"/>
          <p:cNvPicPr/>
          <p:nvPr/>
        </p:nvPicPr>
        <p:blipFill>
          <a:blip r:embed="rId5"/>
          <a:srcRect l="53199" t="0" r="24531" b="61811"/>
          <a:stretch/>
        </p:blipFill>
        <p:spPr>
          <a:xfrm rot="12037200">
            <a:off x="6443280" y="3644280"/>
            <a:ext cx="166356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079513_337"/>
          <p:cNvPicPr/>
          <p:nvPr/>
        </p:nvPicPr>
        <p:blipFill>
          <a:blip r:embed="rId6"/>
          <a:srcRect l="77061" t="0" r="0" b="59862"/>
          <a:stretch/>
        </p:blipFill>
        <p:spPr>
          <a:xfrm rot="9262200">
            <a:off x="3707640" y="4365000"/>
            <a:ext cx="1241640" cy="175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079513_337"/>
          <p:cNvPicPr/>
          <p:nvPr/>
        </p:nvPicPr>
        <p:blipFill>
          <a:blip r:embed="rId7"/>
          <a:srcRect l="36649" t="63809" r="32495" b="0"/>
          <a:stretch/>
        </p:blipFill>
        <p:spPr>
          <a:xfrm>
            <a:off x="6732720" y="119700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79513_337"/>
          <p:cNvPicPr/>
          <p:nvPr/>
        </p:nvPicPr>
        <p:blipFill>
          <a:blip r:embed="rId8"/>
          <a:srcRect l="36649" t="63809" r="32495" b="0"/>
          <a:stretch/>
        </p:blipFill>
        <p:spPr>
          <a:xfrm>
            <a:off x="2627280" y="4724280"/>
            <a:ext cx="1728720" cy="164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079513_337"/>
          <p:cNvPicPr/>
          <p:nvPr/>
        </p:nvPicPr>
        <p:blipFill>
          <a:blip r:embed="rId9"/>
          <a:srcRect l="36649" t="63809" r="32495" b="0"/>
          <a:stretch/>
        </p:blipFill>
        <p:spPr>
          <a:xfrm>
            <a:off x="2124000" y="33336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8" descr="079513_337"/>
          <p:cNvPicPr/>
          <p:nvPr/>
        </p:nvPicPr>
        <p:blipFill>
          <a:blip r:embed="rId10"/>
          <a:srcRect l="36649" t="63809" r="32495" b="0"/>
          <a:stretch/>
        </p:blipFill>
        <p:spPr>
          <a:xfrm>
            <a:off x="4140360" y="242100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2206 L -0.01563 0.96181 E">
                                      <p:cBhvr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7 -0.38148 L 0.01736 0.76945 E">
                                      <p:cBhvr>
                                        <p:cTn id="19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49 -0.26296 L 0.06649 0.96158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7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09:41:46Z</dcterms:created>
  <dc:creator>www.PHILka.RU</dc:creator>
  <dc:description/>
  <dc:language>en-US</dc:language>
  <cp:lastModifiedBy>Сергей</cp:lastModifiedBy>
  <dcterms:modified xsi:type="dcterms:W3CDTF">2012-10-01T16:41:20Z</dcterms:modified>
  <cp:revision>45</cp:revision>
  <dc:subject/>
  <dc:title>Слайд 1</dc:title>
</cp:coreProperties>
</file>