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6AF-67AD-42CD-9644-71CF3A0E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C86-BD06-40D1-9640-A38C5AC1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FE2-E6CB-49CE-AEFF-9D5E38DC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61B-9447-4278-AB5D-2AA5D356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16D-03F8-4F6B-B4F8-CFE68339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1D7-7C8E-48E9-AE2B-70D232E4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9B0-6BB9-4BB0-B3C4-E04B5A51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D73-DB83-4422-8B65-3DD3D41D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259-3C2D-4A4C-87F0-4A5145E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BCD-4F0D-4B32-83CD-87B88EC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CC1-AE84-4EF1-BD16-2D86762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ECF-C15B-4AD5-AB3F-D7CA44D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4F82-FAFD-4688-976C-14ABF1A6F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32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6720" y="54000"/>
            <a:ext cx="4719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40000"/>
              </a:gs>
              <a:gs pos="50000">
                <a:srgbClr val="720000"/>
              </a:gs>
              <a:gs pos="100000">
                <a:srgbClr val="3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edd"/>
                </a:solidFill>
                <a:latin typeface="Times New Roman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569880"/>
            <a:ext cx="20829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edd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81800" y="569880"/>
            <a:ext cx="208260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edd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8920" y="1125360"/>
            <a:ext cx="5367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40000"/>
              </a:gs>
              <a:gs pos="50000">
                <a:srgbClr val="720000"/>
              </a:gs>
              <a:gs pos="100000">
                <a:srgbClr val="3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Округлите до десятк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2960" y="1623960"/>
            <a:ext cx="173700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7 8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60840" y="1623960"/>
            <a:ext cx="15393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7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73880" y="1623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3 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54920" y="1623960"/>
            <a:ext cx="16156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3 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81040" y="2271600"/>
            <a:ext cx="5370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40000"/>
              </a:gs>
              <a:gs pos="50000">
                <a:srgbClr val="720000"/>
              </a:gs>
              <a:gs pos="100000">
                <a:srgbClr val="3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Округлите до соте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2847960"/>
            <a:ext cx="173664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1 8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08280" y="2847960"/>
            <a:ext cx="16156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1 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59480" y="2847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92 7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0880" y="2847960"/>
            <a:ext cx="16156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92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4520" y="3495600"/>
            <a:ext cx="5367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40000"/>
              </a:gs>
              <a:gs pos="50000">
                <a:srgbClr val="720000"/>
              </a:gs>
              <a:gs pos="100000">
                <a:srgbClr val="3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Округлите до тыся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4000680"/>
            <a:ext cx="173664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1 5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8280" y="4000680"/>
            <a:ext cx="16156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2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59480" y="400068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7 6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40880" y="4000680"/>
            <a:ext cx="16156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8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63760" y="4576680"/>
            <a:ext cx="5367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40000"/>
              </a:gs>
              <a:gs pos="50000">
                <a:srgbClr val="720000"/>
              </a:gs>
              <a:gs pos="100000">
                <a:srgbClr val="3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Округлите до сотен тыся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1040" y="5079960"/>
            <a:ext cx="173052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2 4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7520" y="5079960"/>
            <a:ext cx="16156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507996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6 5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27560" y="5079960"/>
            <a:ext cx="16156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5080" y="5657760"/>
            <a:ext cx="54705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40000"/>
              </a:gs>
              <a:gs pos="50000">
                <a:srgbClr val="720000"/>
              </a:gs>
              <a:gs pos="100000">
                <a:srgbClr val="34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Округлите до десятк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7760" y="6165720"/>
            <a:ext cx="173016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999 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6165720"/>
            <a:ext cx="18442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0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6165720"/>
            <a:ext cx="1730520" cy="50940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999 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72400" y="6165720"/>
            <a:ext cx="18442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6cd"/>
              </a:gs>
              <a:gs pos="50000">
                <a:srgbClr val="ffffff"/>
              </a:gs>
              <a:gs pos="100000">
                <a:srgbClr val="ffe6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0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44280"/>
            <a:ext cx="4724280" cy="576720"/>
          </a:xfrm>
          <a:prstGeom prst="roundRect">
            <a:avLst>
              <a:gd name="adj" fmla="val 16667"/>
            </a:avLst>
          </a:prstGeom>
          <a:solidFill>
            <a:srgbClr val="ffeedd"/>
          </a:solidFill>
          <a:ln w="38160">
            <a:solidFill>
              <a:srgbClr val="ffe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imes New Roman"/>
              </a:rPr>
              <a:t>Проверьте себ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50:09Z</dcterms:created>
  <dc:creator>SEMEN</dc:creator>
  <dc:description/>
  <dc:language>en-US</dc:language>
  <cp:lastModifiedBy>Semen</cp:lastModifiedBy>
  <dcterms:modified xsi:type="dcterms:W3CDTF">2007-07-22T08:47:09Z</dcterms:modified>
  <cp:revision>22</cp:revision>
  <dc:subject/>
  <dc:title>Презентация PowerPoint</dc:title>
</cp:coreProperties>
</file>