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E16-1554-4531-86CD-683234E772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327F-20EF-442E-993D-B2F876398C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9DCE-37C6-4C0B-BCD0-6A6E8A0FAD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0DAE-1F49-4E60-953A-A6901549AE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4E7B-999A-4D91-8D21-DE3E76D4C4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84E-FEC6-4B18-B0B3-48240C07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E71-8A24-4C7B-87DF-A1DDE209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A17-A0C5-4769-92FD-58BA77C4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EC9-BA2F-41BA-A2A8-ABE3C84E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532-5C77-45C9-B79F-82451847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E2D-23CC-45C1-9ACA-79B05508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04E-6AE6-408F-A3B1-F9FB06DF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CA1-35FD-4E9E-9D81-4763EA95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223-4E14-4575-88BC-68854DE1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5D4-DFBC-4BFC-BF1C-F21267B6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A6E-86CE-44AD-9E66-AAEC947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5D0-F16E-48EB-9112-ED5FAD6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AB4F-1AED-43B1-9187-1774D2809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97000" y="430200"/>
            <a:ext cx="88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Задачи-шутк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Округлим вес медвежонка до сотен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568520" y="3925800"/>
            <a:ext cx="43164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410480" y="3576600"/>
            <a:ext cx="265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4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669960" y="3494160"/>
            <a:ext cx="792000" cy="588960"/>
          </a:xfrm>
          <a:custGeom>
            <a:avLst/>
            <a:gdLst>
              <a:gd name="textAreaLeft" fmla="*/ 0 w 792000"/>
              <a:gd name="textAreaRight" fmla="*/ 792360 w 79200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061520" y="3614760"/>
            <a:ext cx="17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25"/>
          <p:cNvPicPr/>
          <p:nvPr/>
        </p:nvPicPr>
        <p:blipFill>
          <a:blip r:embed="rId1"/>
          <a:stretch/>
        </p:blipFill>
        <p:spPr>
          <a:xfrm>
            <a:off x="6770520" y="3065400"/>
            <a:ext cx="1694160" cy="37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7 C 0.01753 -0.09583 0.03507 -0.19167 0.01319 -0.26019 C -0.00868 -0.32824 -0.08091 -0.37407 -0.1316 -0.40949 C -0.1823 -0.44514 -0.2573 -0.43287 -0.2908 -0.47431 C -0.32431 -0.51528 -0.34167 -0.56574 -0.33299 -0.65718 C -0.32431 -0.74769 -0.28125 -0.88403 -0.2382 -1.0206 E">
                                      <p:cBhvr>
                                        <p:cTn id="1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219320" y="3936960"/>
            <a:ext cx="43164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45320" y="3576600"/>
            <a:ext cx="265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4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73960" y="430200"/>
            <a:ext cx="82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До какого разряда надо округлить вес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едвежонка, чтобы он не улетел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6"/>
          <p:cNvSpPr/>
          <p:nvPr/>
        </p:nvSpPr>
        <p:spPr>
          <a:xfrm>
            <a:off x="360360" y="3382920"/>
            <a:ext cx="792000" cy="588960"/>
          </a:xfrm>
          <a:custGeom>
            <a:avLst/>
            <a:gdLst>
              <a:gd name="textAreaLeft" fmla="*/ 0 w 792000"/>
              <a:gd name="textAreaRight" fmla="*/ 792360 w 79200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98440" y="3687840"/>
            <a:ext cx="362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0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25"/>
          <p:cNvPicPr/>
          <p:nvPr/>
        </p:nvPicPr>
        <p:blipFill>
          <a:blip r:embed="rId1"/>
          <a:stretch/>
        </p:blipFill>
        <p:spPr>
          <a:xfrm>
            <a:off x="6999120" y="2138400"/>
            <a:ext cx="1694160" cy="37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5254 C -0.00417 -0.03819 -0.00834 -0.02407 -0.01945 -0.05254 C -0.03039 -0.08078 -0.02657 -0.20393 -0.06667 -0.22245 C -0.10677 -0.24097 -0.20278 -0.15046 -0.26042 -0.16435 C -0.31806 -0.17824 -0.35921 -0.30578 -0.41302 -0.30532 C -0.46684 -0.30486 -0.55469 -0.2449 -0.58386 -0.16134 C -0.61285 -0.078 -0.64063 0.14329 -0.5875 0.19491 C -0.53421 0.24653 -0.39931 0.19723 -0.26407 0.14815 E">
                                      <p:cBhvr>
                                        <p:cTn id="38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623960" y="2865600"/>
            <a:ext cx="43200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489720" y="1938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440000" y="250992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88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625320" y="2370240"/>
            <a:ext cx="792360" cy="557280"/>
          </a:xfrm>
          <a:custGeom>
            <a:avLst/>
            <a:gdLst>
              <a:gd name="textAreaLeft" fmla="*/ 0 w 792360"/>
              <a:gd name="textAreaRight" fmla="*/ 792720 w 792360"/>
              <a:gd name="textAreaTop" fmla="*/ 0 h 557280"/>
              <a:gd name="textAreaBottom" fmla="*/ 557280 h 55728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439080" y="248292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627200" y="1720800"/>
            <a:ext cx="170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99ff"/>
                </a:solidFill>
                <a:latin typeface="Times New Roman"/>
              </a:rPr>
              <a:t>00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200320" y="5010120"/>
            <a:ext cx="43164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994040" y="469440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79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11"/>
          <p:cNvSpPr/>
          <p:nvPr/>
        </p:nvSpPr>
        <p:spPr>
          <a:xfrm>
            <a:off x="1330200" y="4575240"/>
            <a:ext cx="792360" cy="557280"/>
          </a:xfrm>
          <a:custGeom>
            <a:avLst/>
            <a:gdLst>
              <a:gd name="textAreaLeft" fmla="*/ 0 w 792360"/>
              <a:gd name="textAreaRight" fmla="*/ 792720 w 792360"/>
              <a:gd name="textAreaTop" fmla="*/ 0 h 557280"/>
              <a:gd name="textAreaBottom" fmla="*/ 557280 h 55728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122720" y="4705200"/>
            <a:ext cx="176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696960" y="20955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44956" dir="1932974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+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82880" y="139680"/>
            <a:ext cx="914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Хитрый хозяин предложил двум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работникам округлить зарплату до тысяч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Кто будет доволен, а кто огорчится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1800" y="2606760"/>
            <a:ext cx="65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65880" y="4584600"/>
            <a:ext cx="112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8" descr="25m1"/>
          <p:cNvPicPr/>
          <p:nvPr/>
        </p:nvPicPr>
        <p:blipFill>
          <a:blip r:embed="rId1"/>
          <a:stretch/>
        </p:blipFill>
        <p:spPr>
          <a:xfrm>
            <a:off x="7237440" y="491508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1"/>
          <p:cNvSpPr/>
          <p:nvPr/>
        </p:nvSpPr>
        <p:spPr>
          <a:xfrm>
            <a:off x="82440" y="268200"/>
            <a:ext cx="9061560" cy="1739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Кто выиграл больше всех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работник,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I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работник или хозяин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0" y="264960"/>
            <a:ext cx="9061560" cy="1739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работник получил всего на 12 рублей больше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I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работник ничего, а вот хозяин-хитрец поживился 467 руб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809720" y="2459160"/>
            <a:ext cx="43200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37400" y="2116080"/>
            <a:ext cx="387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835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5"/>
          <p:cNvSpPr/>
          <p:nvPr/>
        </p:nvSpPr>
        <p:spPr>
          <a:xfrm>
            <a:off x="895320" y="1965240"/>
            <a:ext cx="792360" cy="557280"/>
          </a:xfrm>
          <a:custGeom>
            <a:avLst/>
            <a:gdLst>
              <a:gd name="textAreaLeft" fmla="*/ 0 w 792360"/>
              <a:gd name="textAreaRight" fmla="*/ 792720 w 792360"/>
              <a:gd name="textAreaTop" fmla="*/ 0 h 557280"/>
              <a:gd name="textAreaBottom" fmla="*/ 557280 h 55728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221000" y="2139840"/>
            <a:ext cx="362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8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53200" y="13636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99ff"/>
                </a:solidFill>
                <a:latin typeface="Times New Roman"/>
              </a:rPr>
              <a:t>0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350280" y="190440"/>
            <a:ext cx="83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Ученик округлил массу слона до сотен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Слону это не понравилось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7" descr="Elephnt1"/>
          <p:cNvPicPr/>
          <p:nvPr/>
        </p:nvPicPr>
        <p:blipFill>
          <a:blip r:embed="rId1"/>
          <a:stretch/>
        </p:blipFill>
        <p:spPr>
          <a:xfrm flipH="1" rot="21486000">
            <a:off x="6649560" y="4648320"/>
            <a:ext cx="2229120" cy="1619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8"/>
          <p:cNvSpPr/>
          <p:nvPr/>
        </p:nvSpPr>
        <p:spPr>
          <a:xfrm>
            <a:off x="4263840" y="3276720"/>
            <a:ext cx="45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800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Elephnt1"/>
          <p:cNvPicPr/>
          <p:nvPr/>
        </p:nvPicPr>
        <p:blipFill>
          <a:blip r:embed="rId2"/>
          <a:stretch/>
        </p:blipFill>
        <p:spPr>
          <a:xfrm rot="114000">
            <a:off x="-2448000" y="4329000"/>
            <a:ext cx="222876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81481E-006 L -1.11788 0.00602 E">
                                      <p:cBhvr>
                                        <p:cTn id="12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6375 0.04027 E">
                                      <p:cBhvr>
                                        <p:cTn id="151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035000" y="5227560"/>
            <a:ext cx="43200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69400" y="4884840"/>
            <a:ext cx="32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38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4"/>
          <p:cNvSpPr/>
          <p:nvPr/>
        </p:nvSpPr>
        <p:spPr>
          <a:xfrm>
            <a:off x="158760" y="4819680"/>
            <a:ext cx="792000" cy="557280"/>
          </a:xfrm>
          <a:custGeom>
            <a:avLst/>
            <a:gdLst>
              <a:gd name="textAreaLeft" fmla="*/ 0 w 792000"/>
              <a:gd name="textAreaRight" fmla="*/ 792360 w 792000"/>
              <a:gd name="textAreaTop" fmla="*/ 0 h 557280"/>
              <a:gd name="textAreaBottom" fmla="*/ 557280 h 55728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952160" y="494676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138320" y="4070520"/>
            <a:ext cx="170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99ff"/>
                </a:solidFill>
                <a:latin typeface="Times New Roman"/>
              </a:rPr>
              <a:t>00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-6480" y="0"/>
            <a:ext cx="632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ченик округлил массу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инозаврика до тысяч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 массу снеговика до сотен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праведливо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f283"/>
          <p:cNvPicPr/>
          <p:nvPr/>
        </p:nvPicPr>
        <p:blipFill>
          <a:blip r:embed="rId1"/>
          <a:stretch/>
        </p:blipFill>
        <p:spPr>
          <a:xfrm>
            <a:off x="5724360" y="3421080"/>
            <a:ext cx="2968920" cy="3298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5"/>
          <p:cNvSpPr/>
          <p:nvPr/>
        </p:nvSpPr>
        <p:spPr>
          <a:xfrm>
            <a:off x="6756480" y="4973760"/>
            <a:ext cx="7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7" descr="Рисунок1"/>
          <p:cNvPicPr/>
          <p:nvPr/>
        </p:nvPicPr>
        <p:blipFill>
          <a:blip r:embed="rId2"/>
          <a:stretch/>
        </p:blipFill>
        <p:spPr>
          <a:xfrm flipH="1">
            <a:off x="5925600" y="608040"/>
            <a:ext cx="3218040" cy="2847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8"/>
          <p:cNvSpPr/>
          <p:nvPr/>
        </p:nvSpPr>
        <p:spPr>
          <a:xfrm>
            <a:off x="1479600" y="2249640"/>
            <a:ext cx="43164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748800" y="1900080"/>
            <a:ext cx="32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131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554040" y="1805040"/>
            <a:ext cx="792000" cy="588960"/>
          </a:xfrm>
          <a:custGeom>
            <a:avLst/>
            <a:gdLst>
              <a:gd name="textAreaLeft" fmla="*/ 0 w 792000"/>
              <a:gd name="textAreaRight" fmla="*/ 792360 w 79200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462920" y="1963800"/>
            <a:ext cx="11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718320" y="2219400"/>
            <a:ext cx="162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1346760" y="11397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99ff"/>
                </a:solidFill>
                <a:latin typeface="Times New Roman"/>
              </a:rPr>
              <a:t>0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631880" y="5227560"/>
            <a:ext cx="43200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4"/>
          <p:cNvSpPr/>
          <p:nvPr/>
        </p:nvSpPr>
        <p:spPr>
          <a:xfrm>
            <a:off x="773280" y="4759200"/>
            <a:ext cx="792000" cy="557280"/>
          </a:xfrm>
          <a:custGeom>
            <a:avLst/>
            <a:gdLst>
              <a:gd name="textAreaLeft" fmla="*/ 0 w 792000"/>
              <a:gd name="textAreaRight" fmla="*/ 792360 w 792000"/>
              <a:gd name="textAreaTop" fmla="*/ 0 h 557280"/>
              <a:gd name="textAreaBottom" fmla="*/ 557280 h 55728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386960" y="499428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47000" y="410832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99ff"/>
                </a:solidFill>
                <a:latin typeface="Times New Roman"/>
              </a:rPr>
              <a:t>0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-3960" y="63360"/>
            <a:ext cx="668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ступим справедливо. Округлим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ассу каждого до сотен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f283"/>
          <p:cNvPicPr/>
          <p:nvPr/>
        </p:nvPicPr>
        <p:blipFill>
          <a:blip r:embed="rId1"/>
          <a:stretch/>
        </p:blipFill>
        <p:spPr>
          <a:xfrm>
            <a:off x="5064120" y="3421080"/>
            <a:ext cx="2968560" cy="3298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5626080" y="4973760"/>
            <a:ext cx="15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Рисунок1"/>
          <p:cNvPicPr/>
          <p:nvPr/>
        </p:nvPicPr>
        <p:blipFill>
          <a:blip r:embed="rId2"/>
          <a:stretch/>
        </p:blipFill>
        <p:spPr>
          <a:xfrm flipH="1">
            <a:off x="5925600" y="608040"/>
            <a:ext cx="3218040" cy="2847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1479600" y="2249640"/>
            <a:ext cx="43164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712080" y="1887480"/>
            <a:ext cx="32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131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554040" y="1805040"/>
            <a:ext cx="792000" cy="588960"/>
          </a:xfrm>
          <a:custGeom>
            <a:avLst/>
            <a:gdLst>
              <a:gd name="textAreaLeft" fmla="*/ 0 w 792000"/>
              <a:gd name="textAreaRight" fmla="*/ 792360 w 79200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415400" y="1963800"/>
            <a:ext cx="11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718320" y="2219400"/>
            <a:ext cx="162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69400" y="4884840"/>
            <a:ext cx="32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38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346760" y="11397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99ff"/>
                </a:solidFill>
                <a:latin typeface="Times New Roman"/>
              </a:rPr>
              <a:t>0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270160" y="5253120"/>
            <a:ext cx="43164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869400" y="4884840"/>
            <a:ext cx="32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38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063880" y="1893960"/>
            <a:ext cx="43164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1960" y="1533600"/>
            <a:ext cx="32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131кг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1382760" y="4759200"/>
            <a:ext cx="792000" cy="557280"/>
          </a:xfrm>
          <a:custGeom>
            <a:avLst/>
            <a:gdLst>
              <a:gd name="textAreaLeft" fmla="*/ 0 w 792000"/>
              <a:gd name="textAreaRight" fmla="*/ 792360 w 792000"/>
              <a:gd name="textAreaTop" fmla="*/ 0 h 557280"/>
              <a:gd name="textAreaBottom" fmla="*/ 557280 h 55728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952160" y="494676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93480" y="41083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99ff"/>
                </a:solidFill>
                <a:latin typeface="Times New Roman"/>
              </a:rPr>
              <a:t>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-2880" y="63360"/>
            <a:ext cx="53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круглим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ассу каждого до десятков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Рисунок1"/>
          <p:cNvPicPr/>
          <p:nvPr/>
        </p:nvPicPr>
        <p:blipFill>
          <a:blip r:embed="rId1"/>
          <a:stretch/>
        </p:blipFill>
        <p:spPr>
          <a:xfrm flipH="1">
            <a:off x="5925600" y="210960"/>
            <a:ext cx="3218040" cy="2848320"/>
          </a:xfrm>
          <a:prstGeom prst="rect">
            <a:avLst/>
          </a:prstGeom>
          <a:ln w="0">
            <a:noFill/>
          </a:ln>
        </p:spPr>
      </p:pic>
      <p:sp>
        <p:nvSpPr>
          <p:cNvPr id="125" name="Freeform 12"/>
          <p:cNvSpPr/>
          <p:nvPr/>
        </p:nvSpPr>
        <p:spPr>
          <a:xfrm>
            <a:off x="1168560" y="1413000"/>
            <a:ext cx="792000" cy="588960"/>
          </a:xfrm>
          <a:custGeom>
            <a:avLst/>
            <a:gdLst>
              <a:gd name="textAreaLeft" fmla="*/ 0 w 792000"/>
              <a:gd name="textAreaRight" fmla="*/ 792360 w 79200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943880" y="1608120"/>
            <a:ext cx="11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775560" y="1859040"/>
            <a:ext cx="162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1216080" y="4275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44956" dir="1932974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+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2045880" y="8143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99ff"/>
                </a:solidFill>
                <a:latin typeface="Times New Roman"/>
              </a:rPr>
              <a:t>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f283"/>
          <p:cNvPicPr/>
          <p:nvPr/>
        </p:nvPicPr>
        <p:blipFill>
          <a:blip r:embed="rId2"/>
          <a:stretch/>
        </p:blipFill>
        <p:spPr>
          <a:xfrm>
            <a:off x="5200560" y="2941560"/>
            <a:ext cx="3467160" cy="3853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032520" y="5049720"/>
            <a:ext cx="15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440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2-12-11T18:08:09Z</dcterms:modified>
  <cp:revision>82</cp:revision>
  <dc:subject/>
  <dc:title>PowerPoint Presentation</dc:title>
</cp:coreProperties>
</file>