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24D8-708C-417B-A275-195502BC8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AA88-DF71-41A2-B3B3-2C9D182D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A8C1-62F4-4E9D-B95E-0A8B0D334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AD9E-454F-4B48-BECB-F2F243A58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BD7A-3B41-4A03-8890-A5367755A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61F5-95BC-4C0A-96BB-01FABCB5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5390-5E78-49C9-9BD9-708E7E86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DACA-2EAF-4950-B49E-E9A47150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E634-B8CF-4381-9F10-2889734F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55C5-5258-440E-983C-4E73D085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31AC-84A1-4076-8DF9-8E276DBF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7B07-3A0C-446C-A6B0-1EE1259F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90A0-DE80-4F23-BC13-F01F02AF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C6DDC-F47B-4ACB-A6F3-A598980C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7AC5-F637-4026-86BC-463A5F8D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4732-E441-4D51-A7BF-8E8EFDC18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3A44-6A01-49C6-8CF2-8C50CF2C3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F653B-96D9-4E5D-97E5-4BA5730AD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656B1-F3C7-447C-A7E7-50B49C81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20709-8B33-44E1-AF21-6BEA128B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ABBCB-ADD1-4EC7-A0CF-D99FC2D2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E7AF2-9BC1-4FED-A4A4-45862B61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0017-E3BB-4960-8E04-AC41EADE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D152E-966E-4F28-A644-08A47399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2D6D2-6B72-45FD-9B17-20A0E3B9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B18F7-6226-4220-8D45-71A47F19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A7B0B-7C56-4449-BD66-27EA2D92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1DCCB-03E9-4B39-A382-4DAFD37C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1652E-65D6-4890-8F69-2235AA943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BBF79-835B-4FC8-90AD-62FDBBA05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85FE1-0EED-470E-B9F3-EC8C99361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D7287-C515-4B38-8C76-1DB41C5E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85653-FAD0-4613-B609-130CC35D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3542-66C3-4FA8-BA47-4AED20D5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CA3DD-B22A-4D7D-A34C-21D8988D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247CD-5FCB-431A-A3A4-6CF61CB3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A459A-91DA-4872-B905-7AAD1DF2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A0416-2F2D-4BA8-BFEF-D2E9FC84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DA5BD-E19C-4FD6-B9A3-88CF36D0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06932-13FD-415C-8CFF-022D0883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22440-A443-4BD8-9962-C621CB53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BEBB4-A11C-4BE3-9A26-8B925801E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6A629-7CF0-4293-AFDD-65C51CE0B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D0A0C-AAA6-45AD-B33B-3B9112316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32A5-55C5-4E4F-8749-0C4297EA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15C12-3C4F-4D30-9695-86FEA190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A2781-3FBD-4449-818D-6F3AABA3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4C724-3F60-4DDF-AE7C-D024E49C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2E904-27B7-449C-86AE-6A35A2C1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0CF39-1F84-4B04-AA33-C73ADF4C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AA914-8900-4DB0-8A35-52CCBA21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C4D35-2F7D-4E53-83C9-69E71F8D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2BCA6-54DD-4670-B8E0-65A361FB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7B6EE-1B29-4776-B034-A78C10E2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35B83-631C-4198-9FA1-9713B5E48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39FF-16E4-496E-B729-753E6482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0EE45-D1E9-4F05-A9A3-5557BAD96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D70B-C7EF-4F43-8AF2-6C787FFB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2017-1FE6-4806-8DD1-EC2ADD09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3998-B50E-4881-8806-572E00A4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EF15-BAC3-411D-A45F-7AF84E01E2C9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4A0A-9561-402A-A05E-AE7299147ADC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8916-5DC3-4B62-BE7B-CB5096B2001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1657-C8F1-4013-A6D7-088AD263C1B6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CFDF-7E11-45DD-8117-5DDBE2D872E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visualrheumatology.ru/?attachment_id=934" TargetMode="External"/><Relationship Id="rId3" Type="http://schemas.openxmlformats.org/officeDocument/2006/relationships/hyperlink" Target="http://visualrheumatology.ru/?attachment_id=934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53000" cy="2878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320400"/>
            <a:ext cx="72421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105520" y="3141360"/>
            <a:ext cx="40384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Мы - разные, но Богом мы хранимы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У каждого свой Ангел и судьба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Обидчивы бываем и ранимы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От грубых слов, от зависти и зл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Случается, что чувства пропадаю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Душа пуста, и только боль утрат..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От добрых слов все чувства оживаю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Боль затихает - снова жизни рад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А жизнь идёт, всё по местам расставив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Но жить нельзя нахохлившись всегд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усть нас благие чувства не оставя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усть добротой наполнится душа!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3" name="Picture 16" descr="b14a2a6ee010"/>
          <p:cNvPicPr/>
          <p:nvPr/>
        </p:nvPicPr>
        <p:blipFill>
          <a:blip r:embed="rId1"/>
          <a:stretch/>
        </p:blipFill>
        <p:spPr>
          <a:xfrm>
            <a:off x="0" y="0"/>
            <a:ext cx="9144000" cy="299736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17"/>
          <p:cNvSpPr/>
          <p:nvPr/>
        </p:nvSpPr>
        <p:spPr>
          <a:xfrm>
            <a:off x="179280" y="3142080"/>
            <a:ext cx="446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может человек прожить без чувств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дь это ценность для его душ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 если чувства нет, в душе той пусто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нет в ней ни тепла, ни доброт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шь добрыми словами боль отводят, -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 тёплые слова для всех важны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зывчивость, как помощь, к нам приходит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лагие чувства - лекари душ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Чувства - величайший дар человеку, неотъемлемая часть его личности. В обществе всегда ценились и ценятся истинные чувства. Они украшают самого человека и приносят радость другим. Американский психолог К. Изард выделяет 10 фундаментальных эмоций: интерес, радость, удивление, горе (страдание), гнев, отвращение, презрение, страх, стыд и вина (раскаяние).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0" y="1600200"/>
            <a:ext cx="401328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Волнение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- нервное возбуждение, сильное беспокойство, вызванное чем-л. (страхом, радостью, ожиданием и т. п.)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Picture 17" descr="волнени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2133720"/>
            <a:ext cx="2808360" cy="280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Rectangle 2" descr=""/>
          <p:cNvPicPr/>
          <p:nvPr/>
        </p:nvPicPr>
        <p:blipFill>
          <a:blip r:embed="rId1"/>
          <a:stretch/>
        </p:blipFill>
        <p:spPr>
          <a:xfrm>
            <a:off x="-231840" y="274680"/>
            <a:ext cx="8467920" cy="11523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Удивление -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это кратковременная, быстро проходящая реакция на внезапное, неожиданное событие. Описывается как состояние «сброса», при котором разум на долю секунды очищается от мыслей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2" name="Picture 23" descr="удивление"/>
          <p:cNvPicPr/>
          <p:nvPr/>
        </p:nvPicPr>
        <p:blipFill>
          <a:blip r:embed="rId2"/>
          <a:stretch/>
        </p:blipFill>
        <p:spPr>
          <a:xfrm>
            <a:off x="4859280" y="1773360"/>
            <a:ext cx="2881440" cy="2881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4716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Стыд -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чувство, возникающее у человека при совершении им поступков, противоречащих требованиям морали, унижающих достоинство личности. Содержание поступков, вызывающих чувство С., имеет общественно-исторический характер, зависит от эволюции норм морали. С. испытывается как тягостное беспокойство, неудовлетворённость собой, осуждение своего поведения, сожаление о совершенном поступке. С. может переживаться при недостойном поведении др. людей, в особенности близких. Чувство С. возникает и при воспоминании об унизительном поступке, совершенном в прошлом. Переживание С. может иметь отчётливые телесные симптомы — покраснение лица, опускание глаз и т. п.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Picture 7" descr="стыд"/>
          <p:cNvPicPr/>
          <p:nvPr/>
        </p:nvPicPr>
        <p:blipFill>
          <a:blip r:embed="rId2"/>
          <a:stretch/>
        </p:blipFill>
        <p:spPr>
          <a:xfrm>
            <a:off x="4859280" y="1557360"/>
            <a:ext cx="2881440" cy="2951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Rectangle 4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Радость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 внутреннее чувство удовлетворения, удовольствия и счасть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Picture 8" descr="радость"/>
          <p:cNvPicPr/>
          <p:nvPr/>
        </p:nvPicPr>
        <p:blipFill>
          <a:blip r:embed="rId2"/>
          <a:stretch/>
        </p:blipFill>
        <p:spPr>
          <a:xfrm>
            <a:off x="4859280" y="2205000"/>
            <a:ext cx="2952720" cy="2808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Rectangle 2" descr=""/>
          <p:cNvPicPr/>
          <p:nvPr/>
        </p:nvPicPr>
        <p:blipFill>
          <a:blip r:embed="rId1"/>
          <a:stretch/>
        </p:blipFill>
        <p:spPr>
          <a:xfrm>
            <a:off x="-244440" y="274680"/>
            <a:ext cx="8480520" cy="11523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Страх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-внутреннее состояние, обусловленное грозящим реальным или предполагаемым бедствием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1" name="Picture 7" descr="страх"/>
          <p:cNvPicPr/>
          <p:nvPr/>
        </p:nvPicPr>
        <p:blipFill>
          <a:blip r:embed="rId2"/>
          <a:stretch/>
        </p:blipFill>
        <p:spPr>
          <a:xfrm>
            <a:off x="5076720" y="1844640"/>
            <a:ext cx="2880000" cy="28796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Злость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 резкое и сильное отрицательное чувство; раздраженно-враждебное состояние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5" name="Picture 7" descr="злость"/>
          <p:cNvPicPr/>
          <p:nvPr/>
        </p:nvPicPr>
        <p:blipFill>
          <a:blip r:embed="rId2"/>
          <a:stretch/>
        </p:blipFill>
        <p:spPr>
          <a:xfrm>
            <a:off x="5003640" y="1628640"/>
            <a:ext cx="3097440" cy="3097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8:04:37Z</dcterms:created>
  <dc:creator>Дарина</dc:creator>
  <dc:description/>
  <dc:language>en-US</dc:language>
  <cp:lastModifiedBy>toshiba</cp:lastModifiedBy>
  <dcterms:modified xsi:type="dcterms:W3CDTF">2012-06-27T13:11:15Z</dcterms:modified>
  <cp:revision>3</cp:revision>
  <dc:subject/>
  <dc:title>  Может ли человек прожить без чувств?</dc:title>
</cp:coreProperties>
</file>