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33D-7D2B-4148-ABE4-1B561826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4DD-A5F2-45C5-9B15-DED18850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6F9-D5F0-43DC-85BF-B9B3B889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160-97A0-48C3-9522-BDC98F8C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A20E-002F-41FD-BFDD-F18C23A3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2238-2E06-43FA-891E-DAE05917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AA15-4722-4976-A9BF-62E5DC6F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CE64-59B6-4A8C-9D6D-DBBBA1C6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9290-99E1-4FC9-8155-347D7E98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28DC-E71B-4842-AE49-0AD1FB39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85FB-D3FC-48C2-89C2-BE03F6C5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C00-8C36-4C57-827A-4006D758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8CDF-A498-4047-8E14-B9D7E4AF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B390-7037-466B-A59E-5341B927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74E9-1C3B-41F5-B4C7-50191167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B9A0-F881-4BFF-AC51-85503AFE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349B-D411-4F86-A251-65CD554E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6F43-4C93-45CE-B239-DF21C1C1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AA6-F421-49D1-92EB-79DD72D7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576-5ED1-47AA-B401-B8D9AF79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A70-AFC7-4571-8B0D-A3951166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C72-AD93-445C-8246-6367DCCF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084-2CB9-4A5B-B1E0-C3EEF7DD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5A5-48E5-447F-BC73-AAAD9459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0987-43CE-41D0-87F0-87B0CB954993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Line 5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6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10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1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2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13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Group 14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Line 15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6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7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9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20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21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22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23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Line 24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25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26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27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28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29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0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31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32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Line 33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34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35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6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37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8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39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40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41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43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44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45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46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47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48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49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50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Line 52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53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54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55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56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57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58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59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60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Line 61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62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63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64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65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66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67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68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69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Line 70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71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72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73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74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75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76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77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78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Line 79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80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81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82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83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84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85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86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87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Group 88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Line 89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90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91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92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93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94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95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96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97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Line 98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99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00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01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02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03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04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05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06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Line 107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08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09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10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111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112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113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114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115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Line 116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117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118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119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120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121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122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123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124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Group 125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Line 126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127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128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129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130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131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132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133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134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Line 135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136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137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138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139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140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141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142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143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Line 144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145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146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147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148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149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150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151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152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Line 153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154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155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156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157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158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159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160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161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Group 162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Line 163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164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165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166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167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168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169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170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171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Line 172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173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174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175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176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177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178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179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180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Line 181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182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183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184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185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186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187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188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189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Line 190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191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192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193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194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195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196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197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198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Line 199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00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01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02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03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04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05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06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07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08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209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210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Rectangle 211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212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213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14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215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16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Group 217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Rectangle 218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219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220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Rectangle 221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222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223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Rectangle 224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225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226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Rectangle 227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228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229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Rectangle 230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231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232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Rectangle 233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234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235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Rectangle 236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237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238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Rectangle 239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240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246" descr="posbul1a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DC90-1EAB-48F0-AD92-2B213B56E551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hyperlink" Target="http://www.eva.ru/pictures/album_photos/1864200.jpg?1181037335532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hyperlink" Target="http://www.libex.ru/img/ext/04/b01fe9a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hyperlink" Target="http://www.susi.ru/gulchin/vintik_shpuntik.gif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Николай Николаевич Носов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1908-1976 г.г.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1" name="Picture 11" descr="945375795_tonnel_gif159983"/>
          <p:cNvPicPr/>
          <p:nvPr/>
        </p:nvPicPr>
        <p:blipFill>
          <a:blip r:embed="rId1"/>
          <a:stretch/>
        </p:blipFill>
        <p:spPr>
          <a:xfrm>
            <a:off x="2843280" y="1844640"/>
            <a:ext cx="3097080" cy="3714840"/>
          </a:xfrm>
          <a:prstGeom prst="rect">
            <a:avLst/>
          </a:prstGeom>
          <a:ln w="0">
            <a:noFill/>
          </a:ln>
        </p:spPr>
      </p:pic>
      <p:sp>
        <p:nvSpPr>
          <p:cNvPr id="382" name="TextBox 6"/>
          <p:cNvSpPr/>
          <p:nvPr/>
        </p:nvSpPr>
        <p:spPr>
          <a:xfrm>
            <a:off x="3814920" y="5805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203b"/>
                </a:solidFill>
                <a:latin typeface="Times New Roman"/>
              </a:rPr>
              <a:t>Учитель НОУ СОШ «Лотос» г.Москвы    Шульженко Елена Евгеньевн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99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1" name="Picture 4" descr="40425109"/>
          <p:cNvPicPr/>
          <p:nvPr/>
        </p:nvPicPr>
        <p:blipFill>
          <a:blip r:embed="rId2"/>
          <a:stretch/>
        </p:blipFill>
        <p:spPr>
          <a:xfrm>
            <a:off x="468360" y="765000"/>
            <a:ext cx="4736880" cy="5904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Картинка 44 из 309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125360"/>
            <a:ext cx="2877840" cy="48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35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453528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Arial"/>
              </a:rPr>
              <a:t>Однажды, когда мне было года четыре, мне читали вслух рассказ «Живая шляпа». Шляпа непонятно отчего двигалась по комнате, мальчики Вовка и Вадик, вооружившись для смелости кочергой и лыжной палкой, пробовали выяснить, насколько опасен для них этот оживший вдруг головной убор.</a:t>
            </a:r>
            <a:br>
              <a:rPr sz="2000"/>
            </a:br>
            <a:r>
              <a:rPr b="1" lang="ru-RU" sz="2000" spc="-1" strike="noStrike">
                <a:solidFill>
                  <a:srgbClr val="404176"/>
                </a:solidFill>
                <a:latin typeface="Arial"/>
              </a:rPr>
              <a:t>Герои рассказа тряслись от страха, я же хохотала так, что несколько раз, пока мне читали, падала со стула.</a:t>
            </a:r>
            <a:br>
              <a:rPr sz="2000"/>
            </a:br>
            <a:r>
              <a:rPr b="1" lang="ru-RU" sz="2000" spc="-1" strike="noStrike">
                <a:solidFill>
                  <a:srgbClr val="404176"/>
                </a:solidFill>
                <a:latin typeface="Arial"/>
              </a:rPr>
              <a:t>Тайна разъяснялась просто: оказывается, шляпа упала с комода на котенка Ваську, который, пытаясь выбраться наружу, и передвигал шляпу по полу. Позднее я узнала, что автор рассказа – Николай Носов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87640" y="1267920"/>
            <a:ext cx="3809880" cy="4537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46733004"/>
          <p:cNvPicPr/>
          <p:nvPr/>
        </p:nvPicPr>
        <p:blipFill>
          <a:blip r:embed="rId3"/>
          <a:stretch/>
        </p:blipFill>
        <p:spPr>
          <a:xfrm>
            <a:off x="5148360" y="1052640"/>
            <a:ext cx="367344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806436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Из какого рассказа можно узнать рецепт приготовления вкусной каши?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3500280"/>
            <a:ext cx="77724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3a7d"/>
                </a:solidFill>
                <a:latin typeface="Arial"/>
              </a:rPr>
              <a:t>«Мишкина каша»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9" name="Picture 9" descr="i_001"/>
          <p:cNvPicPr/>
          <p:nvPr/>
        </p:nvPicPr>
        <p:blipFill>
          <a:blip r:embed="rId1"/>
          <a:stretch/>
        </p:blipFill>
        <p:spPr>
          <a:xfrm>
            <a:off x="4643280" y="3860640"/>
            <a:ext cx="3600720" cy="22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Какой способ перевозки собак предлагается в одном из рассказов?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3a7d"/>
                </a:solidFill>
                <a:latin typeface="Arial"/>
              </a:rPr>
              <a:t>«Дружок»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2" name="Picture 4" descr="img117"/>
          <p:cNvPicPr/>
          <p:nvPr/>
        </p:nvPicPr>
        <p:blipFill>
          <a:blip r:embed="rId2"/>
          <a:stretch/>
        </p:blipFill>
        <p:spPr>
          <a:xfrm>
            <a:off x="4572000" y="3429000"/>
            <a:ext cx="3571920" cy="26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4000" y="609480"/>
            <a:ext cx="8496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b01b5"/>
                </a:solidFill>
                <a:latin typeface="Arial"/>
              </a:rPr>
              <a:t>Как называют ребят, которые выдумывают всякие забавные истории, будто сказки рассказывают?</a:t>
            </a: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285228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3a7d"/>
                </a:solidFill>
                <a:latin typeface="Arial"/>
              </a:rPr>
              <a:t>«Фантазёры»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5" name="Picture 5" descr="Картинка 13 из 1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49920" y="2781360"/>
            <a:ext cx="251604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1b01b5"/>
                </a:solidFill>
                <a:latin typeface="Arial"/>
              </a:rPr>
              <a:t>Назовите жителей Цветочного города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3a7d"/>
                </a:solidFill>
                <a:latin typeface="Arial"/>
              </a:rPr>
              <a:t>Незнайка Ворчун Гунька Торопыжка Авоська Растеряйка Небоська Кнопочка Пилюлькин Стекляшкин Знайка Цветик-поэт Семицветик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8" name="Picture 9" descr="Картинка 72 из 1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4653000"/>
            <a:ext cx="206712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70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00" name="Picture 6" descr="1220947607_murzilka"/>
          <p:cNvPicPr/>
          <p:nvPr/>
        </p:nvPicPr>
        <p:blipFill>
          <a:blip r:embed="rId1"/>
          <a:stretch/>
        </p:blipFill>
        <p:spPr>
          <a:xfrm rot="21108600">
            <a:off x="900000" y="1052280"/>
            <a:ext cx="3497400" cy="5114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zateyniky"/>
          <p:cNvPicPr/>
          <p:nvPr/>
        </p:nvPicPr>
        <p:blipFill>
          <a:blip r:embed="rId2"/>
          <a:stretch/>
        </p:blipFill>
        <p:spPr>
          <a:xfrm rot="388200">
            <a:off x="4857840" y="1060560"/>
            <a:ext cx="3735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99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03" name="Picture 5" descr="Витя Малеев и другие"/>
          <p:cNvPicPr/>
          <p:nvPr/>
        </p:nvPicPr>
        <p:blipFill>
          <a:blip r:embed="rId1"/>
          <a:stretch/>
        </p:blipFill>
        <p:spPr>
          <a:xfrm>
            <a:off x="6156360" y="765000"/>
            <a:ext cx="2808360" cy="4464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50000011879"/>
          <p:cNvPicPr/>
          <p:nvPr/>
        </p:nvPicPr>
        <p:blipFill>
          <a:blip r:embed="rId2"/>
          <a:stretch/>
        </p:blipFill>
        <p:spPr>
          <a:xfrm>
            <a:off x="3348000" y="2781360"/>
            <a:ext cx="2951280" cy="3843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Nosov_VS2"/>
          <p:cNvPicPr/>
          <p:nvPr/>
        </p:nvPicPr>
        <p:blipFill>
          <a:blip r:embed="rId3"/>
          <a:stretch/>
        </p:blipFill>
        <p:spPr>
          <a:xfrm>
            <a:off x="250920" y="620640"/>
            <a:ext cx="3240000" cy="46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99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8" name="Picture 4" descr="50862255"/>
          <p:cNvPicPr/>
          <p:nvPr/>
        </p:nvPicPr>
        <p:blipFill>
          <a:blip r:embed="rId1"/>
          <a:stretch/>
        </p:blipFill>
        <p:spPr>
          <a:xfrm>
            <a:off x="2340000" y="1052640"/>
            <a:ext cx="4535640" cy="52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8:25:48Z</dcterms:created>
  <dc:creator>Лена</dc:creator>
  <dc:description/>
  <dc:language>en-US</dc:language>
  <cp:lastModifiedBy>Elena</cp:lastModifiedBy>
  <dcterms:modified xsi:type="dcterms:W3CDTF">2013-10-20T15:29:50Z</dcterms:modified>
  <cp:revision>4</cp:revision>
  <dc:subject/>
  <dc:title>Николай Николаевич Носов</dc:title>
</cp:coreProperties>
</file>