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5308-3648-4376-8610-6A4AA0210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0EB9-7EB2-4C3C-AC2F-2DC7F82A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16B3-CDE7-45BC-97D4-8B8C1209A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5EDF-BBCF-437E-8DE9-DD2465EDF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A011-4277-481C-8916-F07F60499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8A83-7B94-4428-A26B-4096D494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0611-D22E-4A2E-90CD-ABC3A38D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D040-D580-49B4-8FEB-49FEDB41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6E53-8462-4946-B156-0F5D8120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3B58-BF9D-4C3D-AAAD-9515EA3D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0697-D4B4-4101-AD30-4D731BA6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0261-478C-4E2B-9ED8-B4AE6717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8519-D8C4-40D0-AFB2-3E02D648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0EBF-4285-469D-A7D4-F417F7D1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9719-CAC8-4D0E-915A-26E17E79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4396-E8E5-4914-B3F6-D8C5B849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FA3F-6C88-462B-84BB-6338F319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BE70-BA50-43EE-8611-A5451D5B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ADC8-4CE6-481D-91BF-437B962E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BADD-B182-4446-BC69-A16A6F10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C8E3-845B-4167-BA30-5983B67C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554D-5518-4380-B581-CCA0575E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89F4-0D97-412B-99AC-80AC52D4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ED5A-15E4-4A24-8306-92231064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1616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1616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99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6E2E-5F16-48BF-9686-34CE34FDD28C}" type="slidenum">
              <a:rPr b="0" lang="ru-RU" sz="1200" spc="-1" strike="noStrike">
                <a:solidFill>
                  <a:srgbClr val="00009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99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21C5-E103-4332-BE50-992F568330E6}" type="slidenum">
              <a:rPr b="0" lang="ru-RU" sz="1200" spc="-1" strike="noStrike">
                <a:solidFill>
                  <a:srgbClr val="00009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1616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640" y="907920"/>
            <a:ext cx="619272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Круговорот воды в природе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Движение вод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662472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думаем - ответим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Как образуются облака в небе?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Откуда берутся снег и лед?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Что такое пар?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Откуда берётся дождь ?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73600" y="2971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900000" y="4581360"/>
          <a:ext cx="7270920" cy="1438560"/>
        </p:xfrm>
        <a:graphic>
          <a:graphicData uri="http://schemas.openxmlformats.org/drawingml/2006/table">
            <a:tbl>
              <a:tblPr/>
              <a:tblGrid>
                <a:gridCol w="719280"/>
                <a:gridCol w="735120"/>
                <a:gridCol w="726840"/>
                <a:gridCol w="727200"/>
                <a:gridCol w="727200"/>
                <a:gridCol w="726840"/>
                <a:gridCol w="727200"/>
                <a:gridCol w="727200"/>
                <a:gridCol w="726840"/>
                <a:gridCol w="727200"/>
              </a:tblGrid>
              <a:tr h="143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201080" cy="2808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971640" y="4653000"/>
            <a:ext cx="7200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уговоро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Используемые ресурсы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1616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http://edu.greensail.ru/encyclopedia/water_resource/water_cycle.shtm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1616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http://sibmama.ru/index.php?p=idei-vod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1616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http://omsk.edu.ru/schools/sch019/standart/yanych.doc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Жидкое состоя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20560" y="1844640"/>
            <a:ext cx="3546720" cy="3889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987800" y="1839960"/>
            <a:ext cx="33022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>
            <a:hlinkClick r:id="rId3" action="ppaction://hlinksldjump"/>
          </p:cNvPr>
          <p:cNvSpPr/>
          <p:nvPr/>
        </p:nvSpPr>
        <p:spPr>
          <a:xfrm>
            <a:off x="838836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10800"/>
                </a:moveTo>
                <a:lnTo>
                  <a:pt x="19941" y="3794"/>
                </a:lnTo>
                <a:lnTo>
                  <a:pt x="19941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Газообразное состоя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4170600" cy="4319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076720" y="1557360"/>
            <a:ext cx="3200400" cy="2419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076720" y="4076640"/>
            <a:ext cx="3240360" cy="19940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459640" y="6237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10800"/>
                </a:moveTo>
                <a:lnTo>
                  <a:pt x="22139" y="3794"/>
                </a:lnTo>
                <a:lnTo>
                  <a:pt x="22139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вёрдое состоя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292720" y="1484280"/>
            <a:ext cx="3095640" cy="2160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28480" y="1484280"/>
            <a:ext cx="4187880" cy="4537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5292720" y="3716280"/>
            <a:ext cx="2951280" cy="2425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53272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10800"/>
                </a:moveTo>
                <a:lnTo>
                  <a:pt x="19951" y="3794"/>
                </a:lnTo>
                <a:lnTo>
                  <a:pt x="19951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570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Цель урока: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3880" y="1839960"/>
            <a:ext cx="7910640" cy="27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Обобщить знания о воде и дополнить их новыми сведениями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Вода :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8680" y="1978200"/>
            <a:ext cx="7845480" cy="37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значение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свойства воды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опыты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круговорот воды в природе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подумаем – ответим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итог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ода - символ жизн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2468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1616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Вода - замечательное вещество. Она покрывает более двух третей земной поверхности, и жизнь на земном шаре без нее была бы невозможна.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96760" y="3527280"/>
            <a:ext cx="7142400" cy="249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ода – символ жизн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4753080" cy="3567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651640" y="1413000"/>
            <a:ext cx="2808000" cy="2541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651640" y="4076640"/>
            <a:ext cx="2592360" cy="20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ода – символ жизн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26920" y="1473120"/>
            <a:ext cx="7345440" cy="44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5640" y="228600"/>
            <a:ext cx="77248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Загадк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46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.Приходил — стучал по крыше.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Уходил — никто не слышал.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2. На дворе — горой, а в избе водой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3. Чист и ясен, как алмаз,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Дорог не бывает.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Он от матери рожден,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Сам ее рождает.</a:t>
            </a:r>
            <a:br>
              <a:rPr sz="2400"/>
            </a:b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724360" y="450864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940360" y="1484280"/>
            <a:ext cx="2519280" cy="1490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588000" y="3141720"/>
            <a:ext cx="9144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539640" y="1585800"/>
            <a:ext cx="7992360" cy="4289760"/>
            <a:chOff x="539640" y="1585800"/>
            <a:chExt cx="7992360" cy="4289760"/>
          </a:xfrm>
        </p:grpSpPr>
        <p:cxnSp>
          <p:nvCxnSpPr>
            <p:cNvPr id="112" name="_s7185"/>
            <p:cNvCxnSpPr>
              <a:stCxn id="113" idx="0"/>
              <a:endCxn id="114" idx="2"/>
            </p:cNvCxnSpPr>
            <p:nvPr/>
          </p:nvCxnSpPr>
          <p:spPr>
            <a:xfrm flipV="1" rot="16200000">
              <a:off x="5505120" y="2331000"/>
              <a:ext cx="858600" cy="2797920"/>
            </a:xfrm>
            <a:prstGeom prst="bentConnector3">
              <a:avLst>
                <a:gd name="adj1" fmla="val 12793"/>
              </a:avLst>
            </a:prstGeom>
            <a:ln w="28440">
              <a:solidFill>
                <a:srgbClr val="000099"/>
              </a:solidFill>
              <a:miter/>
            </a:ln>
          </p:spPr>
        </p:cxnSp>
        <p:cxnSp>
          <p:nvCxnSpPr>
            <p:cNvPr id="115" name="_s7184"/>
            <p:cNvCxnSpPr>
              <a:stCxn id="116" idx="0"/>
              <a:endCxn id="114" idx="2"/>
            </p:cNvCxnSpPr>
            <p:nvPr/>
          </p:nvCxnSpPr>
          <p:spPr>
            <a:xfrm flipV="1">
              <a:off x="4536000" y="3300840"/>
              <a:ext cx="3600" cy="858600"/>
            </a:xfrm>
            <a:prstGeom prst="bentConnector2">
              <a:avLst/>
            </a:prstGeom>
            <a:ln w="28440">
              <a:solidFill>
                <a:srgbClr val="000099"/>
              </a:solidFill>
              <a:miter/>
            </a:ln>
          </p:spPr>
        </p:cxnSp>
        <p:cxnSp>
          <p:nvCxnSpPr>
            <p:cNvPr id="117" name="_s7183"/>
            <p:cNvCxnSpPr>
              <a:stCxn id="118" idx="0"/>
              <a:endCxn id="114" idx="2"/>
            </p:cNvCxnSpPr>
            <p:nvPr/>
          </p:nvCxnSpPr>
          <p:spPr>
            <a:xfrm flipH="1" flipV="1" rot="5400000">
              <a:off x="2707920" y="2331360"/>
              <a:ext cx="858600" cy="2797920"/>
            </a:xfrm>
            <a:prstGeom prst="bentConnector3">
              <a:avLst>
                <a:gd name="adj1" fmla="val 12793"/>
              </a:avLst>
            </a:prstGeom>
            <a:ln w="28440">
              <a:solidFill>
                <a:srgbClr val="000099"/>
              </a:solidFill>
              <a:miter/>
            </a:ln>
          </p:spPr>
        </p:cxnSp>
        <p:sp>
          <p:nvSpPr>
            <p:cNvPr id="114" name="_s7179"/>
            <p:cNvSpPr/>
            <p:nvPr/>
          </p:nvSpPr>
          <p:spPr>
            <a:xfrm>
              <a:off x="3336840" y="1585800"/>
              <a:ext cx="2397600" cy="17157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99"/>
                  </a:solidFill>
                  <a:latin typeface="Arial"/>
                </a:rPr>
                <a:t>вода</a:t>
              </a:r>
              <a:endParaRPr b="0" lang="en-US" sz="35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" name="_s7180"/>
            <p:cNvSpPr/>
            <p:nvPr/>
          </p:nvSpPr>
          <p:spPr>
            <a:xfrm>
              <a:off x="539640" y="4159800"/>
              <a:ext cx="2397600" cy="17157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916161"/>
                  </a:solidFill>
                  <a:uFillTx/>
                  <a:latin typeface="Arial"/>
                  <a:hlinkClick r:id="rId1" action="ppaction://hlinksldjump"/>
                </a:rPr>
                <a:t>жидкое</a:t>
              </a: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" name="_s7181"/>
            <p:cNvSpPr/>
            <p:nvPr/>
          </p:nvSpPr>
          <p:spPr>
            <a:xfrm>
              <a:off x="3336840" y="4159800"/>
              <a:ext cx="2397600" cy="17157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916161"/>
                  </a:solidFill>
                  <a:uFillTx/>
                  <a:latin typeface="Arial"/>
                  <a:hlinkClick r:id="rId2" action="ppaction://hlinksldjump"/>
                </a:rPr>
                <a:t>твёрдое</a:t>
              </a: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" name="_s7182"/>
            <p:cNvSpPr/>
            <p:nvPr/>
          </p:nvSpPr>
          <p:spPr>
            <a:xfrm>
              <a:off x="6134400" y="4159800"/>
              <a:ext cx="2397600" cy="17157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газообразное</a:t>
              </a: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3 состояния вод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Движение вод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38163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Вода циркулирует в земной биосфере, испаряясь с поверхности Мирового океана, превращаясь в облака, выпадая в виде осадков на землю и опять возвращаясь в Мировой океан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427640" y="1773360"/>
            <a:ext cx="4248000" cy="3413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7:02:16Z</dcterms:created>
  <dc:creator>USER</dc:creator>
  <dc:description/>
  <dc:language>en-US</dc:language>
  <cp:lastModifiedBy>USER</cp:lastModifiedBy>
  <dcterms:modified xsi:type="dcterms:W3CDTF">2006-06-30T05:54:56Z</dcterms:modified>
  <cp:revision>7</cp:revision>
  <dc:subject/>
  <dc:title>Слайд 1</dc:title>
</cp:coreProperties>
</file>