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png" ContentType="image/png"/>
  <Override PartName="/ppt/media/image11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3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5B4B-5DFB-4EA7-817B-F4ECFFDF5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44A4-2BF6-4C51-AC24-602942CD62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A37-6662-4462-9C12-DB698498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4E6F-1C7E-425E-A973-7178F20A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E07-2D93-4364-9E17-2C839B72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3D0-5063-4C5A-8BE2-710A0446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2191-28E6-4E53-97FA-34857C86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E0B0-8AA7-475A-A40A-692A86A7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B221-340C-4524-8221-3AA4F70C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DE2B-4638-40DD-B424-16424A0E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9383C-4C9F-4636-883D-B4FD2702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25E1-2301-4609-8805-0126E490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EB1C-2E02-43DE-9F0A-70D79EF1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D33-4C60-4654-89BE-46A2D23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579C-DB05-4866-9EE4-52D9BADB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AE5E-20F2-48B0-8E4B-48154E9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F1FF-4285-4C0B-AEF7-DE22D58E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6734-D913-4D56-9CF2-9E874E71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C836-3F26-405E-A76C-38B768ED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9CA3-D768-40DB-A961-BC762570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A947-2F4A-4628-AC3A-B9448EE4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978A-E867-4E98-BACB-D3B9396E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637-8346-4B47-9604-C744511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EE0-48E0-442E-9BC3-DE6761D4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6D4-430A-496C-AA70-93463270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3D4-E1FE-49B6-8A86-195E87B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BC7D-3288-453B-B7DA-9FAF45A4131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F3C8-B316-4625-9A1E-423656341DA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22400" y="1047600"/>
            <a:ext cx="8534160" cy="23608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71468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Чтобы помнили…»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icture 2" descr="C:\Users\123\Desktop\орпа\война\5.jpg"/>
          <p:cNvPicPr/>
          <p:nvPr/>
        </p:nvPicPr>
        <p:blipFill>
          <a:blip r:embed="rId1"/>
          <a:stretch/>
        </p:blipFill>
        <p:spPr>
          <a:xfrm>
            <a:off x="-403200" y="0"/>
            <a:ext cx="95472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2" descr="C:\Users\123\Desktop\орпа\война\6.jpg"/>
          <p:cNvPicPr/>
          <p:nvPr/>
        </p:nvPicPr>
        <p:blipFill>
          <a:blip r:embed="rId1"/>
          <a:stretch/>
        </p:blipFill>
        <p:spPr>
          <a:xfrm>
            <a:off x="0" y="0"/>
            <a:ext cx="955836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2" descr="C:\Users\123\Desktop\орпа\война\7.jpg"/>
          <p:cNvPicPr/>
          <p:nvPr/>
        </p:nvPicPr>
        <p:blipFill>
          <a:blip r:embed="rId1"/>
          <a:stretch/>
        </p:blipFill>
        <p:spPr>
          <a:xfrm>
            <a:off x="-1366920" y="0"/>
            <a:ext cx="10510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icture 2" descr="C:\Users\123\Desktop\орпа\война\8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2" descr="C:\Users\123\Desktop\орпа\война\10.jpg"/>
          <p:cNvPicPr/>
          <p:nvPr/>
        </p:nvPicPr>
        <p:blipFill>
          <a:blip r:embed="rId1"/>
          <a:stretch/>
        </p:blipFill>
        <p:spPr>
          <a:xfrm>
            <a:off x="-1222200" y="0"/>
            <a:ext cx="103201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2" descr="C:\Users\123\Desktop\орпа\война\11.jpg"/>
          <p:cNvPicPr/>
          <p:nvPr/>
        </p:nvPicPr>
        <p:blipFill>
          <a:blip r:embed="rId1"/>
          <a:stretch/>
        </p:blipFill>
        <p:spPr>
          <a:xfrm>
            <a:off x="-122400" y="0"/>
            <a:ext cx="106444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C:\Users\123\Desktop\орпа\война\12.jpg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708200" y="2443320"/>
            <a:ext cx="7435800" cy="4414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357800" cy="568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newsflash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2" descr="f96bc980d7917a8e8723f7028ec7b0fb.jpg"/>
          <p:cNvPicPr/>
          <p:nvPr/>
        </p:nvPicPr>
        <p:blipFill>
          <a:blip r:embed="rId1"/>
          <a:stretch/>
        </p:blipFill>
        <p:spPr>
          <a:xfrm>
            <a:off x="4714920" y="428760"/>
            <a:ext cx="4429080" cy="587052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3" descr="025076_340.jpg"/>
          <p:cNvPicPr/>
          <p:nvPr/>
        </p:nvPicPr>
        <p:blipFill>
          <a:blip r:embed="rId2"/>
          <a:stretch/>
        </p:blipFill>
        <p:spPr>
          <a:xfrm>
            <a:off x="127080" y="1500120"/>
            <a:ext cx="4016160" cy="4653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edg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koleno"/>
          <p:cNvPicPr/>
          <p:nvPr/>
        </p:nvPicPr>
        <p:blipFill>
          <a:blip r:embed="rId1"/>
          <a:stretch/>
        </p:blipFill>
        <p:spPr>
          <a:xfrm>
            <a:off x="0" y="428760"/>
            <a:ext cx="4071960" cy="58086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i11291-image-big.jpg"/>
          <p:cNvPicPr/>
          <p:nvPr/>
        </p:nvPicPr>
        <p:blipFill>
          <a:blip r:embed="rId2"/>
          <a:stretch/>
        </p:blipFill>
        <p:spPr>
          <a:xfrm>
            <a:off x="4284720" y="3071880"/>
            <a:ext cx="4778280" cy="3402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Прямоугольник 3"/>
          <p:cNvSpPr/>
          <p:nvPr/>
        </p:nvSpPr>
        <p:spPr>
          <a:xfrm>
            <a:off x="4214880" y="571680"/>
            <a:ext cx="464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беда в Великой Отечественной войне — подвиг и слава нашего народа. Как бы ни менялись за последние годы оценки и даже факты нашей истории, 9 мая — День Победы — остается неизме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ечная слава победителям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80360" cy="4500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57120" y="296208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Чтобы помнили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65 годовщин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Великой Победы посвящаетс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5000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9" descr="Рисунок2.png"/>
          <p:cNvPicPr/>
          <p:nvPr/>
        </p:nvPicPr>
        <p:blipFill>
          <a:blip r:embed="rId1"/>
          <a:stretch/>
        </p:blipFill>
        <p:spPr>
          <a:xfrm>
            <a:off x="-857160" y="0"/>
            <a:ext cx="2181240" cy="7567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7" name="Прямоугольник 10"/>
          <p:cNvSpPr/>
          <p:nvPr/>
        </p:nvSpPr>
        <p:spPr>
          <a:xfrm>
            <a:off x="428760" y="5715000"/>
            <a:ext cx="75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чная слава и память героям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Рисунок 5" descr="255755.jpg"/>
          <p:cNvPicPr/>
          <p:nvPr/>
        </p:nvPicPr>
        <p:blipFill>
          <a:blip r:embed="rId2"/>
          <a:stretch/>
        </p:blipFill>
        <p:spPr>
          <a:xfrm>
            <a:off x="1357200" y="500040"/>
            <a:ext cx="7378920" cy="5267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9" name="Рисунок 4" descr="13218.jpg"/>
          <p:cNvPicPr/>
          <p:nvPr/>
        </p:nvPicPr>
        <p:blipFill>
          <a:blip r:embed="rId3"/>
          <a:stretch/>
        </p:blipFill>
        <p:spPr>
          <a:xfrm>
            <a:off x="7000920" y="4214880"/>
            <a:ext cx="1031760" cy="100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4,-80,-10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0,6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1" descr="260275.gif"/>
          <p:cNvPicPr/>
          <p:nvPr/>
        </p:nvPicPr>
        <p:blipFill>
          <a:blip r:embed="rId1"/>
          <a:stretch/>
        </p:blipFill>
        <p:spPr>
          <a:xfrm>
            <a:off x="1071720" y="-977760"/>
            <a:ext cx="8072280" cy="78930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1571760" y="571680"/>
            <a:ext cx="65721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лют и слава Побе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веки памятного дня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лют её Героям павшим и жив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лю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7120" y="428400"/>
            <a:ext cx="8786880" cy="553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Чтобы помнили…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Минута молч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65 годовщин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Великой побе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освящается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 Люди, покуда сердца стучатся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омните, какою це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Завоевано счастье!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57120" y="907920"/>
            <a:ext cx="702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Великой  Победе посвящаетс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3521160" y="1428840"/>
            <a:ext cx="19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1941 - 194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15960" y="5500800"/>
            <a:ext cx="450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алют, Победа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9" descr="a1"/>
          <p:cNvPicPr/>
          <p:nvPr/>
        </p:nvPicPr>
        <p:blipFill>
          <a:blip r:embed="rId1"/>
          <a:stretch/>
        </p:blipFill>
        <p:spPr>
          <a:xfrm>
            <a:off x="2786040" y="2000160"/>
            <a:ext cx="4925880" cy="35416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6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1363.jpg"/>
          <p:cNvPicPr/>
          <p:nvPr/>
        </p:nvPicPr>
        <p:blipFill>
          <a:blip r:embed="rId1"/>
          <a:stretch/>
        </p:blipFill>
        <p:spPr>
          <a:xfrm>
            <a:off x="6012000" y="260280"/>
            <a:ext cx="2786040" cy="4576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8" name="Picture 10" descr="1941"/>
          <p:cNvPicPr/>
          <p:nvPr/>
        </p:nvPicPr>
        <p:blipFill>
          <a:blip r:embed="rId2"/>
          <a:stretch/>
        </p:blipFill>
        <p:spPr>
          <a:xfrm>
            <a:off x="468360" y="836640"/>
            <a:ext cx="1905120" cy="7858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9" name="Picture 11" descr="1942"/>
          <p:cNvPicPr/>
          <p:nvPr/>
        </p:nvPicPr>
        <p:blipFill>
          <a:blip r:embed="rId3"/>
          <a:stretch/>
        </p:blipFill>
        <p:spPr>
          <a:xfrm>
            <a:off x="928800" y="1571760"/>
            <a:ext cx="1904760" cy="7855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0" name="Picture 12" descr="1943"/>
          <p:cNvPicPr/>
          <p:nvPr/>
        </p:nvPicPr>
        <p:blipFill>
          <a:blip r:embed="rId4"/>
          <a:stretch/>
        </p:blipFill>
        <p:spPr>
          <a:xfrm>
            <a:off x="2286000" y="2357280"/>
            <a:ext cx="1905120" cy="64296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1" name="Picture 13" descr="1944"/>
          <p:cNvPicPr/>
          <p:nvPr/>
        </p:nvPicPr>
        <p:blipFill>
          <a:blip r:embed="rId5"/>
          <a:stretch/>
        </p:blipFill>
        <p:spPr>
          <a:xfrm>
            <a:off x="3059280" y="2924280"/>
            <a:ext cx="1904760" cy="7142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2" name="Picture 14" descr="1945"/>
          <p:cNvPicPr/>
          <p:nvPr/>
        </p:nvPicPr>
        <p:blipFill>
          <a:blip r:embed="rId6"/>
          <a:stretch/>
        </p:blipFill>
        <p:spPr>
          <a:xfrm>
            <a:off x="3851280" y="3645000"/>
            <a:ext cx="2143080" cy="78588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Прямоугольник 8"/>
          <p:cNvSpPr/>
          <p:nvPr/>
        </p:nvSpPr>
        <p:spPr>
          <a:xfrm>
            <a:off x="785880" y="5000760"/>
            <a:ext cx="81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22 июня 1941 г. фашистская Германия напала на Советский Союз. К этому времени пламя второй мировой войны, начавшейся 1 сентября 1939 г. агрессией гитлеровцев против Польши, полыхало на территории многих стран. Под фашистским игом оказалась почти вся Европ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3000">
    <p:plus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2"/>
          <p:cNvSpPr/>
          <p:nvPr/>
        </p:nvSpPr>
        <p:spPr>
          <a:xfrm>
            <a:off x="500040" y="4572000"/>
            <a:ext cx="864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я Отечественная война прошла в своем развитии 3 крупных перио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) начальный период (22 июня 1941 года-18 ноября 1942 года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период коренного перелома (19 ноября 1942 года - конец 1943 года)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период освобождения от агрессора и разгрома фашисткой Германии (1944 год – 9 мая 1945 год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1619280" y="260280"/>
            <a:ext cx="5572080" cy="4071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 advTm="3000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2" descr="C:\Users\123\Desktop\p312.jpg"/>
          <p:cNvPicPr/>
          <p:nvPr/>
        </p:nvPicPr>
        <p:blipFill>
          <a:blip r:embed="rId1"/>
          <a:stretch/>
        </p:blipFill>
        <p:spPr>
          <a:xfrm>
            <a:off x="11160" y="0"/>
            <a:ext cx="913284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2" descr="C:\Users\123\Desktop\p3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2" descr="C:\Users\123\Desktop\орпа\война\3.jpg"/>
          <p:cNvPicPr/>
          <p:nvPr/>
        </p:nvPicPr>
        <p:blipFill>
          <a:blip r:embed="rId1"/>
          <a:stretch/>
        </p:blipFill>
        <p:spPr>
          <a:xfrm>
            <a:off x="0" y="0"/>
            <a:ext cx="93520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2" descr="C:\Users\123\Desktop\орпа\война\4.jpg"/>
          <p:cNvPicPr/>
          <p:nvPr/>
        </p:nvPicPr>
        <p:blipFill>
          <a:blip r:embed="rId1"/>
          <a:stretch/>
        </p:blipFill>
        <p:spPr>
          <a:xfrm>
            <a:off x="0" y="0"/>
            <a:ext cx="9313920" cy="685800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07:08Z</dcterms:created>
  <dc:creator>123</dc:creator>
  <dc:description/>
  <dc:language>en-US</dc:language>
  <cp:lastModifiedBy>123</cp:lastModifiedBy>
  <dcterms:modified xsi:type="dcterms:W3CDTF">2010-01-21T16:35:27Z</dcterms:modified>
  <cp:revision>6</cp:revision>
  <dc:subject/>
  <dc:title>Слайд 1</dc:title>
</cp:coreProperties>
</file>