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8E4-2C28-4F0D-86FE-55B1203A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B658-F129-40B0-984B-4E15A646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B892-4763-4542-8784-B7CF6BB3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880-7821-4DD0-90C5-58830703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5F01-0EA0-47D7-9A35-167F6FF2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BFD-0BC2-4832-A7D2-7B1AE3FD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1003-8AA5-4286-BF82-D1454A3A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627D-CD2C-4C87-8840-85FF78F0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0E4-79F6-47EC-A7C1-DC7068A8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E14-77E3-4E1B-A6E8-0F0E9C22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7147-615E-4759-A35B-652E3557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0A3-B764-4041-BC29-A3C1240F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F1BA-AFEE-4AB1-8BCC-79A7A62181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63640" y="2349360"/>
            <a:ext cx="6134040" cy="187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ЕНЬ  ЮНОГО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ГЕРОЯ  - АНТИФАШИСТА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547640" y="333360"/>
            <a:ext cx="6264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0099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8 февраля -</a:t>
            </a:r>
            <a:endParaRPr b="0" lang="en-US" sz="2800" spc="1" strike="noStrike">
              <a:ln w="9360">
                <a:solidFill>
                  <a:srgbClr val="990099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040200" y="3952800"/>
            <a:ext cx="498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74560" y="494172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амяти юных, мальчишек и девчонок всех стран мира, детям, которые боролись и умирали за свободу и счастье людей посвящается день 8 феврал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День юного антифашиста.</a:t>
            </a: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антифашисты 005"/>
          <p:cNvPicPr/>
          <p:nvPr/>
        </p:nvPicPr>
        <p:blipFill>
          <a:blip r:embed="rId1"/>
          <a:srcRect l="6711" t="11085" r="7438" b="8577"/>
          <a:stretch/>
        </p:blipFill>
        <p:spPr>
          <a:xfrm>
            <a:off x="5076720" y="3789360"/>
            <a:ext cx="3168720" cy="2924280"/>
          </a:xfrm>
          <a:prstGeom prst="rect">
            <a:avLst/>
          </a:prstGeom>
          <a:ln w="0">
            <a:noFill/>
          </a:ln>
        </p:spPr>
      </p:pic>
      <p:sp>
        <p:nvSpPr>
          <p:cNvPr id="93" name="WordArt 4"/>
          <p:cNvSpPr txBox="1"/>
          <p:nvPr/>
        </p:nvSpPr>
        <p:spPr>
          <a:xfrm>
            <a:off x="971640" y="333360"/>
            <a:ext cx="748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манта  Смит</a:t>
            </a:r>
            <a:endParaRPr b="0" lang="en-US" sz="2800" spc="1" strike="noStrike">
              <a:ln w="1260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WordArt 6"/>
          <p:cNvSpPr txBox="1"/>
          <p:nvPr/>
        </p:nvSpPr>
        <p:spPr>
          <a:xfrm>
            <a:off x="2411280" y="1052640"/>
            <a:ext cx="540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 1973 – 1985 ) 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5" name="Picture 9" descr="Саманта Смит"/>
          <p:cNvPicPr/>
          <p:nvPr/>
        </p:nvPicPr>
        <p:blipFill>
          <a:blip r:embed="rId2"/>
          <a:stretch/>
        </p:blipFill>
        <p:spPr>
          <a:xfrm>
            <a:off x="539640" y="4005360"/>
            <a:ext cx="2071800" cy="25891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3"/>
          <p:cNvSpPr/>
          <p:nvPr/>
        </p:nvSpPr>
        <p:spPr>
          <a:xfrm>
            <a:off x="1191240" y="1556280"/>
            <a:ext cx="6945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Palatino Linotype"/>
              </a:rPr>
              <a:t>Отшуршали  шелковые  ба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Palatino Linotype"/>
              </a:rPr>
              <a:t>И померкло солнышко во мгл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Palatino Linotype"/>
              </a:rPr>
              <a:t>Нет на свете девочки Саман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Palatino Linotype"/>
              </a:rPr>
              <a:t>Нет Саманты больше на земл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95280" y="260280"/>
            <a:ext cx="84247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Юные герои - антифашисты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a50021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Picture 5" descr="кораблики"/>
          <p:cNvPicPr/>
          <p:nvPr/>
        </p:nvPicPr>
        <p:blipFill>
          <a:blip r:embed="rId1"/>
          <a:srcRect l="4236" t="10319" r="1025" b="11425"/>
          <a:stretch/>
        </p:blipFill>
        <p:spPr>
          <a:xfrm>
            <a:off x="285840" y="1285920"/>
            <a:ext cx="1866960" cy="13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антифашисты"/>
          <p:cNvPicPr/>
          <p:nvPr/>
        </p:nvPicPr>
        <p:blipFill>
          <a:blip r:embed="rId2"/>
          <a:srcRect l="3876" t="5610" r="2058" b="24676"/>
          <a:stretch/>
        </p:blipFill>
        <p:spPr>
          <a:xfrm>
            <a:off x="2428920" y="4668840"/>
            <a:ext cx="3390840" cy="2189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антифашисты 005"/>
          <p:cNvPicPr/>
          <p:nvPr/>
        </p:nvPicPr>
        <p:blipFill>
          <a:blip r:embed="rId3"/>
          <a:srcRect l="6230" t="9070" r="5816" b="11905"/>
          <a:stretch/>
        </p:blipFill>
        <p:spPr>
          <a:xfrm>
            <a:off x="6588000" y="1052640"/>
            <a:ext cx="2292480" cy="2185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/>
          <p:cNvSpPr/>
          <p:nvPr/>
        </p:nvSpPr>
        <p:spPr>
          <a:xfrm>
            <a:off x="1258920" y="2923200"/>
            <a:ext cx="56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Герои минувших немеркнущих л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Мы их не забыли девчонок, мальчише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Чья жизнь молодая за нас отд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Мы в сердце своем как на знамени пи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Простые и гордые их и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2484360" y="1628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Урок мужест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8"/>
          <p:cNvSpPr txBox="1"/>
          <p:nvPr/>
        </p:nvSpPr>
        <p:spPr>
          <a:xfrm>
            <a:off x="1042920" y="404640"/>
            <a:ext cx="6121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реждение  премии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WordArt 10"/>
          <p:cNvSpPr txBox="1"/>
          <p:nvPr/>
        </p:nvSpPr>
        <p:spPr>
          <a:xfrm>
            <a:off x="395280" y="981000"/>
            <a:ext cx="842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мени   Четырёх   девочек</a:t>
            </a:r>
            <a:endParaRPr b="0" lang="en-US" sz="2800" spc="1" strike="noStrike">
              <a:ln w="12600">
                <a:solidFill>
                  <a:srgbClr val="800080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671480" y="244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1692360" y="4797360"/>
            <a:ext cx="66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рисуждать эту премию стали ежегодно самым благородным борцам за счастье детей, самым самоотверженным защитникам детства, а также авторам лучших художественных произведений, окрыленных  деви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835280" y="6237360"/>
            <a:ext cx="66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"Мир - детям мира".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179280" y="2025720"/>
            <a:ext cx="878544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Таня Савичева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 - стала жертвой фаш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Садако Сасаки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 -  ядерного безум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Анна Франк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 - расистского, шовинистического звер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Саманта Смит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 - погибла в авиакатастрофе, стала символом стремя к дружбе детей всех стран и на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картинки Ленинград 005"/>
          <p:cNvPicPr/>
          <p:nvPr/>
        </p:nvPicPr>
        <p:blipFill>
          <a:blip r:embed="rId1"/>
          <a:stretch/>
        </p:blipFill>
        <p:spPr>
          <a:xfrm>
            <a:off x="7020000" y="1700280"/>
            <a:ext cx="1087200" cy="1582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Анна Франк"/>
          <p:cNvPicPr/>
          <p:nvPr/>
        </p:nvPicPr>
        <p:blipFill>
          <a:blip r:embed="rId2"/>
          <a:srcRect l="0" t="0" r="0" b="17038"/>
          <a:stretch/>
        </p:blipFill>
        <p:spPr>
          <a:xfrm>
            <a:off x="8237520" y="3860640"/>
            <a:ext cx="906480" cy="115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Садако Сасаки"/>
          <p:cNvPicPr/>
          <p:nvPr/>
        </p:nvPicPr>
        <p:blipFill>
          <a:blip r:embed="rId3"/>
          <a:srcRect l="9847" t="2954" r="11080" b="0"/>
          <a:stretch/>
        </p:blipFill>
        <p:spPr>
          <a:xfrm>
            <a:off x="179280" y="4508640"/>
            <a:ext cx="1440000" cy="234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антифашисты 005"/>
          <p:cNvPicPr/>
          <p:nvPr/>
        </p:nvPicPr>
        <p:blipFill>
          <a:blip r:embed="rId4"/>
          <a:srcRect l="8975" t="-1217" r="5931" b="12289"/>
          <a:stretch/>
        </p:blipFill>
        <p:spPr>
          <a:xfrm>
            <a:off x="7775640" y="5300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аним1"/>
          <p:cNvPicPr/>
          <p:nvPr/>
        </p:nvPicPr>
        <p:blipFill>
          <a:blip r:embed="rId5"/>
          <a:stretch/>
        </p:blipFill>
        <p:spPr>
          <a:xfrm>
            <a:off x="1835280" y="6453360"/>
            <a:ext cx="174600" cy="188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" descr="аним1"/>
          <p:cNvPicPr/>
          <p:nvPr/>
        </p:nvPicPr>
        <p:blipFill>
          <a:blip r:embed="rId6"/>
          <a:stretch/>
        </p:blipFill>
        <p:spPr>
          <a:xfrm>
            <a:off x="7667640" y="4869000"/>
            <a:ext cx="12384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3132000" y="260280"/>
            <a:ext cx="489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невник юной Ленинградки</a:t>
            </a:r>
            <a:endParaRPr b="0" lang="en-US" sz="2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" name="Picture 3" descr="Сталингр, Ленинград 005"/>
          <p:cNvPicPr/>
          <p:nvPr/>
        </p:nvPicPr>
        <p:blipFill>
          <a:blip r:embed="rId1"/>
          <a:stretch/>
        </p:blipFill>
        <p:spPr>
          <a:xfrm>
            <a:off x="1042920" y="1052640"/>
            <a:ext cx="5400720" cy="3792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Сталингр, Ленинград 004"/>
          <p:cNvPicPr/>
          <p:nvPr/>
        </p:nvPicPr>
        <p:blipFill>
          <a:blip r:embed="rId2"/>
          <a:stretch/>
        </p:blipFill>
        <p:spPr>
          <a:xfrm>
            <a:off x="6516720" y="3357720"/>
            <a:ext cx="2332080" cy="3068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Сталингр, Ленинград 011"/>
          <p:cNvPicPr/>
          <p:nvPr/>
        </p:nvPicPr>
        <p:blipFill>
          <a:blip r:embed="rId1"/>
          <a:srcRect l="56954" t="4006" r="3100" b="6432"/>
          <a:stretch/>
        </p:blipFill>
        <p:spPr>
          <a:xfrm>
            <a:off x="4788000" y="520560"/>
            <a:ext cx="3938400" cy="6337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Сталингр, Ленинград 011"/>
          <p:cNvPicPr/>
          <p:nvPr/>
        </p:nvPicPr>
        <p:blipFill>
          <a:blip r:embed="rId2"/>
          <a:srcRect l="4829" t="2801" r="51743" b="2801"/>
          <a:stretch/>
        </p:blipFill>
        <p:spPr>
          <a:xfrm>
            <a:off x="684360" y="692280"/>
            <a:ext cx="367488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Сталингр, Ленинград 012"/>
          <p:cNvPicPr/>
          <p:nvPr/>
        </p:nvPicPr>
        <p:blipFill>
          <a:blip r:embed="rId1"/>
          <a:stretch/>
        </p:blipFill>
        <p:spPr>
          <a:xfrm>
            <a:off x="539640" y="836640"/>
            <a:ext cx="79977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Сталингр, Ленинград 024"/>
          <p:cNvPicPr/>
          <p:nvPr/>
        </p:nvPicPr>
        <p:blipFill>
          <a:blip r:embed="rId1"/>
          <a:srcRect l="0" t="4506" r="24619" b="6206"/>
          <a:stretch/>
        </p:blipFill>
        <p:spPr>
          <a:xfrm>
            <a:off x="179280" y="189000"/>
            <a:ext cx="3695760" cy="4176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Сталингр, Ленинград 025"/>
          <p:cNvPicPr/>
          <p:nvPr/>
        </p:nvPicPr>
        <p:blipFill>
          <a:blip r:embed="rId2"/>
          <a:srcRect l="1404" t="0" r="26936" b="12293"/>
          <a:stretch/>
        </p:blipFill>
        <p:spPr>
          <a:xfrm>
            <a:off x="3635280" y="3817800"/>
            <a:ext cx="5508720" cy="3040200"/>
          </a:xfrm>
          <a:prstGeom prst="rect">
            <a:avLst/>
          </a:prstGeom>
          <a:ln w="0">
            <a:noFill/>
          </a:ln>
        </p:spPr>
      </p:pic>
      <p:sp>
        <p:nvSpPr>
          <p:cNvPr id="75" name="WordArt 4"/>
          <p:cNvSpPr txBox="1"/>
          <p:nvPr/>
        </p:nvSpPr>
        <p:spPr>
          <a:xfrm>
            <a:off x="4932360" y="189000"/>
            <a:ext cx="346716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660066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веток   жизни</a:t>
            </a:r>
            <a:endParaRPr b="0" lang="en-US" sz="2800" spc="1" strike="noStrike">
              <a:ln w="9360">
                <a:solidFill>
                  <a:srgbClr val="660066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716360" y="1341360"/>
            <a:ext cx="403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Во имя жизни  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И против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Детям – ю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Героям Ленинг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1941 – 1944 годов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11280" y="4941720"/>
            <a:ext cx="28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pperplate Gothic Light"/>
              </a:rPr>
              <a:t>Дне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pperplate Gothic Light"/>
              </a:rPr>
              <a:t>Тани Савиче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1187280" y="333360"/>
            <a:ext cx="741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990099"/>
                  </a:solidFill>
                  <a:miter/>
                </a:ln>
                <a:solidFill>
                  <a:srgbClr val="cc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дако  Сасаки</a:t>
            </a:r>
            <a:endParaRPr b="0" lang="en-US" sz="2800" spc="1" strike="noStrike">
              <a:ln w="12600">
                <a:solidFill>
                  <a:srgbClr val="990099"/>
                </a:solidFill>
                <a:miter/>
              </a:ln>
              <a:solidFill>
                <a:srgbClr val="cc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" name="Picture 5" descr="Садако Сасаки"/>
          <p:cNvPicPr/>
          <p:nvPr/>
        </p:nvPicPr>
        <p:blipFill>
          <a:blip r:embed="rId1"/>
          <a:srcRect l="14017" t="7851" r="8127" b="1678"/>
          <a:stretch/>
        </p:blipFill>
        <p:spPr>
          <a:xfrm>
            <a:off x="6804000" y="2924280"/>
            <a:ext cx="1762200" cy="244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кораблики"/>
          <p:cNvPicPr/>
          <p:nvPr/>
        </p:nvPicPr>
        <p:blipFill>
          <a:blip r:embed="rId2"/>
          <a:srcRect l="4235" t="10334" r="1029" b="11421"/>
          <a:stretch/>
        </p:blipFill>
        <p:spPr>
          <a:xfrm>
            <a:off x="395280" y="1341360"/>
            <a:ext cx="1440000" cy="1047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антифашисты"/>
          <p:cNvPicPr/>
          <p:nvPr/>
        </p:nvPicPr>
        <p:blipFill>
          <a:blip r:embed="rId3"/>
          <a:srcRect l="3870" t="5606" r="2057" b="24682"/>
          <a:stretch/>
        </p:blipFill>
        <p:spPr>
          <a:xfrm>
            <a:off x="179280" y="2349360"/>
            <a:ext cx="5977080" cy="3857760"/>
          </a:xfrm>
          <a:prstGeom prst="rect">
            <a:avLst/>
          </a:prstGeom>
          <a:ln w="0">
            <a:noFill/>
          </a:ln>
        </p:spPr>
      </p:pic>
      <p:sp>
        <p:nvSpPr>
          <p:cNvPr id="82" name="WordArt 12"/>
          <p:cNvSpPr txBox="1"/>
          <p:nvPr/>
        </p:nvSpPr>
        <p:spPr>
          <a:xfrm>
            <a:off x="2050920" y="1341360"/>
            <a:ext cx="59058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 1943 – 1955 ) 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1835280" y="6021360"/>
            <a:ext cx="28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ы требуем и молим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Пусть в мире будет ми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1187280" y="333360"/>
            <a:ext cx="741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нна Франк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2050920" y="1341360"/>
            <a:ext cx="59058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 1929 – 1945 ) 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" name="Picture 10" descr="Анна Франк"/>
          <p:cNvPicPr/>
          <p:nvPr/>
        </p:nvPicPr>
        <p:blipFill>
          <a:blip r:embed="rId1"/>
          <a:srcRect l="0" t="0" r="0" b="17047"/>
          <a:stretch/>
        </p:blipFill>
        <p:spPr>
          <a:xfrm>
            <a:off x="1695600" y="1913040"/>
            <a:ext cx="1560240" cy="1560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Анна Франк"/>
          <p:cNvPicPr/>
          <p:nvPr/>
        </p:nvPicPr>
        <p:blipFill>
          <a:blip r:embed="rId2"/>
          <a:srcRect l="0" t="0" r="0" b="17034"/>
          <a:stretch/>
        </p:blipFill>
        <p:spPr>
          <a:xfrm>
            <a:off x="6607080" y="2781360"/>
            <a:ext cx="2073240" cy="2687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9"/>
          <p:cNvSpPr/>
          <p:nvPr/>
        </p:nvSpPr>
        <p:spPr>
          <a:xfrm>
            <a:off x="1116000" y="2565360"/>
            <a:ext cx="489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Анна Фра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огибла в концлаге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за два месяца до освобо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Голланд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 которой 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когда-то жи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21:46:43Z</dcterms:created>
  <dc:creator>FoM</dc:creator>
  <dc:description/>
  <dc:language>en-US</dc:language>
  <cp:lastModifiedBy>Тупицына Татьяна Анатольевна</cp:lastModifiedBy>
  <dcterms:modified xsi:type="dcterms:W3CDTF">2013-03-23T12:12:50Z</dcterms:modified>
  <cp:revision>13</cp:revision>
  <dc:subject/>
  <dc:title>Слайд 1</dc:title>
</cp:coreProperties>
</file>