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F81-3C84-422D-898F-805D59CE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F150-3F31-48B5-90FF-8302801F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7BA3-7AC6-48F5-8202-312F3B8B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1E84-080C-484E-A443-A78139C1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861D-037F-494C-9554-AC22A9B9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26F6-7088-411A-9793-25BE2282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49A4-23C9-4B76-9AF2-59ED1C5F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657B-91F3-4627-814B-C4E758DA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2819-521D-4CB7-8AB2-E1455482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08D9-A578-483D-AF99-373C0149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EF70-39AB-47E7-8E5F-D64833C2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C173-0A9F-4536-A27C-3E17B980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1285-17DA-493F-9EF4-121F4C35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7FB6-75C3-4216-9091-80D324C3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289A-8D96-49E2-892C-4ACFF02F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B355-D454-4717-97FA-F3D371F0E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0354-60C8-4B80-8CC7-649E55D0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B234C-C59F-4CDE-A600-4EDC5883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465D9-1F3E-4826-B698-0951841E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D3487-3A3E-44C4-A2E7-E092E490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27AA4-5CCD-4F52-9409-58781E50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75220-814B-4243-AAD9-B0C59DEF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596-BC9F-4F06-BAB9-6B9C909B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3F993-EFBF-43BD-BE6B-E323B7C8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571F2-1DE1-46C4-9727-082CB11D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9A7DC-6703-4E4A-A28D-67543D78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19C96-306D-462A-B3D7-1D15C308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ACEB3-850D-4430-954D-2BCF0202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62327-1241-41F3-BAB7-588770E8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89DE0-0580-4D9E-B160-F2070217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5B5E4-6208-4B97-8CA4-E3101A3D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95EC5-2E07-46BE-B92A-EFC66F98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EDC26-D1D5-4A97-B4B2-6F6129DA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15C-635D-4DD7-899C-AF75B0C5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4D6DB-BF69-43E9-B67E-357DCB3D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FA1C9-3827-4830-896C-F43A5985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CBAFF-9998-4E09-8965-0E2CEBB4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43EED-4AE0-48A5-9685-0695E9AE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A785F-FCF4-471F-84F3-53E36383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65440-23B8-4F12-BDD5-411210AF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56AD2-4D6E-49D1-A7AE-9BA67AE5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3E79B-81E9-427E-9156-FE634295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7413A-B79D-4834-893A-36A125CD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598B7-B2F7-45D2-B209-F707C94D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B62-2D23-4849-AFD9-F49F87FE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BEB3D-9C65-454B-9254-EAA01EBC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F9B7A-57EA-4686-807F-6AC6AAA1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82E3B-05BC-4878-B20A-BFE43C1D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95486-5A19-442C-8724-93A3FEB3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0F3BB-83F6-45F4-9F3F-38F20422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3CDC4-B5B9-445D-B6A2-0BC8E69B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9E009-66DC-413E-A163-D22DB6E5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1F01E-DD26-41A4-B9B2-3196A6A4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CBBB8-3F2D-4AEC-810E-2FBB8B8B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43A9C-08B4-481A-A254-2AF5C561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FE1-7B3C-4405-9866-F155A36C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3848F-FF59-4BD1-8A58-10813C0E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69B7-394B-4352-A01A-349B6859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B8E9-2193-4616-B8FB-8E271123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20B-E564-47AF-9A98-0834640F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79F0-546B-4747-866B-D1A6A3CC78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8B6E-C09B-492C-BC05-B584A5F453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3560-310F-4D14-B6FE-4B05ADB449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94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4E65-D6EA-4679-90ED-727D6B542C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5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5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6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1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4AEE-B5BB-4023-BE51-62B1EB2BA17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3&amp;ed=1&amp;text=&#1057;&#1090;&#1088;&#1072;&#1096;&#1080;&#1083;&#1082;&#1072;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851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4814da"/>
                </a:solidFill>
                <a:latin typeface="Times New Roman"/>
              </a:rPr>
              <a:t>Как преодолеть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4814da"/>
                </a:solidFill>
                <a:latin typeface="Times New Roman"/>
              </a:rPr>
              <a:t> </a:t>
            </a:r>
            <a:r>
              <a:rPr b="0" i="1" lang="ru-RU" sz="7200" spc="-1" strike="noStrike">
                <a:solidFill>
                  <a:srgbClr val="4814da"/>
                </a:solidFill>
                <a:latin typeface="Times New Roman"/>
              </a:rPr>
              <a:t>страх на улице?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WordArt 4"/>
          <p:cNvSpPr txBox="1"/>
          <p:nvPr/>
        </p:nvSpPr>
        <p:spPr>
          <a:xfrm rot="20371200">
            <a:off x="323640" y="765000"/>
            <a:ext cx="424656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24aa3"/>
                </a:solidFill>
                <a:latin typeface="Arial"/>
              </a:rPr>
              <a:t>психоло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24aa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Искали информацию в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rnet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одбирали  материал из книг и журнал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просили у педагогов, родителей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WordArt 5"/>
          <p:cNvSpPr txBox="1"/>
          <p:nvPr/>
        </p:nvSpPr>
        <p:spPr>
          <a:xfrm>
            <a:off x="1042920" y="620640"/>
            <a:ext cx="5761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мы делали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5" descr="2 002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6858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" descr="2"/>
          <p:cNvPicPr/>
          <p:nvPr/>
        </p:nvPicPr>
        <p:blipFill>
          <a:blip r:embed="rId2"/>
          <a:stretch/>
        </p:blipFill>
        <p:spPr>
          <a:xfrm>
            <a:off x="2050920" y="2106720"/>
            <a:ext cx="4432320" cy="475128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4567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ff00"/>
                </a:solidFill>
                <a:latin typeface="Tahoma"/>
              </a:rPr>
              <a:t>Тревог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то неосознанное переживание беспокойства, не направленное на какой-то определённый предмет или яв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ff00"/>
                </a:solidFill>
                <a:latin typeface="Tahoma"/>
              </a:rPr>
              <a:t>Страх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осознан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живание беспокойств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правлен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реальный ил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ображаемый предм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яв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75"/>
                            </p:stCondLst>
                            <p:childTnLst>
                              <p:par>
                                <p:cTn id="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950"/>
                            </p:stCondLst>
                            <p:childTnLst>
                              <p:par>
                                <p:cTn id="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725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25"/>
                            </p:stCondLst>
                            <p:childTnLst>
                              <p:par>
                                <p:cTn id="1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475"/>
                            </p:stCondLst>
                            <p:childTnLst>
                              <p:par>
                                <p:cTn id="1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38098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Человек не должен бежать от тревоги и страха. Он должен обращать на них внимание, приближаться к ним, считать своими, стремиться что-то измени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3" name="Picture 7" descr="2 003"/>
          <p:cNvPicPr/>
          <p:nvPr/>
        </p:nvPicPr>
        <p:blipFill>
          <a:blip r:embed="rId1"/>
          <a:stretch/>
        </p:blipFill>
        <p:spPr>
          <a:xfrm>
            <a:off x="4224240" y="1700280"/>
            <a:ext cx="49197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13" descr="4"/>
          <p:cNvPicPr/>
          <p:nvPr/>
        </p:nvPicPr>
        <p:blipFill>
          <a:blip r:embed="rId1"/>
          <a:stretch/>
        </p:blipFill>
        <p:spPr>
          <a:xfrm>
            <a:off x="6084720" y="0"/>
            <a:ext cx="3015000" cy="4005360"/>
          </a:xfrm>
          <a:prstGeom prst="rect">
            <a:avLst/>
          </a:prstGeom>
          <a:ln w="0">
            <a:noFill/>
          </a:ln>
        </p:spPr>
      </p:pic>
      <p:sp>
        <p:nvSpPr>
          <p:cNvPr id="555" name="WordArt 4"/>
          <p:cNvSpPr txBox="1"/>
          <p:nvPr/>
        </p:nvSpPr>
        <p:spPr>
          <a:xfrm>
            <a:off x="1403280" y="-171360"/>
            <a:ext cx="50403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ши совет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6" name="WordArt 6"/>
          <p:cNvSpPr txBox="1"/>
          <p:nvPr/>
        </p:nvSpPr>
        <p:spPr>
          <a:xfrm>
            <a:off x="684360" y="2349360"/>
            <a:ext cx="720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Листок страшных ужасов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0" y="3141360"/>
            <a:ext cx="91440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ьмите листок бумаги и напишите список самых страшных ужасов, которые могут с вами произойти на улице. А потом возьмите другой листок и напишите положительные моменты, которые вы приобретете, избавившись от своего страха. Положите два листка рядом и сравните. Что перевешивает? Менее важный листок порвите и разбросайте по ветру. А более важный повесьте на стенку и регулярно перечитывайт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ущий читает ребятам начало детской страшной ска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814da"/>
                </a:solidFill>
                <a:latin typeface="Arial"/>
              </a:rPr>
              <a:t>…</a:t>
            </a:r>
            <a:r>
              <a:rPr b="0" i="1" lang="ru-RU" sz="2800" spc="-1" strike="noStrike">
                <a:solidFill>
                  <a:srgbClr val="4814da"/>
                </a:solidFill>
                <a:latin typeface="Arial"/>
              </a:rPr>
              <a:t>.Однажды вечером Привидение летало по городу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придумать смешное продолжение и оконч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WordArt 4"/>
          <p:cNvSpPr txBox="1"/>
          <p:nvPr/>
        </p:nvSpPr>
        <p:spPr>
          <a:xfrm>
            <a:off x="611280" y="404640"/>
            <a:ext cx="8137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думай весёлый конец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0" name="Picture 9" descr=""/>
          <p:cNvPicPr/>
          <p:nvPr/>
        </p:nvPicPr>
        <p:blipFill>
          <a:blip r:embed="rId2"/>
          <a:srcRect l="0" t="0" r="0" b="-2826"/>
          <a:stretch/>
        </p:blipFill>
        <p:spPr>
          <a:xfrm>
            <a:off x="5435640" y="1773360"/>
            <a:ext cx="3122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3563640" y="1413000"/>
            <a:ext cx="504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дущий показывает рисунки страшных персонажей, которые могут встретиться на улице. Водящий выбирает одного из персонажей и изображает его. Остальные угадывают, какого «страшилку» изобразил водящ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WordArt 4"/>
          <p:cNvSpPr txBox="1"/>
          <p:nvPr/>
        </p:nvSpPr>
        <p:spPr>
          <a:xfrm>
            <a:off x="3132000" y="0"/>
            <a:ext cx="6012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Покажи страшилку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4" name="Picture 6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3124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ах испытывают все нормальные люди, этого не надо стеснять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 страхом легче бороться не в одиночку, а сообща, не бойся обращаться за советом к друзьям и близким людя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ренебрегай советами психологов, выполняй тренинговые упражн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рь в себя и свои силы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WordArt 4"/>
          <p:cNvSpPr txBox="1"/>
          <p:nvPr/>
        </p:nvSpPr>
        <p:spPr>
          <a:xfrm>
            <a:off x="2843280" y="404640"/>
            <a:ext cx="3744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писок использованных ресурсов 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Хочу быть успешным» Методическое пособие для школьных психолог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грамма социального тренинга для школьни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бник по ЗОЖ, 8 клас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images.yandex.ru/yandsearch?p=3&amp;ed=1&amp;text=%D0%A1%D1%82%D1%80%D0%B0%D1%88%D0%B8%D0%BB%D0%BA%D0%B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http://i041.radikal.ru/0712/04/564a0ecb9998.gi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9:59:43Z</dcterms:created>
  <dc:creator>1</dc:creator>
  <dc:description/>
  <dc:language>en-US</dc:language>
  <cp:lastModifiedBy>Sea</cp:lastModifiedBy>
  <dcterms:modified xsi:type="dcterms:W3CDTF">2011-12-24T14:26:55Z</dcterms:modified>
  <cp:revision>10</cp:revision>
  <dc:subject/>
  <dc:title>Слайд 1</dc:title>
</cp:coreProperties>
</file>