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wmf" ContentType="image/x-wmf"/>
  <Override PartName="/ppt/media/image3.wmf" ContentType="image/x-wmf"/>
  <Override PartName="/ppt/media/image6.jpeg" ContentType="image/jpeg"/>
  <Override PartName="/ppt/media/image4.gif" ContentType="image/gif"/>
  <Override PartName="/ppt/media/image7.png" ContentType="image/png"/>
  <Override PartName="/ppt/media/image11.wmf" ContentType="image/x-wmf"/>
  <Override PartName="/ppt/media/image17.jpeg" ContentType="image/jpeg"/>
  <Override PartName="/ppt/media/image18.jpeg" ContentType="image/jpeg"/>
  <Override PartName="/ppt/media/image8.gif" ContentType="image/gif"/>
  <Override PartName="/ppt/media/image13.gif" ContentType="image/gi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D67-3265-4B12-B912-FD26DEF0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0A5-61F5-4AA1-8219-D58163F8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541-671F-4AA3-93D5-BF54789E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BFD-5FDD-4AC5-8B16-F51E7B22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D67D-7DEC-48D5-95C7-359E9108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CD9B-4EF4-4903-9869-E86E6920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F60E-5BA3-481E-AECB-15D21DF2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8E5F-0FA2-4111-A284-CC29B9B8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9FE3-0116-4E92-927C-0A6621FB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CF6F-23F0-4B82-BBE7-F7AF0C42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4875-A3A4-4B86-B4DC-4416A53E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E38-7090-4099-9A72-F3C06F56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D04E-E144-49D8-8249-6CE4FF05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7900-8E0E-4807-8504-7D73CBA5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269E-A8D0-4077-BCC3-C4852B0C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74E3-32F6-4FBD-B951-09C4C807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73F9-C8BB-49A5-9BBA-B02DA8EC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DCE-026F-4FFE-BA9C-984B0B19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B2F-F829-45EE-8E5B-65D5E40F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A87-5328-411F-80F8-75E190FA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8B4-5E70-4291-BBAC-3A539C22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D1F-5FD5-4B16-AA50-B0205F42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814-1E7C-4EC6-9424-5AB09F75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8B1-9B5C-4219-964E-0A3BEBE5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BCAA-08AB-483C-A39E-9809DD22E9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1535-2AF9-4DA3-B20B-2B34A22A2E5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1979640" y="549360"/>
            <a:ext cx="4556160" cy="30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лица пол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ожиданнос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2" name="Picture 5" descr="HAPPYBOY"/>
          <p:cNvPicPr/>
          <p:nvPr/>
        </p:nvPicPr>
        <p:blipFill>
          <a:blip r:embed="rId1"/>
          <a:stretch/>
        </p:blipFill>
        <p:spPr>
          <a:xfrm>
            <a:off x="1835280" y="4221000"/>
            <a:ext cx="1152360" cy="1872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MIS105"/>
          <p:cNvPicPr/>
          <p:nvPr/>
        </p:nvPicPr>
        <p:blipFill>
          <a:blip r:embed="rId2"/>
          <a:stretch/>
        </p:blipFill>
        <p:spPr>
          <a:xfrm>
            <a:off x="5867280" y="2708280"/>
            <a:ext cx="1916280" cy="27018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2867760" y="3857760"/>
            <a:ext cx="34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П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бота над проектом по ПД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4532760" y="5500800"/>
            <a:ext cx="33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тели: Неумоина Е.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вцова Н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1547640" y="620640"/>
            <a:ext cx="6696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чему прогулка по улице может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ернуться бедой?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7" name="Picture 5" descr="AAGIRL"/>
          <p:cNvPicPr/>
          <p:nvPr/>
        </p:nvPicPr>
        <p:blipFill>
          <a:blip r:embed="rId1"/>
          <a:stretch/>
        </p:blipFill>
        <p:spPr>
          <a:xfrm>
            <a:off x="0" y="4005360"/>
            <a:ext cx="856764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улиц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WordArt 4"/>
          <p:cNvSpPr txBox="1"/>
          <p:nvPr/>
        </p:nvSpPr>
        <p:spPr>
          <a:xfrm>
            <a:off x="1332000" y="907920"/>
            <a:ext cx="6408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ие опасности таит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себе улица?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0" name="Picture 6" descr="AAMAN"/>
          <p:cNvPicPr/>
          <p:nvPr/>
        </p:nvPicPr>
        <p:blipFill>
          <a:blip r:embed="rId7"/>
          <a:stretch/>
        </p:blipFill>
        <p:spPr>
          <a:xfrm>
            <a:off x="0" y="5222880"/>
            <a:ext cx="11844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План работы в группах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4" descr="owls"/>
          <p:cNvPicPr/>
          <p:nvPr/>
        </p:nvPicPr>
        <p:blipFill>
          <a:blip r:embed="rId1"/>
          <a:stretch/>
        </p:blipFill>
        <p:spPr>
          <a:xfrm>
            <a:off x="539640" y="1268280"/>
            <a:ext cx="2810160" cy="36007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382920" y="2565360"/>
            <a:ext cx="576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группа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66cc"/>
                </a:solidFill>
                <a:latin typeface="Arial"/>
              </a:rPr>
              <a:t>ИСТОР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группа –</a:t>
            </a:r>
            <a:r>
              <a:rPr b="0" lang="ru-RU" sz="3600" spc="-1" strike="noStrike">
                <a:solidFill>
                  <a:srgbClr val="ff66cc"/>
                </a:solidFill>
                <a:latin typeface="Arial"/>
              </a:rPr>
              <a:t>СОЦИОЛО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группа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ХУДОЖ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группа 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66cc"/>
                </a:solidFill>
                <a:latin typeface="Arial"/>
              </a:rPr>
              <a:t>ПСИХОЛО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ние для 1 группы:</a:t>
            </a:r>
            <a:br>
              <a:rPr sz="4000"/>
            </a:b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Какими были первые улиц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4" descr="Улица прошлого"/>
          <p:cNvPicPr/>
          <p:nvPr/>
        </p:nvPicPr>
        <p:blipFill>
          <a:blip r:embed="rId1"/>
          <a:stretch/>
        </p:blipFill>
        <p:spPr>
          <a:xfrm>
            <a:off x="2050920" y="2060640"/>
            <a:ext cx="532764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28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для 2 группы:</a:t>
            </a:r>
            <a:br>
              <a:rPr sz="4400"/>
            </a:b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Какие происшествия чаще всего происходят на улицах нашего города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4" descr="HEA005"/>
          <p:cNvPicPr/>
          <p:nvPr/>
        </p:nvPicPr>
        <p:blipFill>
          <a:blip r:embed="rId1"/>
          <a:stretch/>
        </p:blipFill>
        <p:spPr>
          <a:xfrm>
            <a:off x="3635280" y="2941560"/>
            <a:ext cx="267336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ние для 4 группы:</a:t>
            </a:r>
            <a:br>
              <a:rPr sz="4000"/>
            </a:b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Какой должна быть безопасная улица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5" descr="Картинка 26 из 2076"/>
          <p:cNvPicPr/>
          <p:nvPr/>
        </p:nvPicPr>
        <p:blipFill>
          <a:blip r:embed="rId2"/>
          <a:stretch/>
        </p:blipFill>
        <p:spPr>
          <a:xfrm>
            <a:off x="2843280" y="2276640"/>
            <a:ext cx="3352680" cy="3311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STOPLITE"/>
          <p:cNvPicPr/>
          <p:nvPr/>
        </p:nvPicPr>
        <p:blipFill>
          <a:blip r:embed="rId3"/>
          <a:stretch/>
        </p:blipFill>
        <p:spPr>
          <a:xfrm>
            <a:off x="7380360" y="1197000"/>
            <a:ext cx="1128600" cy="4462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znak"/>
          <p:cNvPicPr/>
          <p:nvPr/>
        </p:nvPicPr>
        <p:blipFill>
          <a:blip r:embed="rId4"/>
          <a:stretch/>
        </p:blipFill>
        <p:spPr>
          <a:xfrm>
            <a:off x="395280" y="2924280"/>
            <a:ext cx="2016000" cy="1757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car_running_md_wht"/>
          <p:cNvPicPr/>
          <p:nvPr/>
        </p:nvPicPr>
        <p:blipFill>
          <a:blip r:embed="rId5"/>
          <a:stretch/>
        </p:blipFill>
        <p:spPr>
          <a:xfrm>
            <a:off x="1714680" y="5429160"/>
            <a:ext cx="273672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ние для 5 группы:</a:t>
            </a:r>
            <a:br>
              <a:rPr sz="3600"/>
            </a:br>
            <a:r>
              <a:rPr b="0" i="1" lang="ru-RU" sz="4000" spc="-1" strike="noStrike">
                <a:solidFill>
                  <a:srgbClr val="ff3300"/>
                </a:solidFill>
                <a:latin typeface="Arial"/>
              </a:rPr>
              <a:t>Как преодолеть страх перед улицей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5" descr="i?id=39942619&amp;tov=6"/>
          <p:cNvPicPr/>
          <p:nvPr/>
        </p:nvPicPr>
        <p:blipFill>
          <a:blip r:embed="rId2"/>
          <a:stretch/>
        </p:blipFill>
        <p:spPr>
          <a:xfrm>
            <a:off x="5724360" y="2708280"/>
            <a:ext cx="3160800" cy="3960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Картинка 11 из 49"/>
          <p:cNvPicPr/>
          <p:nvPr/>
        </p:nvPicPr>
        <p:blipFill>
          <a:blip r:embed="rId3"/>
          <a:stretch/>
        </p:blipFill>
        <p:spPr>
          <a:xfrm>
            <a:off x="324000" y="1700280"/>
            <a:ext cx="2482560" cy="2016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?id=8986640&amp;tov=0"/>
          <p:cNvPicPr/>
          <p:nvPr/>
        </p:nvPicPr>
        <p:blipFill>
          <a:blip r:embed="rId4"/>
          <a:stretch/>
        </p:blipFill>
        <p:spPr>
          <a:xfrm>
            <a:off x="1763640" y="3500280"/>
            <a:ext cx="4248360" cy="27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рнет-рес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festival.1september.ru/articles/211316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images.yandex.ru/yandsearch?p=1&amp;ed=1&amp;text=%D1%83%D0%BB%D0%B8%D1%86%D1%8B%20%D0%B8%20%D0%BC%D0%B0%D1%88%D0%B8%D0%BD%D1%8B&amp;stype=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9:07:19Z</dcterms:created>
  <dc:creator>east10</dc:creator>
  <dc:description/>
  <dc:language>en-US</dc:language>
  <cp:lastModifiedBy>Sea</cp:lastModifiedBy>
  <dcterms:modified xsi:type="dcterms:W3CDTF">2011-12-24T14:25:19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