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5B0-2CCE-4606-824E-CC2B9182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4EC-94A8-41E8-9234-B9E564D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DFD-ED81-4EB2-9174-F30D3387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586-067F-4F86-8AC3-286A523D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033-6CEE-4FC9-8E94-B5037837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8E5-95B5-4CB6-8C33-2F62A85B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2DAA-0CA9-42B8-9366-78F7B69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BAC0-66A0-45C0-97BF-61A4665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59C-3A4F-4E57-B53D-937D7E7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02BD-2048-4BCF-A8BB-04BA3E6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044-396C-4D8D-B109-B2B4296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9B3-7FDD-4EFB-B163-230FB1C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54E-9D12-4CAD-9B95-B8A7D81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E7B7-D06C-4009-8C24-F11E93E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B2D-A44F-42CB-9BAE-3D09D89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516-C2D0-4D2C-8427-55CC4398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FA9-F47B-4B82-911D-C1EF9E69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792-F4CB-49BE-B6C4-29E5356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EB1-7C84-4F43-BADD-5D1FB3B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61F-6289-443E-B32F-2A02E64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D1F-0D90-4C9F-B0B9-9A7E2F1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99B-E255-4D94-9098-43F4B80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FDC-10D2-4EAE-9E3F-87705DA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1D0-25DA-4BA1-8293-DFC429A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8C9-B652-45EB-BFD8-9C731D217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EE05-C8A2-40CC-91B7-A979FB9B7F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9640" y="-2433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художник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427640" y="4581000"/>
            <a:ext cx="3527280" cy="10126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BD21313_"/>
          <p:cNvPicPr/>
          <p:nvPr/>
        </p:nvPicPr>
        <p:blipFill>
          <a:blip r:embed="rId1"/>
          <a:stretch/>
        </p:blipFill>
        <p:spPr>
          <a:xfrm>
            <a:off x="-4213080" y="5805360"/>
            <a:ext cx="17065440" cy="1052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BD21313_"/>
          <p:cNvPicPr/>
          <p:nvPr/>
        </p:nvPicPr>
        <p:blipFill>
          <a:blip r:embed="rId2"/>
          <a:stretch/>
        </p:blipFill>
        <p:spPr>
          <a:xfrm>
            <a:off x="-4213080" y="0"/>
            <a:ext cx="17065440" cy="105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j0291984"/>
          <p:cNvPicPr/>
          <p:nvPr/>
        </p:nvPicPr>
        <p:blipFill>
          <a:blip r:embed="rId3"/>
          <a:stretch/>
        </p:blipFill>
        <p:spPr>
          <a:xfrm>
            <a:off x="971640" y="234936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755640" y="78120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. На красный и желтый нельзя переходить улицу. Переходить дорогу можно только на зеленый сигнал светофора, убедившись, что все машины остановили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. При переходе дороги убедись в безопасности. Посмотри, нет ли рядом маш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5. За городом безопаснее всего пешеходу идти по обочине навстречу движущемуся транспортному пото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68360" y="2160"/>
            <a:ext cx="820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. За городом безопаснее всего пешеходу идти по обочине навстречу движущемуся транспортному пото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6. Регулировщик стоит к пешеходам боком - переход разрешен. Такое положение регулировщика соответствует зеленому сигналу светофо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7. Ни сзади, ни спереди не обходи стоящий автобус - это опасно. Подожди, пока он отъедет от останов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8. Если переходишь дорогу с малышом, крепко держи его за запястье ру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. Никогда не перебегай проезжую часть перед близко идущим автомобил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3-4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ше зад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042920" y="2349360"/>
            <a:ext cx="698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ой должна бы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зопасная ул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5" descr="j0211949"/>
          <p:cNvPicPr/>
          <p:nvPr/>
        </p:nvPicPr>
        <p:blipFill>
          <a:blip r:embed="rId2"/>
          <a:stretch/>
        </p:blipFill>
        <p:spPr>
          <a:xfrm>
            <a:off x="8820000" y="4984920"/>
            <a:ext cx="2880000" cy="187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212957"/>
          <p:cNvPicPr/>
          <p:nvPr/>
        </p:nvPicPr>
        <p:blipFill>
          <a:blip r:embed="rId3"/>
          <a:stretch/>
        </p:blipFill>
        <p:spPr>
          <a:xfrm>
            <a:off x="8459640" y="1413000"/>
            <a:ext cx="183060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1.09827E-006 L -0.44879 -0.04208 E">
                                      <p:cBhvr>
                                        <p:cTn id="3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61 0.08416 L -0.80086 0.07353 E">
                                      <p:cBhvr>
                                        <p:cTn id="3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ccff"/>
                </a:solidFill>
                <a:latin typeface="Comic Sans MS"/>
              </a:rPr>
              <a:t>Что мы делал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Comic Sans MS"/>
              </a:rPr>
              <a:t>Рисова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Comic Sans MS"/>
              </a:rPr>
              <a:t>Провели конкурс рисунков в 3-4класса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Comic Sans MS"/>
              </a:rPr>
              <a:t>Искали информацию в книгах, в сети Интерн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j0205582"/>
          <p:cNvPicPr/>
          <p:nvPr/>
        </p:nvPicPr>
        <p:blipFill>
          <a:blip r:embed="rId2"/>
          <a:stretch/>
        </p:blipFill>
        <p:spPr>
          <a:xfrm>
            <a:off x="6443640" y="4653000"/>
            <a:ext cx="22082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1640" y="-243360"/>
            <a:ext cx="6870600" cy="26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По мнению ребят безопасная улица выглядит т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ромащук"/>
          <p:cNvPicPr/>
          <p:nvPr/>
        </p:nvPicPr>
        <p:blipFill>
          <a:blip r:embed="rId2"/>
          <a:stretch/>
        </p:blipFill>
        <p:spPr>
          <a:xfrm>
            <a:off x="1763640" y="2349360"/>
            <a:ext cx="6912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кобцев"/>
          <p:cNvPicPr/>
          <p:nvPr/>
        </p:nvPicPr>
        <p:blipFill>
          <a:blip r:embed="rId2"/>
          <a:stretch/>
        </p:blipFill>
        <p:spPr>
          <a:xfrm>
            <a:off x="3419640" y="2289240"/>
            <a:ext cx="5724360" cy="4568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горох"/>
          <p:cNvPicPr/>
          <p:nvPr/>
        </p:nvPicPr>
        <p:blipFill>
          <a:blip r:embed="rId3"/>
          <a:stretch/>
        </p:blipFill>
        <p:spPr>
          <a:xfrm>
            <a:off x="324000" y="0"/>
            <a:ext cx="38066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MG_0006"/>
          <p:cNvPicPr/>
          <p:nvPr/>
        </p:nvPicPr>
        <p:blipFill>
          <a:blip r:embed="rId2"/>
          <a:stretch/>
        </p:blipFill>
        <p:spPr>
          <a:xfrm>
            <a:off x="0" y="0"/>
            <a:ext cx="5423040" cy="37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дима"/>
          <p:cNvPicPr/>
          <p:nvPr/>
        </p:nvPicPr>
        <p:blipFill>
          <a:blip r:embed="rId3"/>
          <a:stretch/>
        </p:blipFill>
        <p:spPr>
          <a:xfrm>
            <a:off x="3152880" y="2808360"/>
            <a:ext cx="599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стукалина"/>
          <p:cNvPicPr/>
          <p:nvPr/>
        </p:nvPicPr>
        <p:blipFill>
          <a:blip r:embed="rId2"/>
          <a:stretch/>
        </p:blipFill>
        <p:spPr>
          <a:xfrm>
            <a:off x="1332000" y="765000"/>
            <a:ext cx="705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63374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1835280" y="5229360"/>
            <a:ext cx="44766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унок из сети Интер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187280" y="349200"/>
            <a:ext cx="748836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Что должен знать пеше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улицах и дорогах много автомобил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ушение Правил дорожного движения опасно для жизн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о всем хорошо знать, как правильно переходить дорог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т эти прав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Ходи по тротуару, придерживайся правой сторо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2. Переходи улицу спокойным шагом только по пешеходному переход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1:18:45Z</dcterms:created>
  <dc:creator>Ольга</dc:creator>
  <dc:description/>
  <dc:language>en-US</dc:language>
  <cp:lastModifiedBy>Sea</cp:lastModifiedBy>
  <dcterms:modified xsi:type="dcterms:W3CDTF">2011-12-24T14:21:08Z</dcterms:modified>
  <cp:revision>12</cp:revision>
  <dc:subject/>
  <dc:title>художники</dc:title>
</cp:coreProperties>
</file>