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AE5-DE09-419E-A682-090ED486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00B-4738-4847-8C85-4CC7AA28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19D-BC71-4F8D-BF0E-C02EC1C5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58D-6BFA-478C-BD2A-289892E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5E7-B39B-4BB4-A172-FF65803E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880-8586-4D13-9A7A-AB189E04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ED7-ADB2-46BF-8470-36C1914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9AC-11B5-4245-811D-8F048A3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594-1338-4D1F-B069-28FA14E9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E99-A0FD-4FEA-BBCF-6B02CC1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990-FDC2-46DB-BF46-F99710D1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EEE-F97D-4507-9E2A-2810C82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FC07-1173-4EB8-9B02-27093ED9B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mochka.kz/article.php?article_id=668" TargetMode="External"/><Relationship Id="rId2" Type="http://schemas.openxmlformats.org/officeDocument/2006/relationships/hyperlink" Target="http://lechebnik.info/457/18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771640" y="765000"/>
            <a:ext cx="4032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циол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j0195384"/>
          <p:cNvPicPr/>
          <p:nvPr/>
        </p:nvPicPr>
        <p:blipFill>
          <a:blip r:embed="rId1"/>
          <a:stretch/>
        </p:blipFill>
        <p:spPr>
          <a:xfrm>
            <a:off x="4572000" y="1773360"/>
            <a:ext cx="3095640" cy="2135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228600" y="4876920"/>
            <a:ext cx="8705880" cy="9144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4648320" y="838080"/>
            <a:ext cx="4022640" cy="474516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5"/>
          <p:cNvSpPr/>
          <p:nvPr/>
        </p:nvSpPr>
        <p:spPr>
          <a:xfrm>
            <a:off x="609480" y="838080"/>
            <a:ext cx="4024440" cy="510408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6"/>
          <p:cNvSpPr/>
          <p:nvPr/>
        </p:nvSpPr>
        <p:spPr>
          <a:xfrm>
            <a:off x="6872400" y="1039680"/>
            <a:ext cx="2087280" cy="46008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7"/>
          <p:cNvSpPr/>
          <p:nvPr/>
        </p:nvSpPr>
        <p:spPr>
          <a:xfrm>
            <a:off x="254160" y="1042920"/>
            <a:ext cx="2093760" cy="459756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225360" y="795240"/>
            <a:ext cx="8763120" cy="4996080"/>
          </a:xfrm>
          <a:prstGeom prst="pie">
            <a:avLst/>
          </a:pr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9"/>
          <p:cNvSpPr/>
          <p:nvPr/>
        </p:nvSpPr>
        <p:spPr>
          <a:xfrm>
            <a:off x="228600" y="762120"/>
            <a:ext cx="8763120" cy="4995720"/>
          </a:xfrm>
          <a:prstGeom prst="pie">
            <a:avLst/>
          </a:pr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bel20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539640" y="5950080"/>
            <a:ext cx="7129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регите себя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Журнал Здоровье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. Я. ДОЛЕЦКИЙ, член-корреспондент АМН ССС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. ДОБРУШИН, сотрудник Института проблем управления АН СССР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. Когда ребенок становится жерт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дорожного происшествия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mochka.kz/article.php?article_id=6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echebnik.info/457/1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86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 Black"/>
              </a:rPr>
              <a:t>Какие происшествия чаще всего происходят на улицах нашего гор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HEA005"/>
          <p:cNvPicPr/>
          <p:nvPr/>
        </p:nvPicPr>
        <p:blipFill>
          <a:blip r:embed="rId1"/>
          <a:stretch/>
        </p:blipFill>
        <p:spPr>
          <a:xfrm>
            <a:off x="3635280" y="2941560"/>
            <a:ext cx="267336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 Black"/>
              </a:rPr>
              <a:t>Что мы дел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мотрели газеты и журн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кали информацию в Инте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осили учащихся, родителей и педаг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j0205582"/>
          <p:cNvPicPr/>
          <p:nvPr/>
        </p:nvPicPr>
        <p:blipFill>
          <a:blip r:embed="rId1"/>
          <a:stretch/>
        </p:blipFill>
        <p:spPr>
          <a:xfrm>
            <a:off x="4427640" y="1484280"/>
            <a:ext cx="34336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4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8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По страницам СМИ</a:t>
            </a:r>
            <a:br>
              <a:rPr sz="4400"/>
            </a:b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Журнал Здоровье</a:t>
            </a: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бенок на улице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1. Дорожно-транспортные происшествия - самая частая причина гибели детей на улицах, а травмы, полученные при ДТП, - самые тяжелые </a:t>
            </a:r>
            <a:br>
              <a:rPr sz="2800"/>
            </a:b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уская ребенка на улицу, надо подготовить его к взаимоотношениям с городом. Обучение поведению на улице, ознакомление с элементарными правилами дорожного движения должно начинаться как можно раньше. Это не требует особого напряжения или времен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6" descr="TAXI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j0240719"/>
          <p:cNvPicPr/>
          <p:nvPr/>
        </p:nvPicPr>
        <p:blipFill>
          <a:blip r:embed="rId1"/>
          <a:stretch/>
        </p:blipFill>
        <p:spPr>
          <a:xfrm>
            <a:off x="6877080" y="333360"/>
            <a:ext cx="2266920" cy="251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 Различные травм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2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70% уличных травм случается со школьниками по пути домой из школы. Понятно почему: дорогу после занятий ребята считают уже начавшимся отдыхо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Травмы - и на улице, и дома - происходят в основном при падении. Это важно иметь в виду, потому что правильно падать можно и научить, как это делает, например любой тренер по волейболу на первом же занятии. Спортивные привычки помогают снизить опасность травм и еще в одной традиционной ситуации - мальчишеской драке. Кстати, здесь надо обратить внимание на искаженные представления детей о возможных последствиях ударов (особенно предметами). Родители, например, должны объяснить ребенку, что только в кино после удара железным прутом человек остается здоров и весел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. Пруды, каналы, пляжи, котлованы и рвы с во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оды ребенок не должен находиться без взрослого. Дети тонут не только в реках или прудах, но и в различных ямах, строительных котлованах и т.д. С первых лет жизни ребенку необходимо внушить быть осторожным у воды и при первой возможности нужно научить его плавать.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0229389"/>
          <p:cNvPicPr/>
          <p:nvPr/>
        </p:nvPicPr>
        <p:blipFill>
          <a:blip r:embed="rId1"/>
          <a:stretch/>
        </p:blipFill>
        <p:spPr>
          <a:xfrm rot="21141600">
            <a:off x="5727600" y="1393920"/>
            <a:ext cx="25210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j0297551"/>
          <p:cNvPicPr/>
          <p:nvPr/>
        </p:nvPicPr>
        <p:blipFill>
          <a:blip r:embed="rId1"/>
          <a:stretch/>
        </p:blipFill>
        <p:spPr>
          <a:xfrm>
            <a:off x="6732720" y="333360"/>
            <a:ext cx="2187360" cy="3336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Незнакомые люд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ннего детства ребенок должен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учен к тому, чтобы не вступать в общение с незнакомыми людьми, если он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сопровождающего. Полиция мног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 считает обязательным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го ребенка закон четырех "не": 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не разговаривай с незнакомцем;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не садись в машину к незнакомцу;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не играй по дороге из школы домой;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не оставайся на улице с наступлением темноты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Предлог, которым воспользуется злоумышленник, предсказать невозможно, поэтому конкретные формулы типа "Не соглашайся, если тебя зовут посмотреть мультфильмы или предлагают конфету" могут только сбить с толку. Ребенок должен твердо усвоить, что если он один, то на любое приглашение, предложение незнакомого человека следует сказать: "Извините, нет" и отой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Социологический 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276800"/>
        </p:xfrm>
        <a:graphic>
          <a:graphicData uri="http://schemas.openxmlformats.org/drawingml/2006/table">
            <a:tbl>
              <a:tblPr/>
              <a:tblGrid>
                <a:gridCol w="1882800"/>
                <a:gridCol w="860400"/>
                <a:gridCol w="1371600"/>
                <a:gridCol w="1512720"/>
                <a:gridCol w="1366920"/>
                <a:gridCol w="123516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 Т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лованы, люки, водоё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ящиеся объе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к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лиганст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ажа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 Black"/>
              </a:rPr>
              <a:t>Выв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всего на улицах нашего города происходят дорожно-транспортные происше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тором месте драки и хулиган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третьем месте среди происшествий  –различные водоёмы, котлованы, лю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вёртую степень опасности опрошенные присвоили строящимся объект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ыкает цепочку происшествий – пропаж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2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20:02:33Z</dcterms:created>
  <dc:creator>1</dc:creator>
  <dc:description/>
  <dc:language>en-US</dc:language>
  <cp:lastModifiedBy>Sea</cp:lastModifiedBy>
  <dcterms:modified xsi:type="dcterms:W3CDTF">2011-12-24T13:06:44Z</dcterms:modified>
  <cp:revision>7</cp:revision>
  <dc:subject/>
  <dc:title>Слайд 1</dc:title>
</cp:coreProperties>
</file>