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A71-6C6B-4A6B-9557-33238D90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841-1F34-4C6B-96D0-B7F87C3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69A-FFB9-446B-AF6C-ED876F8E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662-D639-4AC6-BF80-C2F7F4DD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2AED9-BB45-44DE-B0AE-78F2846C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F651A-2719-41D3-A4B9-875AA5C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5BD55-9FF7-4BEB-A322-74B8315F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8ADA8-EF24-48EF-A549-CD520981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0FD18-EB10-4DE8-8C2A-F93B9423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C7D5D-B236-4653-BB22-C1EE625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1603D-E1EB-478E-9EF8-F6BAA861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6E3-D3CD-4E1E-9F8C-977ED82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0259D-8F4B-440A-A56A-65F04C5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8663E-9746-4263-A738-790B58C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5AEC0-743D-461D-887F-B67BAA2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D042-30DD-4AA1-8C67-3E2E324C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1815C-EF10-469B-9049-8C17C3F8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4CB-15CC-4A09-8A02-331C65B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E7C-3F5F-4C4E-96F2-085C8CA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DE0-71DE-4787-B689-EE208C4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E1E-75CE-48ED-A9EC-49D838C7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437-5CB8-4F79-B636-3912A60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B83-9D1C-4749-ADA0-2B42A19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865-1465-4106-AD10-8BDBCDA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B0E-D6F1-4A4D-AF61-A3A0EAAEED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530-38FD-4B59-A72F-C53B047B3E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АВТОМУЛЬТИ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8920" y="190512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Карлсон клипарт на прозрачном фоне"/>
          <p:cNvPicPr/>
          <p:nvPr/>
        </p:nvPicPr>
        <p:blipFill>
          <a:blip r:embed="rId2"/>
          <a:stretch/>
        </p:blipFill>
        <p:spPr>
          <a:xfrm>
            <a:off x="7020000" y="40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рокодил Гена и Чебурашка - цветной рисованный клипарт"/>
          <p:cNvPicPr/>
          <p:nvPr/>
        </p:nvPicPr>
        <p:blipFill>
          <a:blip r:embed="rId3"/>
          <a:stretch/>
        </p:blipFill>
        <p:spPr>
          <a:xfrm>
            <a:off x="161928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буратино растровый клипарт на прозрачном фоне"/>
          <p:cNvPicPr/>
          <p:nvPr/>
        </p:nvPicPr>
        <p:blipFill>
          <a:blip r:embed="rId4"/>
          <a:stretch/>
        </p:blipFill>
        <p:spPr>
          <a:xfrm>
            <a:off x="1187280" y="260280"/>
            <a:ext cx="2621160" cy="2621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мойдодыр рисованный клипарт на прозрачном слое"/>
          <p:cNvPicPr/>
          <p:nvPr/>
        </p:nvPicPr>
        <p:blipFill>
          <a:blip r:embed="rId5"/>
          <a:stretch/>
        </p:blipFill>
        <p:spPr>
          <a:xfrm>
            <a:off x="5659560" y="3141720"/>
            <a:ext cx="348444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ы ехали, мы пели и с песенкой смеш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се вместе, как сумели, приехали дом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м солнышко светило, нас ветер обвева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 пути не скучно было, и каждый напева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Тра-та-та, тра-та-та, мы везём с собой кот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Чижика, собаку, петьку — забияку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безьяну, попугая, вот — компания какая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ресурсы Интерн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 чем ехал Емеля к царю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ворец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юбимый двухколесный вид транспорта кота Леополь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81908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771640" y="4005360"/>
            <a:ext cx="24256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ем заправлялся  Карлсон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который живет на крыш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1765440" y="3357720"/>
            <a:ext cx="806616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кой подар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делали роди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яди Федо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чтальону Печкин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71880" y="3573360"/>
            <a:ext cx="4272120" cy="30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чем летал старик Хоттабыч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о что преврат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обрая фея тык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ля Золуш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752640" cy="275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56000" y="3324240"/>
            <a:ext cx="446400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ичный транспорт Бабы – Яг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64000" y="1483920"/>
            <a:ext cx="512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чем поехал в Ленинград человек рассеянный с улицы Бассейн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3640" y="3573360"/>
            <a:ext cx="5651280" cy="3038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Баба Яга послойный клипарт для Фотошопа"/>
          <p:cNvPicPr/>
          <p:nvPr/>
        </p:nvPicPr>
        <p:blipFill>
          <a:blip r:embed="rId3"/>
          <a:stretch/>
        </p:blipFill>
        <p:spPr>
          <a:xfrm>
            <a:off x="324000" y="1197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4608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хали медведи на велосипеде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за ними кот – задом-наперёд,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А за ним комарики…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 чем летали комарик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555804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 чем летал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арон Мюнхгаузе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3789360"/>
            <a:ext cx="4751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помощи какого транспорта передвигались Бременские музыкан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2879640" cy="295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3779640" cy="32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ы едем, едем, едем в далёкие края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орошие соседи, счастливые друзья!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м весело живётся, мы песенку поём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А в песенке поётся о том, как мы живё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а-та-та, тра-та-та, мы везём с собой кот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жика, собаку, петьку — забияку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езьяну, попугая, вот — компания какая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огда живётся дружно, что может лучше бы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И ссориться не нужно, и можно всех люби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 если нас увидит, иль встретит кто нибуд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рузей он не обидит, он скажет: " В добр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уть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а-та-та, тра-та-та, мы везём с собой кот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жика, собаку, петьку — забияку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езьяну, попугая, вот — компания какая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11:38Z</dcterms:created>
  <dc:creator>user</dc:creator>
  <dc:description/>
  <dc:language>en-US</dc:language>
  <cp:lastModifiedBy>user</cp:lastModifiedBy>
  <dcterms:modified xsi:type="dcterms:W3CDTF">2011-12-08T12:16:59Z</dcterms:modified>
  <cp:revision>1</cp:revision>
  <dc:subject/>
  <dc:title>       АВТОМУЛЬТИ </dc:title>
</cp:coreProperties>
</file>