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9C1-592C-4EF7-9AB7-670A4380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45D-A907-49D7-BC12-C557036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C1A-1483-4BAD-A638-24C1C548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E88-5CEF-4B0A-8E9F-A5356D0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B1D-E8A3-4445-A96F-B674CAE8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415B-1824-43A8-A4CF-C53BCF0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E726-7C69-48DE-A1C3-D03312F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94D-065E-4F6E-B818-BDA83293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38E-D825-4B30-B2DE-7B2E187A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812-7690-4D86-9D40-9D35CC0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F32-574F-40DB-AFAF-7BCCBCF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84F-8800-442A-B72D-40D2B5C7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7029-7D83-44E1-9FA5-42F8A64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3E5E-96DE-4907-87A7-5B77554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535E-74F2-433C-8AC9-3C169000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48A3-1ADF-4B44-91DB-87D32152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108C-D05E-4B5D-8307-08DBE2F1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F1B-3D51-4DAA-95F8-1F4005C3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F2B-2C4B-4526-B0C0-AE2619A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89B-3778-4FAB-969E-77D26BE7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B49-A5E0-4E28-AED8-F3C92E5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68B-E36F-4C24-B88C-9B2EBBA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C64-D35B-4936-8643-38F7E0E0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07F-2E41-4F81-B70C-F534C45D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2AD-8237-4DDD-8D0D-DEB6D379C5A5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D0B-E7D2-41B3-A2CE-68A99997965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738360"/>
            <a:ext cx="8313840" cy="367488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" descr=""/>
          <p:cNvPicPr/>
          <p:nvPr/>
        </p:nvPicPr>
        <p:blipFill>
          <a:blip r:embed="rId2"/>
          <a:stretch/>
        </p:blipFill>
        <p:spPr>
          <a:xfrm>
            <a:off x="2378160" y="4071960"/>
            <a:ext cx="5033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Scan10053"/>
          <p:cNvPicPr/>
          <p:nvPr/>
        </p:nvPicPr>
        <p:blipFill>
          <a:blip r:embed="rId1"/>
          <a:stretch/>
        </p:blipFill>
        <p:spPr>
          <a:xfrm>
            <a:off x="1209600" y="1308240"/>
            <a:ext cx="6675480" cy="52768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1116000" y="260280"/>
            <a:ext cx="7496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лица нашей Родины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1042920" y="3000240"/>
            <a:ext cx="4029120" cy="2890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912000" cy="4956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ТОЛИЦА НАШЕЙ РЕСПУБЛИКИ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Районный центр Тоджинского кожууна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826920" y="1916280"/>
            <a:ext cx="80488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:\Users\Dell\Pictures\Тоджа\11.jpg"/>
          <p:cNvPicPr/>
          <p:nvPr/>
        </p:nvPicPr>
        <p:blipFill>
          <a:blip r:embed="rId1"/>
          <a:stretch/>
        </p:blipFill>
        <p:spPr>
          <a:xfrm>
            <a:off x="1476360" y="1693800"/>
            <a:ext cx="63356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речислите сёла и посёлки Тоджинского кожууна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7:42:28Z</dcterms:created>
  <dc:creator>Alpha</dc:creator>
  <dc:description/>
  <dc:language>en-US</dc:language>
  <cp:lastModifiedBy>Dell</cp:lastModifiedBy>
  <dcterms:modified xsi:type="dcterms:W3CDTF">2013-02-12T00:06:03Z</dcterms:modified>
  <cp:revision>26</cp:revision>
  <dc:subject/>
  <dc:title>Слайд 1</dc:title>
</cp:coreProperties>
</file>