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85F18-60B2-4C68-8D71-6FD1712BCC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485E8-1E7D-4B0B-A817-63FD57484B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33C3-B788-4028-B6F0-92686CAFC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88F8-D735-433D-A26B-0E6C14A70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7F6C8-9533-4CC0-B2B4-666A420C07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15B13-45B8-4BBA-82C4-EE98A9380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9B29-4490-4A75-BC1F-1CB5D42CD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E3E3B-05AA-4693-A368-C6240219B3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FC979-58CE-40C7-936F-946382FDF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88C60-7B60-45AC-A030-20C62264C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DDF-3B32-4546-989A-4C9988C7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04A-9B97-414D-8017-D823C3E7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BA1-3B2C-4DCD-BBEA-A7657F50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BF5-341D-4E77-B491-473F794B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9A4-EC14-4D54-9668-A9B8D61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FF-D737-41DF-8050-EA5D554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1C0-CFD5-4A13-8708-B68E7149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443-434E-4FBD-9A57-D1FAC3FD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677-B403-47E9-B13A-9841A692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AA0-BE47-4DD2-8E26-D2026D6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5F0-7452-4DDE-AA51-0CE9ECC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A20-1DA5-457D-AEB3-874896F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1ABEA9-5C5C-407B-B9DB-D9A52A852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681120"/>
            <a:ext cx="8424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лассный час на тему</a:t>
            </a:r>
            <a:br>
              <a:rPr sz="2800"/>
            </a:br>
            <a:br>
              <a:rPr sz="2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«Салют! Победа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368360" y="3780000"/>
            <a:ext cx="7632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3 «б»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МОУ «Лиман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Кл. руководитель Галкина Евг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 ма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1" descr=""/>
          <p:cNvPicPr/>
          <p:nvPr/>
        </p:nvPicPr>
        <p:blipFill>
          <a:blip r:embed="rId1"/>
          <a:stretch/>
        </p:blipFill>
        <p:spPr>
          <a:xfrm>
            <a:off x="1079640" y="900000"/>
            <a:ext cx="8459640" cy="52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164448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14065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224000" y="1692360"/>
            <a:ext cx="1295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368360" y="0"/>
            <a:ext cx="144936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079640" y="0"/>
            <a:ext cx="136836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792000" y="324000"/>
            <a:ext cx="187200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1584360" cy="12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079640" y="358920"/>
            <a:ext cx="12240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</dc:creator>
  <dc:description/>
  <dc:language>en-US</dc:language>
  <cp:lastModifiedBy>рим</cp:lastModifiedBy>
  <dcterms:modified xsi:type="dcterms:W3CDTF">2013-02-02T10:19:31Z</dcterms:modified>
  <cp:revision>9</cp:revision>
  <dc:subject/>
  <dc:title>Слайд 1</dc:title>
</cp:coreProperties>
</file>