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13C1-1C15-4A8F-AABD-034B5DD0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78B5-9D54-40DC-BE4B-469E0F95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B6C8-9F76-4378-BE9F-C2E0A4D6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1D4-44AB-4973-99A9-32D4B871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D6F-4DB8-4462-91AE-F3338057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981-8C80-4545-BBD9-8659F796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D24-EEB8-44BA-8183-4C7989A8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9140-B55D-4529-A1A6-FE213FFE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19D-223E-456A-B9C0-F74A0319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370-9D58-482B-9AD2-42868105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79A-E9F5-4851-BFC2-03C0F44B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103-5B38-42AD-A1DF-EB8ABAB0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1976-FBCF-4D74-BADF-1115F500A7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2"/>
          <a:stretch/>
        </p:blipFill>
        <p:spPr>
          <a:xfrm>
            <a:off x="-457200" y="-201600"/>
            <a:ext cx="8978760" cy="265284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6516720" y="494172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зентация выполнена воспитателем ГПД ГБОУ СОШ № 313 Золотых Е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Объект 3" descr=""/>
          <p:cNvPicPr/>
          <p:nvPr/>
        </p:nvPicPr>
        <p:blipFill>
          <a:blip r:embed="rId2"/>
          <a:stretch/>
        </p:blipFill>
        <p:spPr>
          <a:xfrm>
            <a:off x="179280" y="216000"/>
            <a:ext cx="4608720" cy="3456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3"/>
          <a:stretch/>
        </p:blipFill>
        <p:spPr>
          <a:xfrm>
            <a:off x="4932360" y="189000"/>
            <a:ext cx="3990960" cy="35082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"/>
          <p:cNvPicPr/>
          <p:nvPr/>
        </p:nvPicPr>
        <p:blipFill>
          <a:blip r:embed="rId4"/>
          <a:stretch/>
        </p:blipFill>
        <p:spPr>
          <a:xfrm>
            <a:off x="755640" y="3754440"/>
            <a:ext cx="3311640" cy="28893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"/>
          <p:cNvPicPr/>
          <p:nvPr/>
        </p:nvPicPr>
        <p:blipFill>
          <a:blip r:embed="rId5"/>
          <a:stretch/>
        </p:blipFill>
        <p:spPr>
          <a:xfrm>
            <a:off x="5219640" y="3768840"/>
            <a:ext cx="293076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3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3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3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155520" y="115920"/>
            <a:ext cx="4272120" cy="32050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"/>
          <p:cNvPicPr/>
          <p:nvPr/>
        </p:nvPicPr>
        <p:blipFill>
          <a:blip r:embed="rId3"/>
          <a:stretch/>
        </p:blipFill>
        <p:spPr>
          <a:xfrm>
            <a:off x="4622760" y="115920"/>
            <a:ext cx="412740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"/>
          <p:cNvPicPr/>
          <p:nvPr/>
        </p:nvPicPr>
        <p:blipFill>
          <a:blip r:embed="rId4"/>
          <a:stretch/>
        </p:blipFill>
        <p:spPr>
          <a:xfrm>
            <a:off x="4727520" y="3352680"/>
            <a:ext cx="4300560" cy="32259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"/>
          <p:cNvPicPr/>
          <p:nvPr/>
        </p:nvPicPr>
        <p:blipFill>
          <a:blip r:embed="rId5"/>
          <a:stretch/>
        </p:blipFill>
        <p:spPr>
          <a:xfrm>
            <a:off x="395280" y="3422520"/>
            <a:ext cx="3198960" cy="33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3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стровок безопасност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4" descr=""/>
          <p:cNvPicPr/>
          <p:nvPr/>
        </p:nvPicPr>
        <p:blipFill>
          <a:blip r:embed="rId2"/>
          <a:stretch/>
        </p:blipFill>
        <p:spPr>
          <a:xfrm>
            <a:off x="-201600" y="-208080"/>
            <a:ext cx="1407960" cy="73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3" descr=""/>
          <p:cNvPicPr/>
          <p:nvPr/>
        </p:nvPicPr>
        <p:blipFill>
          <a:blip r:embed="rId2"/>
          <a:stretch/>
        </p:blipFill>
        <p:spPr>
          <a:xfrm>
            <a:off x="23760" y="-73080"/>
            <a:ext cx="34815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3" descr=""/>
          <p:cNvPicPr/>
          <p:nvPr/>
        </p:nvPicPr>
        <p:blipFill>
          <a:blip r:embed="rId2"/>
          <a:stretch/>
        </p:blipFill>
        <p:spPr>
          <a:xfrm>
            <a:off x="5857920" y="5181480"/>
            <a:ext cx="34812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4T10:57:27Z</dcterms:created>
  <dc:creator>Alex</dc:creator>
  <dc:description/>
  <dc:language>en-US</dc:language>
  <cp:lastModifiedBy>Alex</cp:lastModifiedBy>
  <dcterms:modified xsi:type="dcterms:W3CDTF">2014-10-19T10:57:05Z</dcterms:modified>
  <cp:revision>12</cp:revision>
  <dc:subject/>
  <dc:title>Есть правила на свете, должны их знать все дети!</dc:title>
</cp:coreProperties>
</file>