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359-B68E-4465-87CC-6B120FD5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5B5-DB11-4F4C-B4AA-142ED2CF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337-7120-4160-A1BB-17A8E52D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571-F581-443B-8195-D861B746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0FCE-929E-441C-9FAF-40D54DB8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651F-689E-4A81-8482-411C69F4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9111-E539-42BF-B851-D6CF5D92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ED0A-B2EF-4703-B51E-6C0C8880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FB8E-4148-4232-A022-7DEB6291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BFAD-59E2-4C4A-AEE2-0C4E62CF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1AB6-60B1-4AD0-9A8E-CF21674E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441-143C-486B-B5AC-090C71B0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6595-D37C-469F-9BB8-B0F34D08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5DDB-BCDA-4A40-AF3D-9A2218F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139B-B4A4-4F8F-9CA0-41E2BEFC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4237-D681-4A3D-B4E3-65AFDF6E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F2E1-65D9-4DD6-90D0-C317CF5C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CFBE-745F-47A3-80A0-F43B5D54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0DBD-92DC-4CB5-84BE-AEDB398C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EF23-7782-4DB3-8CE6-B742EFC4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4658-07F1-4757-A563-F01CFFC2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6C047-D10E-4580-B363-783704C3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16D-DB68-430F-88BD-FEC00121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8B73-B0C5-4775-9D7E-0BE2FDCB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8387-659D-4B36-B567-D0254D9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BEB6-9B96-4B76-A5E3-9FF4C4B1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08AD-4569-411D-8C44-74F76B91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D629-B0BD-4265-9B47-C9AE3D6A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87AC-01E9-4BD1-8553-FF6C52B0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1323-02A7-4905-8141-0229B6C3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656-5B8C-4370-AD4D-BB43E2C6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9A8-F77F-451F-970D-11B6D5F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FD5-870E-48C9-BF86-ED1F8A28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37F-DB06-4E2C-BDF3-A052718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3DA-A5BA-42C1-8AC8-AAA2F81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905-CAA9-4735-9E5D-95F0099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4BEA-4236-4371-BEC6-500B2995E79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D4D4-4BCC-451C-A5FA-06F5326E86B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CEC1-CA0A-4377-8CF4-4562472AB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187280" y="2997360"/>
            <a:ext cx="7201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клонимся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им тем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дам 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 rot="591000">
            <a:off x="1047240" y="-42840"/>
            <a:ext cx="72439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e1f08"/>
                </a:solidFill>
                <a:latin typeface="Arial"/>
              </a:rPr>
              <a:t>1941 - 1945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e1f0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410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Картинка 17 из 2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День Победы.mp3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1083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6920" y="3357720"/>
            <a:ext cx="728676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Пусть всегда будет солнц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8576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1496743"/>
          <p:cNvPicPr/>
          <p:nvPr/>
        </p:nvPicPr>
        <p:blipFill>
          <a:blip r:embed="rId1"/>
          <a:srcRect l="0" t="0" r="0" b="56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1042920" y="0"/>
            <a:ext cx="7129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 июня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1 год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27280" y="4437000"/>
            <a:ext cx="597708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йна..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54529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99" name=""/>
          <p:cNvSpPr txBox="1"/>
          <p:nvPr/>
        </p:nvSpPr>
        <p:spPr>
          <a:xfrm>
            <a:off x="1979640" y="5877000"/>
            <a:ext cx="525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e1f08"/>
                  </a:solidFill>
                  <a:miter/>
                </a:ln>
                <a:solidFill>
                  <a:srgbClr val="fe1f08"/>
                </a:solidFill>
                <a:latin typeface="Arial"/>
              </a:rPr>
              <a:t>Брестская крепость</a:t>
            </a:r>
            <a:endParaRPr b="0" lang="en-US" sz="1800" spc="1" strike="noStrike">
              <a:ln w="9360">
                <a:solidFill>
                  <a:srgbClr val="fe1f08"/>
                </a:solidFill>
                <a:miter/>
              </a:ln>
              <a:solidFill>
                <a:srgbClr val="fe1f0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дети войны белорусия"/>
          <p:cNvPicPr/>
          <p:nvPr/>
        </p:nvPicPr>
        <p:blipFill>
          <a:blip r:embed="rId1"/>
          <a:stretch/>
        </p:blipFill>
        <p:spPr>
          <a:xfrm>
            <a:off x="539640" y="1628640"/>
            <a:ext cx="4341960" cy="4586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дети войны фото"/>
          <p:cNvPicPr/>
          <p:nvPr/>
        </p:nvPicPr>
        <p:blipFill>
          <a:blip r:embed="rId2"/>
          <a:stretch/>
        </p:blipFill>
        <p:spPr>
          <a:xfrm>
            <a:off x="5651640" y="189000"/>
            <a:ext cx="32860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Вечная  слава  павшим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80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160"/>
                            </p:stCondLst>
                            <p:childTnLst>
                              <p:par>
                                <p:cTn id="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00:39Z</dcterms:created>
  <dc:creator>Mr.Zero</dc:creator>
  <dc:description/>
  <dc:language>en-US</dc:language>
  <cp:lastModifiedBy>Mr.Zero</cp:lastModifiedBy>
  <dcterms:modified xsi:type="dcterms:W3CDTF">2010-04-27T15:25:58Z</dcterms:modified>
  <cp:revision>8</cp:revision>
  <dc:subject/>
  <dc:title>Слайд 1</dc:title>
</cp:coreProperties>
</file>