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3DF-F89B-4872-8541-98A8D44F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BA6-A8F5-46DA-8DB3-30CEF9C6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392-AD3B-4BBE-976E-F72507B2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938-E8E4-40C2-B39F-2C4DEBBE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D3A3-5A66-40DF-86A4-F9D00D76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80A9-400C-4976-95AE-192DD670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2978-EA44-4F0C-94AE-0CA4A164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C5ED-EB32-49EF-AE16-72F7A0F0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2E8A-4F77-469E-A8AB-5C64FD19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4180-6964-4D8E-9937-42BBAB78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B41A-30D4-4D68-B19A-93DCC30F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F2E-D3A4-4AE9-9524-04A8BF10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FBEA-5CEF-4627-9513-50A186A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235A-AA9F-4B75-B9AF-D4A55206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510A-24F1-4232-B64D-0AFF2895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A6A3-F260-4E12-88BA-BE9C166D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A844-D90A-4EC6-BEBC-BFC25FC6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857-A31A-44B9-83B5-B5825A45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6F0-E895-4C6B-965C-CB2BAAB3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77A-69E7-4AF4-B175-DFE650E1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194-D200-4448-BA02-AB89D486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7C2-4F98-48A3-B9D1-C4F1619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299-FE28-4367-B1E9-E959598C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426-3D17-4AB5-BCCE-CE1FCEA9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9699-1D3C-45D2-81ED-D7A26A34CE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A9BD-A14C-485A-AFB7-5304D53056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diteli.ua/uploads/m_pages/4875.jp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175200" cy="3932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70480" y="692280"/>
            <a:ext cx="28242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981000"/>
            <a:ext cx="647640" cy="115272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99640" y="981000"/>
            <a:ext cx="576360" cy="144000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981000"/>
            <a:ext cx="0" cy="244800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981000"/>
            <a:ext cx="1008000" cy="1079640"/>
          </a:xfrm>
          <a:custGeom>
            <a:avLst/>
            <a:gdLst/>
            <a:ahLst/>
            <a:rect l="l" t="t" r="r" b="b"/>
            <a:pathLst>
              <a:path w="635" h="680">
                <a:moveTo>
                  <a:pt x="0" y="0"/>
                </a:moveTo>
                <a:cubicBezTo>
                  <a:pt x="317" y="125"/>
                  <a:pt x="635" y="250"/>
                  <a:pt x="635" y="363"/>
                </a:cubicBezTo>
                <a:cubicBezTo>
                  <a:pt x="635" y="476"/>
                  <a:pt x="106" y="627"/>
                  <a:pt x="0" y="680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981000"/>
            <a:ext cx="93672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907920"/>
            <a:ext cx="0" cy="244980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907920"/>
            <a:ext cx="576360" cy="115272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27280" y="981000"/>
            <a:ext cx="647640" cy="108108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981000"/>
            <a:ext cx="0" cy="115272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981000"/>
            <a:ext cx="503280" cy="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2060640"/>
            <a:ext cx="503280" cy="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56360" y="907920"/>
            <a:ext cx="0" cy="244980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6360" y="1989000"/>
            <a:ext cx="287280" cy="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907920"/>
            <a:ext cx="0" cy="244980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907920"/>
            <a:ext cx="0" cy="252108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85080" y="907920"/>
            <a:ext cx="0" cy="244980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360" y="907920"/>
            <a:ext cx="288720" cy="79236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72360" y="981000"/>
            <a:ext cx="0" cy="237672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2360" y="3357720"/>
            <a:ext cx="647640" cy="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72360" y="2060640"/>
            <a:ext cx="503280" cy="0"/>
          </a:xfrm>
          <a:prstGeom prst="line">
            <a:avLst/>
          </a:prstGeom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11280" y="620640"/>
            <a:ext cx="734544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703d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важение</a:t>
            </a:r>
            <a:endParaRPr b="0" lang="en-US" sz="1800" spc="1" strike="noStrike">
              <a:ln w="19080">
                <a:solidFill>
                  <a:srgbClr val="703d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2924280"/>
            <a:ext cx="351648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335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410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страх</a:t>
            </a:r>
            <a:br>
              <a:rPr sz="3600"/>
            </a:b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радость</a:t>
            </a:r>
            <a:br>
              <a:rPr sz="3600"/>
            </a:b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гордость</a:t>
            </a:r>
            <a:br>
              <a:rPr sz="3600"/>
            </a:b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обида</a:t>
            </a:r>
            <a:br>
              <a:rPr sz="3600"/>
            </a:b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боль</a:t>
            </a:r>
            <a:br>
              <a:rPr sz="3600"/>
            </a:b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разочарование</a:t>
            </a:r>
            <a:br>
              <a:rPr sz="3600"/>
            </a:b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спокойствие</a:t>
            </a:r>
            <a:br>
              <a:rPr sz="4000"/>
            </a:b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4720" y="907920"/>
            <a:ext cx="4059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гнев</a:t>
            </a:r>
            <a:br>
              <a:rPr sz="3600"/>
            </a:b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счастье</a:t>
            </a:r>
            <a:br>
              <a:rPr sz="3600"/>
            </a:b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раскаяние</a:t>
            </a:r>
            <a:br>
              <a:rPr sz="3600"/>
            </a:b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растерянность</a:t>
            </a:r>
            <a:br>
              <a:rPr sz="3600"/>
            </a:b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сты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равнодуш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важение других дает повод к уважению самого себ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Декар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очешь уважения — не начинай с оскорбления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Грасиан-и-Морале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59320" y="1628640"/>
            <a:ext cx="1230480" cy="1440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987640" y="4724280"/>
            <a:ext cx="12193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687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Толерантность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52563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3:00:42Z</dcterms:created>
  <dc:creator>Наталья</dc:creator>
  <dc:description/>
  <dc:language>en-US</dc:language>
  <cp:lastModifiedBy>Наталья</cp:lastModifiedBy>
  <dcterms:modified xsi:type="dcterms:W3CDTF">2005-12-31T21:47:20Z</dcterms:modified>
  <cp:revision>6</cp:revision>
  <dc:subject/>
  <dc:title>Слайд 1</dc:title>
</cp:coreProperties>
</file>