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A5A-B1BC-4DF6-A262-36887C35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3D9-CB2C-4CF7-BD97-A0109BEC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50ECD-B140-4458-8C74-F684C005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0D250-7F8E-4E6E-97E4-F788E6C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50E1F-CEBF-4BA3-A673-E275EC2D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B36F7-DFFD-4FA2-9873-1D14CA3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47A2-4572-4A78-8EFA-A39E830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46D50-2E3F-47B0-991B-4129A222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EEC3E-A1BE-4C0E-BD70-A65AB226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B1698-938F-4E09-83C8-A9B3EFDB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6CFC2-A974-43F9-B247-32E5C4FF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71557-903D-43A6-9317-D3AA4BAA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28C-8109-46E8-BCF1-DDC55F7A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B5364-7C60-466C-BE5F-DFC471C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4005-CA16-45BF-A6B0-8249F81B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5A897-95B2-49C3-9243-EC199954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C5ED2-AE7B-4193-955D-164A3EF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7E683-B0C7-4A51-BC02-FAE5FC1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E3428-EF39-4866-8750-742C3B1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B3B2F-D00F-49DD-85CC-96E2494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0ECA9-822F-4623-B12C-DFF5128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580A0-0B36-41DA-8077-D745FF88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5982F-838D-4C2F-8617-5CEEA3BB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1FA-385D-46A7-93AD-14DDEAF0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BB971-78D9-47A6-A985-5BC0DB6E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35E83-1812-46ED-B541-CD9A2B34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AAB0B-D0CB-4502-A3CA-3844741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BCA38-8EBD-44FF-87FE-BD480A4F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80E82-E389-402C-B95F-D8A0E22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767B5-3711-4B7C-B5B7-F2BA1DEB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84B0A-CB1E-461A-BA45-0F408DD7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405E-E4E8-4C95-8613-A25D06E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15833-5A69-42D0-A4A6-36F6117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F31E3-B5B7-47DE-99E6-CBC4252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9DE-138D-45B5-8902-7C7C39B9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D2901-1990-4A80-9997-05D14CF0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E6EA-E84F-497C-AEFC-7C987535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E5FCE-F2F9-4666-9F1C-82B59F05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222E6-5DF6-49D5-BAF0-7457B887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79F23-C9D3-4C85-99D3-275FCD50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0DC2E-A222-479A-AEA1-CC3B935A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858AB-55AF-4C41-848D-F5594AFC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5C94A-F2FB-40AF-9A8D-897ECAF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43ED0-2556-4755-8D7B-D72583AB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3B724-39AB-43AF-830A-1BBB0F1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3ED0-02B9-479F-B03B-692B43C3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D0A22-B9FB-4638-B35C-C1E2EC0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82349-7FD9-4FC6-BE3C-F98AEEB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F8BAB-E10D-428F-9C6E-BF5F981E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4B784-31E2-4832-B189-AA2451E2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F23E2-9422-4371-85A4-1241B5D8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E7EAB-F76B-407F-8598-938DC2D8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BBE0D-FC30-4F6A-B465-FACC9F7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C3F6F-CB2E-45C6-9937-8BBF511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973B4-9518-4093-BEEA-0475B17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3D384-E3B8-47C8-8857-98D0EB47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4236-6EBF-4012-94E8-DD74798E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D83C3-FAA1-4514-9F22-5FD26EE4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EDBAC-4231-4373-B4E7-8C5EDBC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CAC83-A89A-4FFE-89D1-AE6BEF4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608F0-B145-4F9F-8F64-FD795B0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A0108-08F0-4B5F-84DB-B1CFF27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E219E-407F-4C44-B2EA-F4F5F110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3E6D4-A7C7-42BA-B6DF-70B3F03B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328BA-668A-48D9-9621-A199BDA5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BB327-6C3B-4AA5-AF8E-936236AF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5C06C-A8C8-43BE-9EDC-4B9C4AC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10E-7ADE-4A30-AD2B-9E0CE1E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B62A8-37FD-4844-827C-1F6FAD5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C1E8E-2D0B-4105-B8BA-AF59EF5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50B08-DF11-427A-BD94-7FE45C1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7BBDB-DA01-4D91-8518-C372C8B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9A51B-A566-456B-9A98-FF142F1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ACC5F-D127-4621-BB71-B5393C6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EC75B-E362-4F01-8D70-5B84ACF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FC205-83AF-4B55-8D7C-FF87EB64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7CF30-C335-4802-B53C-C43B1809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3D1BF-6EAC-41F1-BA18-CFC1804D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F1E2-073F-4ED6-BCD9-01773CB0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7A87D-6B1A-45E5-A1FE-D663799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72195-DE2B-4221-8A19-88AFED65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15DEF-9EB2-45C4-839C-58BCCF3A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9A26C-73D5-4C0F-8D05-B224680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B84DF-2528-450A-A60C-06FF2A91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5F0AB-7603-49B8-A670-A9168C3B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7F1EF-D385-439B-B03F-813D6DF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E1ACF-D0CA-44C5-AAA1-A03C3E42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CD2E8-51D4-46DC-A552-AE9CFC79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DD76E-A6DD-492D-B35D-250B33F6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3CE6-AB21-4CEE-B4A6-62F7CBF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C40ED-EA5F-4BAF-85A4-DA7CA4F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B1CD4-AB5A-4E64-A35D-5082F9F2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9BD57-E997-4A3B-A97D-3B077586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ABDDF-9A14-4D05-8026-2D7E59A4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C2057-95A2-4C6C-AC50-B057335C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15970-A219-4BF6-AC1F-4CED12A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A09B3-02B3-4137-90EF-21009B94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11953-A184-4CD3-BCB2-EA749DB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ACC63-4443-4DC4-8874-0B549DCE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6C5DE-8CBE-42A2-995B-BB71C05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54B9-B9E8-419A-8A9B-E70F80A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F76E6-0A7A-4F58-9856-92AF7EF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2EDE6-6DE9-407C-AC67-23F828C4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BFF45-72CD-4C02-8D83-363C2851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19B98-3A50-47F8-A2C4-B6DB2B50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208D7-1011-4456-A5AF-4B9EB4D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7E864-EB97-4D3E-B6CA-CF99487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7BDE2-A7DC-478C-B6E5-25A6DD7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17C13-6FD5-4B39-93F4-D83B060A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2ADDC-EF10-4DF1-B837-29FFEF3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852DC-A5A2-4300-A177-58E7BD7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2C0-70C9-4038-B527-F428A96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AB88-C076-4572-97F7-27D1EF21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EFCB7-5D02-4732-B38C-BC4A38A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E9042-BF76-4B1F-83ED-F7B8B1C1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3DC75-870E-40CC-BB33-1BAD86F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A5B84-D4EE-4E34-A244-8A0D0A25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3F0D7-11BA-4AD4-88C2-AB80D607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2B506-AFF8-471D-A546-21E829FA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689DE-F390-407B-8ADE-4AEA0E44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C54A0-1621-48F3-8DD7-F615038E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6F4B4-41D9-4308-87E1-79D59885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31913-0412-47A8-9C66-24C1D49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447B-15B0-47B1-8A59-20E084C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ECF0C-E1FE-44E0-9B17-37956D4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981C8-733E-4770-9C6E-AA16E673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81030-CB37-4C94-9969-63C21B8E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04C17-FAC0-4C09-938A-F1E3A95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C0706-F525-4226-A571-4601ACE2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A88A8-8E07-4FBC-8BCF-F0DB7BF6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89998-EE0E-41F2-A42D-7FE8ED94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AF366-C0B0-42E7-B138-B5108130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C305C-AB22-4D66-BD5C-8699628F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71F7C-D2E0-4D5E-B690-321AB87C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A2A7-818C-4CA5-AF36-33F26EC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F9C3E-F6C0-452A-829F-5C57F8BF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56E4E-11AB-42B0-AA42-9F20136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6C742-A163-4368-890D-BB707CC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3C6CD-E607-4566-9205-DDA1340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08D5B-40CE-4113-A60A-A4AD81F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C16CBA-DB65-4410-BC4F-E297D51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59BCB-39B3-4A3F-A64B-D699EF86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E2AFA-5F94-47C8-990B-9629F6DC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BAF55-1DC7-4563-BC83-78D2AB56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F44-8246-4628-9921-5A8C51E8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EA0-2699-4B88-8A97-4E2432B3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4198-F65B-44EA-8875-802AAA29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2210-E1E7-42D3-BF7C-D1F02843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6CB8-8535-4FEC-AE68-914EB6BA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B599-A15E-41A9-BA9E-48BCC03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C353-E2D6-489B-A0DE-E9931B2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750-8726-4B28-B5C4-89A2FFCF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3FE2-61B9-41CE-97C7-1E1985E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19BB-A268-4BD1-A5F2-735B0E8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85B0-63F8-431C-ADCC-C624C88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C268-8616-4FBC-843C-28252FD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6924-DF27-46A1-8859-84C5B8E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6A5A-3A31-46E5-8400-37EB2443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778A-3FBC-47EA-9C45-1326500F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2A35-C10F-4A29-8DC7-6A4F1BB4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A610-D073-440B-BA95-A6E179DA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462D-EB7C-4348-9B8E-6122814E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01B-3C10-4F3B-961F-3A7F0252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7E65-FCED-4DD3-9C25-BA56F880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589E-2C47-4758-8F1D-FB337B5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92F3-89D5-43B9-A861-CD2528B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D712-74C3-41FC-A49A-AC3C935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5A15-215A-4CE5-B0E3-CF8608C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2193-8539-48F6-8720-CABF0BF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04BD-D5E2-40EB-B582-CDC43B0C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72D1-1A30-4E13-BA93-4858226F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2B57-42BF-4B1E-B65C-66CCFB2A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1A0A-D041-4A50-8D09-F7A681EE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D8D-36C1-4A80-8ED2-B8B0913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A140-CE3B-42C7-836D-0F2D279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10B7-644B-45B9-8675-EB847CFE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6081-386A-4B4B-A26A-819348E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7107-A2D7-4DC5-A0FF-E115C74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5F14-4613-4391-8F72-32BA06D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4B0F5-56E4-409E-91DE-B4BF99F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D62F-B2F5-4BF9-955D-16FD94F1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0DD9-BC6A-4EC9-89C6-3007B40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0DA8-FB3B-46D5-9AE1-8ABC8B78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AFE05-A555-435B-913A-2CC65815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403-3B7C-4092-B7BE-B61CF22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C7FB-23D8-4C0F-B7EB-6C7F94D4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6310-FC83-4FA3-872F-BFE7A063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BB1A-832D-4140-92CB-1028856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A627-CBD6-4308-819F-69A6791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4090-786F-4BF2-B244-585B3F20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BC6B-7988-4DF1-BDCD-A468990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295CB-1A24-4D7D-A4F5-02E446A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B05F-278F-4202-9E7D-818385A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64D4C-F527-4BB2-8172-069F33F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24D0-533E-42AC-9B18-96F4050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E93-CF67-4E54-B837-B94F5C9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C44E3-3EB3-425B-815C-7C34260A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F561-FAC0-4D6D-BA3E-CB5A769F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CD37-7E92-455F-A5D3-370F366A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4F49A-9571-42E3-B813-905AEA25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67619-7044-45C6-B6C3-BCF6A556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2DF61-0982-415A-B6C5-C178A8AB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B24EB-BAC6-4039-8B54-92FD397C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560BC-1A94-4ABF-B7DE-D35B825E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1F406-6EA6-4678-9327-29B4CC1D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D20D4-6D30-450C-BB36-1EF08AF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705-28A1-4D05-9365-56D2774F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678BA-65F5-4585-BE68-F3A249E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51F90-6C02-4218-B348-8D86F65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BEC25-F038-4A37-A21C-42B74B4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E677A-8622-4C0B-B7B0-66242AB5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CDBD2-5BA2-4772-89A5-ADD0A867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8ADA-CB3D-46B4-8990-96E73C5D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369F1-64CD-49AC-A1DD-2C6D9CE6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522B-EB04-432B-8506-A33F0975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6D4DD-2BB3-4860-9BCC-E57434A4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45143-F77F-4BEA-B2FE-A9B12E4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B6A-41F1-4BF6-988F-1BF8ECA3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16A7-31D5-46BF-9ED2-16F1496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381F5-CE22-4C37-ADE6-D3C2BF6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C240B-D21C-4416-B8D7-75F12C4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ABB5D-6AF2-4DBB-B774-3CC4376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8EA71-424F-4618-905F-9732CCD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B8C4-E117-48A9-BB8A-69E0B1CB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10117-2B11-4A16-943A-D8205F84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F6ACA-2253-4F42-AE04-A16F685E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CEC64-8C66-4AD8-AF9B-6F8D6142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B4833-92AA-40AA-85E3-2C2E046F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B6B7-4763-4C68-8F3D-FC0AF58D0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9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9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9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0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60D7-D669-4F04-8641-42EAA91EA45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7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7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6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7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8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693D-458E-42A5-B743-0F8A3C9DEB0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44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4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C0F6-1945-46D2-9BEC-7270DE09C4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9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9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0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734-3144-4ED6-9FEE-DFDA65624A9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A735-9CEF-4D24-B734-C0D8E29BB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969C-B77B-460E-8169-1CC1DEEB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7343-970D-45B2-B39F-FC953CBD682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4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6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7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7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7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B5AF-28DE-4E95-A13F-4F52373C42A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2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2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13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3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1C14-E5A8-473C-B79E-414FCE8FF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3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E85-E7E8-4044-9EF5-8718336BA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ACF1-0D94-4A06-9598-33F1ECCE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0C04-7D2A-4C7F-A9AA-4EAFB7EF0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4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1C3E-D013-45A7-9A5A-D89FBED0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4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2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BCF6-3E29-4535-9D2D-7872D9E2E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5E0-9CF8-4516-A990-61E3822C5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3FEE-D61A-4F24-B155-AE510EABB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85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FF48-DA15-408E-BFBC-B0F9404A82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85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6009-0119-4EC2-81E3-1F162BC28F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4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Baskerville Old Face"/>
              </a:rPr>
              <a:t>Виртуальная экскурсия по родному городу</a:t>
            </a:r>
            <a:br>
              <a:rPr sz="7200"/>
            </a:br>
            <a:r>
              <a:rPr b="0" i="1" lang="en-US" sz="7200" spc="-1" strike="noStrike">
                <a:solidFill>
                  <a:srgbClr val="0000ff"/>
                </a:solidFill>
                <a:latin typeface="Baskerville Old Face"/>
              </a:rPr>
              <a:t>«</a:t>
            </a:r>
            <a:r>
              <a:rPr b="0" i="1" lang="en-US" sz="6000" spc="-1" strike="noStrike">
                <a:solidFill>
                  <a:srgbClr val="0000ff"/>
                </a:solidFill>
                <a:latin typeface="Baskerville Old Face"/>
              </a:rPr>
              <a:t>Лучший город на земле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</a:rPr>
              <a:t>400-летию города Лебедянь посвящ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Unicode MS"/>
              </a:rPr>
              <a:t>Подготовила воспитатель ГПД МБОУ СШ №3 г. Лебедянь Липецкая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4392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26080" cy="316224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25952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Евгений  Иванович Замят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7" name="" descr="Zamjatin.jpg"/>
          <p:cNvPicPr/>
          <p:nvPr/>
        </p:nvPicPr>
        <p:blipFill>
          <a:blip r:embed="rId1"/>
          <a:stretch/>
        </p:blipFill>
        <p:spPr>
          <a:xfrm>
            <a:off x="2484360" y="162864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&amp;Icy;&amp;gcy;&amp;ucy;&amp;mcy;&amp;ncy;&amp;ocy;&amp;vcy;.jpg"/>
          <p:cNvPicPr/>
          <p:nvPr/>
        </p:nvPicPr>
        <p:blipFill>
          <a:blip r:embed="rId1"/>
          <a:stretch/>
        </p:blipFill>
        <p:spPr>
          <a:xfrm>
            <a:off x="2843280" y="1484280"/>
            <a:ext cx="3816360" cy="4635360"/>
          </a:xfrm>
          <a:prstGeom prst="rect">
            <a:avLst/>
          </a:prstGeom>
          <a:ln w="0">
            <a:noFill/>
          </a:ln>
        </p:spPr>
      </p:pic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онстантин Николаевич Игумн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7272360" cy="410364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703dff"/>
                </a:solidFill>
                <a:latin typeface="comic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1116000" y="2205000"/>
            <a:ext cx="741672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язания юных лебедянцев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936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бураш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ть малы мы как букашк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дружны как Чебурашки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унывай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в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 без мамы не ревем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нь весело живем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7993080" cy="3382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623880" y="1773360"/>
            <a:ext cx="78962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ых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ходчивых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нкурс  скороговор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2781360"/>
            <a:ext cx="7696080" cy="2705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Шла Саша по шоссе и сосала суш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нкурс скороговор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2781360"/>
            <a:ext cx="7696080" cy="2705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рл у Клары украл кораллы, а Клара у Карла украла клар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777080" cy="3095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684360" y="1557360"/>
            <a:ext cx="7488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курс "Автопортрет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46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/>
          <p:cNvPicPr/>
          <p:nvPr/>
        </p:nvPicPr>
        <p:blipFill>
          <a:blip r:embed="rId2"/>
          <a:stretch/>
        </p:blipFill>
        <p:spPr>
          <a:xfrm rot="870600">
            <a:off x="5983200" y="3137040"/>
            <a:ext cx="2782800" cy="264456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3"/>
          <a:stretch/>
        </p:blipFill>
        <p:spPr>
          <a:xfrm rot="20740200">
            <a:off x="1120320" y="483840"/>
            <a:ext cx="3019680" cy="208908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4"/>
          <a:stretch/>
        </p:blipFill>
        <p:spPr>
          <a:xfrm rot="904200">
            <a:off x="5329080" y="576360"/>
            <a:ext cx="3054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ерб города Лебедян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3926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45480" cy="4319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онкурс «За народными сказками»</a:t>
            </a:r>
            <a:br>
              <a:rPr sz="6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нкурс юных артистов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ступление на сцене районного Дома куль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29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1341000"/>
            <a:ext cx="8147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1332000" y="1989000"/>
            <a:ext cx="66769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Конкурс юных чтецов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826560" y="2421000"/>
            <a:ext cx="7129800" cy="180000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e103"/>
                </a:solidFill>
                <a:latin typeface="Baskerville Old Face"/>
              </a:rPr>
              <a:t>Вы молодцы!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 rot="1029600">
            <a:off x="5219280" y="549360"/>
            <a:ext cx="3394080" cy="290520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 rot="20839800">
            <a:off x="539640" y="475920"/>
            <a:ext cx="4032360" cy="295740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2700360" y="306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46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 rot="20763000">
            <a:off x="398520" y="3030480"/>
            <a:ext cx="3240000" cy="3225960"/>
          </a:xfrm>
          <a:prstGeom prst="rect">
            <a:avLst/>
          </a:prstGeom>
          <a:ln w="0">
            <a:noFill/>
          </a:ln>
        </p:spPr>
      </p:pic>
      <p:pic>
        <p:nvPicPr>
          <p:cNvPr id="1289" name="" descr=""/>
          <p:cNvPicPr/>
          <p:nvPr/>
        </p:nvPicPr>
        <p:blipFill>
          <a:blip r:embed="rId2"/>
          <a:stretch/>
        </p:blipFill>
        <p:spPr>
          <a:xfrm rot="766800">
            <a:off x="6443280" y="3573000"/>
            <a:ext cx="2325600" cy="295272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3"/>
          <a:stretch/>
        </p:blipFill>
        <p:spPr>
          <a:xfrm>
            <a:off x="3059280" y="333360"/>
            <a:ext cx="395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85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c85e"/>
                </a:solidFill>
                <a:latin typeface="comic"/>
              </a:rPr>
              <a:t>  </a:t>
            </a:r>
            <a:r>
              <a:rPr b="1" lang="ru-RU" sz="4800" spc="-1" strike="noStrike">
                <a:solidFill>
                  <a:srgbClr val="eec85e"/>
                </a:solidFill>
                <a:latin typeface="comic"/>
              </a:rPr>
              <a:t>Лебедянская оборонительная крепост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13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64000" cy="345600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76201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 rot="889200">
            <a:off x="545760" y="561960"/>
            <a:ext cx="4313160" cy="35672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30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1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889080" cy="43927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 rot="20944800">
            <a:off x="4571640" y="40464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35290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597708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2:18:39Z</dcterms:created>
  <dc:creator>Администратор</dc:creator>
  <dc:description/>
  <dc:language>en-US</dc:language>
  <cp:lastModifiedBy>Администратор</cp:lastModifiedBy>
  <dcterms:modified xsi:type="dcterms:W3CDTF">2013-08-10T14:26:04Z</dcterms:modified>
  <cp:revision>7</cp:revision>
  <dc:subject/>
  <dc:title>Слайд 1</dc:title>
</cp:coreProperties>
</file>