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7.png" ContentType="image/png"/>
  <Override PartName="/ppt/media/image3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2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43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AF8-6EBC-490C-AEE2-B69308E61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95C-7A74-47AC-91F5-2D2C123A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5BA2-E4ED-4312-9827-D676CADF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027-2DAC-4E8E-AAE6-2434D6670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2F470-F6F3-4F35-8126-A6B26557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ED05-9DA5-4B52-9416-2EFABDFB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3E4-1465-4B57-A610-26DF3935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8FD0-6D44-498C-8CBF-DDACC00B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728B-EF49-4D9C-974E-6FF45763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09B7A-1E95-4CAA-9DFF-D364C752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0084-029F-477B-9D73-6F1A1313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7C3A-E453-45A7-A7E9-B976541C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F3233-370F-478D-8400-34F0FB43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A9FF-32A4-4ACA-B05E-2B7EE86A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B86FF-9E93-4481-97B1-1361FF70D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9CB0-2F90-486A-B01A-667382D3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FD25-72DE-4DA6-A1D6-50B6F578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1B0382-FC65-45B7-A65C-6D22B4C8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877B4-71EA-42F5-B1B6-50C23F38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A581E-D784-4F86-8FE7-59B33232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C7AC1-616A-43E9-AD70-DBD51026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E4AA02-E5EC-47E7-9D88-A696A5A4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902-A591-4732-8569-E777BCB9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DCD50-00AE-4F2B-81AE-1C899E6D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09767-8AE0-4544-8171-922A0CE0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EF36D5-46E3-4E0D-855D-FD6772D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72B1F-136B-4019-9874-BEBACF28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FB64C-1589-4916-BAE8-27D52B97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1989CA-C4EE-4B73-B614-78727F05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A43D6-A2C4-4894-BB17-83B8EB73C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AE7DA-3672-47DE-8476-FB33C014C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FB83E-1F2C-4A91-9C80-CDF56F3E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EC1083-7689-4E04-BC62-36C35214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0FD-EC5B-4763-8222-388DF2CD5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09502-344E-453C-8987-0F939978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1A788-AF2E-43BE-9AFC-9EB11578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22789-AC43-4F91-AB6D-874EF90A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E3972-CF1A-44F2-A9E6-0BF76BF0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5D258-0E47-40B2-B926-B2E1E23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FCEA2-1640-4770-B704-9D44406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8F5BD-5CA8-40CE-A131-1C40E572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0C877-B8FF-4668-887B-5DC74CA6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9E556-3FE6-47C0-B658-E2DD911D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248E5D-580D-47FE-97DF-0FD92B96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CD5A-BB67-4FB4-8BF3-A40CBE7D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749546-49B4-4D32-ABFC-9E875615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52A9E-3B60-4A60-B476-F6467C5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2BE2E-595F-4214-8AC1-CFF8B3C1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1A9D2-A20F-49E1-94C3-2CFCC209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5071C2-5E54-43D0-AECF-04F1DFFD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E920B3-9748-4839-B5F7-0A72A1C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DDAB9E-2226-44BC-9262-08C2922F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03778-E9BE-4D74-A01F-D304D870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D1FD53-F252-4924-A874-D6A380A7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BBB670-B1FE-49AE-A0FB-7D5DF105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40F-EDAD-43BB-AB15-D9B8FCFA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C4AF4-6932-4249-AA79-15C8D5A89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1598D7-DB23-49A2-8128-B1509FA3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BA7E85-C232-462A-9F25-36F44BDA3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F40F0-87B3-43E1-B233-9ADFF3C9B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56F46-E420-4D55-92F8-AE51775B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FB4E32-2CBC-4CE2-AA5E-15DBA208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4971F9-92AA-4AB7-A76B-22B45C3D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DE7E32-C87F-4D3B-9C59-A5D36ABA9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6EACB-D36A-4B53-BD7F-3AD0CE0C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BBBC8D-7453-48DA-BEC3-06B526CC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EAB4-E674-479A-B154-4C5C5232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597E4-63DC-4CD4-A441-E6EAB9FF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28449D-B383-4E15-911E-FC3D972F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8870D2-65E3-4DF5-91AC-897779F9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AD46C9-7AE0-4F23-B032-E97F44FC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3531AB-286C-400B-A4B8-2B0C02736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78676E-B999-4FC7-BD1E-893D7B21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C59F24-1656-4FFF-8614-171744847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2CCC4-079F-43A5-9768-E063244A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EFED1-4721-4C77-8A13-921C522E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5C5B0A-8985-4CB9-9890-D4F2E1EC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F87-42C1-4771-8C2D-0F0B8E5D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98694-EB02-489A-A68B-A435520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31CAE2-EE47-45DD-9499-00855FF2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305DF4-6DB7-4269-801D-B3897A147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ABBA7C-9046-4732-83E5-6F48D1795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93A321-9792-48CE-BCB4-18E05851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21EF-BE6A-4042-8B63-8BAA7CE3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740D-F171-4407-AB1F-03509C920FA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E20C-3331-4581-8903-03EC36006C3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F0CA-332F-4940-969A-975DFE6EBA0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48E2-F3ED-4A18-90FC-E465B553F9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C838-D5E3-49D8-8941-15E3A22C77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4BF7-6E23-4324-9272-C9EA1E0FFA8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B71E-0508-4D94-A3E5-46DD8F42D3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pedsovet.su/load/321" TargetMode="External"/><Relationship Id="rId3" Type="http://schemas.openxmlformats.org/officeDocument/2006/relationships/hyperlink" Target="http://slavna.ucoz.ru/photo/skazki/5" TargetMode="External"/><Relationship Id="rId4" Type="http://schemas.openxmlformats.org/officeDocument/2006/relationships/hyperlink" Target="http://festival.1september.ru/articles/521177/" TargetMode="External"/><Relationship Id="rId5" Type="http://schemas.openxmlformats.org/officeDocument/2006/relationships/hyperlink" Target="http://klasnaocinka.com.ua/ru/article/viktorina--v-gostyakh-u-skazki-1-klass.html" TargetMode="External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99760" y="92880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ВИКТОРИНА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«В ГОСТЯХ У СКАЗКИ»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71320" y="4929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Воспитатель ГПД МБОУ СОШ №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г. Гороховц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Лапшина Ольга Сергеев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394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0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5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5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5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1700280"/>
            <a:ext cx="4097160" cy="1317600"/>
          </a:xfrm>
          <a:prstGeom prst="rect">
            <a:avLst/>
          </a:prstGeom>
          <a:ln w="0">
            <a:noFill/>
          </a:ln>
        </p:spPr>
      </p:pic>
      <p:pic>
        <p:nvPicPr>
          <p:cNvPr id="409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2320" y="2200320"/>
            <a:ext cx="3170520" cy="1676520"/>
          </a:xfrm>
          <a:prstGeom prst="rect">
            <a:avLst/>
          </a:prstGeom>
          <a:ln w="0">
            <a:noFill/>
          </a:ln>
        </p:spPr>
      </p:pic>
      <p:pic>
        <p:nvPicPr>
          <p:cNvPr id="41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46480" y="1695600"/>
            <a:ext cx="3524040" cy="1176120"/>
          </a:xfrm>
          <a:prstGeom prst="rect">
            <a:avLst/>
          </a:prstGeom>
          <a:ln w="0">
            <a:noFill/>
          </a:ln>
        </p:spPr>
      </p:pic>
      <p:pic>
        <p:nvPicPr>
          <p:cNvPr id="411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06400" y="3054240"/>
            <a:ext cx="4310280" cy="1176480"/>
          </a:xfrm>
          <a:prstGeom prst="rect">
            <a:avLst/>
          </a:prstGeom>
          <a:ln w="0">
            <a:noFill/>
          </a:ln>
        </p:spPr>
      </p:pic>
      <p:pic>
        <p:nvPicPr>
          <p:cNvPr id="412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3200" y="2163600"/>
            <a:ext cx="3164040" cy="167652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1994040" y="2981160"/>
            <a:ext cx="3809880" cy="124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0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8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3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3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4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92852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5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9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4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4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800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800" fill="hold"/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4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4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800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0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2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26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4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31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0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500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7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5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900" dur="indefinite" restart="never" nodeType="tmRoot">
          <p:childTnLst>
            <p:seq>
              <p:cTn id="901" dur="indefinite" nodeType="mainSeq">
                <p:childTnLst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0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0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0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20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 fill="hold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2000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2000" fill="hold"/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2000" fill="hold"/>
                                        <p:tgtEl>
                                          <p:spTgt spid="4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4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500"/>
                                        <p:tgtEl>
                                          <p:spTgt spid="4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500"/>
                                        <p:tgtEl>
                                          <p:spTgt spid="4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3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43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nodeType="clickEffect" fill="hold">
                      <p:stCondLst>
                        <p:cond delay="indefinite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4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44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44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44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44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6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with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6" dur="20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20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4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ПОЛЬЗОВАННЫЕ РЕСУР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pedsovet.su/load/321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фон для слайдов презентации,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slavna.ucoz.ru/photo/skazki/5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иллюстрации к сказкам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2. Пособие «Внеклассные мероприятия». Авт. –сост. О.Е .Жиренко, Л.Н. Яровая, Л.П. Барылкина и др. – 3 –е изд. М.: ВАКО, 2010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3. Пособие «Группа продлённого дня» 1 – 2 классы/ Авт. –сост.Л.И.Гайдина, А.В. Кочергина.-М.:ВАКО, 2010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4. Пособие «Литературные игры для детей». Агапова И.А., Давыдов М.А.  М.:ООО ИКТЦ «Лада», 2006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5. </a:t>
            </a:r>
            <a:r>
              <a:rPr b="0" lang="de-DE" sz="1800" spc="-1" strike="noStrike" u="sng">
                <a:solidFill>
                  <a:srgbClr val="d2611c"/>
                </a:solidFill>
                <a:uFillTx/>
                <a:latin typeface="Century Schoolbook"/>
                <a:hlinkClick r:id="rId4"/>
              </a:rPr>
              <a:t>http://festival.1september.ru/articles/521177/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викторина «Путешествие по сказкам» 1 класс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6.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n-US" sz="1800" spc="-1" strike="noStrike" u="sng">
                <a:solidFill>
                  <a:srgbClr val="d2611c"/>
                </a:solidFill>
                <a:uFillTx/>
                <a:latin typeface="Century Schoolbook"/>
                <a:hlinkClick r:id="rId5"/>
              </a:rPr>
              <a:t>http://klasnaocinka.com.ua/ru/article/viktorina--v-gostyakh-u-skazki-1-klass.html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- викторина «В гостях у сказки»  1 класс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0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1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4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5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8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284720" y="1424160"/>
            <a:ext cx="45352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3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/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203640" y="1484280"/>
            <a:ext cx="525600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0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8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4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/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7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7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7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/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0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3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3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3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8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8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3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386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Анна</cp:lastModifiedBy>
  <dcterms:modified xsi:type="dcterms:W3CDTF">2013-08-07T13:22:53Z</dcterms:modified>
  <cp:revision>62</cp:revision>
  <dc:subject/>
  <dc:title>Слайд 1</dc:title>
</cp:coreProperties>
</file>