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DAB-7A52-4806-9D6E-334FE4C7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058-3930-4997-B2F6-15AFE9FD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BA0-FC0F-4F34-BEB4-D1C9E0B4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3E6-7A8F-4426-A276-CE7EA1A4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7461-3124-4C42-8017-305D8989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E745-1F2A-48D6-B209-6B0477BA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A957-266B-4E21-B68B-A2016F0A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8E62-F62A-46E7-934F-141F89D9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CBB8-D5BD-4CDD-92A4-CCDCD401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848B-2C36-453B-8147-883B0C39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74EC-739F-454D-BE07-5B2317AA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E8FF-4D17-4AB4-9313-870310FB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3028-1474-4111-BED6-9B97DADF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BC24-480A-4442-9F22-CCCC6F53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82E1-B06B-454D-A98F-39E3341B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EF9C-ED0E-441F-B8AF-3F6B3CEB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B11B-4167-4F2C-A0BE-D596A122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02E-24E1-47FB-B579-FD7E5BE1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446-106F-4390-8285-065F07D0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376-4A11-4E98-9EFC-03EE0E59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F35-BDDE-4191-9F55-5084DFCC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245-F3E6-4E4C-926E-67D9F478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6CB-62BE-4772-8F51-3DED9269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4EE-59B2-4F19-BA9E-FF93037D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8713-01EF-44D5-8039-1C529859FB3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241A-610A-433B-9188-760405F6F95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adik400.edu.kh.ua/files2/images/bezopasnost.jpg?size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униципальное общеобразовательное учреждени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«Средняя общеобразовательная школа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с. Терса Вольского район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Саратовской области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6961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Учитель начальных класс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Граблина Юлия Юрь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Расшифруйте письмо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«5,6,20, 10! 2,21,5,30,20,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6,19,20,16,18,16,8,15,29  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6,4,15,7,14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«Дети! Будьте осторожны с огнем!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532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Тема: «Осторожно – огонь!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i-main-pic" descr="Картинка 1 из 599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060640"/>
            <a:ext cx="4824360" cy="3981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ичины возникновения пожа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i-main-pic" descr="Картинка 16 из 59967"/>
          <p:cNvPicPr/>
          <p:nvPr/>
        </p:nvPicPr>
        <p:blipFill>
          <a:blip r:embed="rId1"/>
          <a:stretch/>
        </p:blipFill>
        <p:spPr>
          <a:xfrm>
            <a:off x="0" y="1052640"/>
            <a:ext cx="303228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i-main-pic" descr="Картинка 8 из 27473"/>
          <p:cNvPicPr/>
          <p:nvPr/>
        </p:nvPicPr>
        <p:blipFill>
          <a:blip r:embed="rId2"/>
          <a:stretch/>
        </p:blipFill>
        <p:spPr>
          <a:xfrm>
            <a:off x="2771640" y="3117960"/>
            <a:ext cx="2952720" cy="3740040"/>
          </a:xfrm>
          <a:prstGeom prst="rect">
            <a:avLst/>
          </a:prstGeom>
          <a:ln w="0">
            <a:noFill/>
          </a:ln>
        </p:spPr>
      </p:pic>
      <p:pic>
        <p:nvPicPr>
          <p:cNvPr id="118" name="i-main-pic" descr="Картинка 5 из 12410"/>
          <p:cNvPicPr/>
          <p:nvPr/>
        </p:nvPicPr>
        <p:blipFill>
          <a:blip r:embed="rId3"/>
          <a:stretch/>
        </p:blipFill>
        <p:spPr>
          <a:xfrm>
            <a:off x="5651640" y="1628640"/>
            <a:ext cx="3492360" cy="409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помните телефон «01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i-main-pic" descr="Картинка 6 из 59963"/>
          <p:cNvPicPr/>
          <p:nvPr/>
        </p:nvPicPr>
        <p:blipFill>
          <a:blip r:embed="rId1"/>
          <a:stretch/>
        </p:blipFill>
        <p:spPr>
          <a:xfrm>
            <a:off x="1835280" y="1989000"/>
            <a:ext cx="6121440" cy="4032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Составь пословицу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лик, искра, родит, мала, да, пламень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гонь, хозяин, но, слуга, хороший, плох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ка, туши, искра, и. тогда, пепле, 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гонь, не, выплывешь, не, схватит, в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i-main-pic" descr="Картинка 4 из 59963"/>
          <p:cNvPicPr/>
          <p:nvPr/>
        </p:nvPicPr>
        <p:blipFill>
          <a:blip r:embed="rId1"/>
          <a:stretch/>
        </p:blipFill>
        <p:spPr>
          <a:xfrm>
            <a:off x="4654440" y="3500280"/>
            <a:ext cx="44895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Скороговорки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748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*Уголек из печки скок и поджег половичо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* Шалун со спичками шалил, шалун в больницу угоди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* Уголек в уголок принеси, в уголке уголек потуш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Будьте осторожны!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пасибо за внимание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Рисунок 28" descr="http://forum.materinstvo.ru/uploads/1269774009/post-34172-1269794890.png"/>
          <p:cNvPicPr/>
          <p:nvPr/>
        </p:nvPicPr>
        <p:blipFill>
          <a:blip r:embed="rId1"/>
          <a:stretch/>
        </p:blipFill>
        <p:spPr>
          <a:xfrm>
            <a:off x="2268360" y="2133720"/>
            <a:ext cx="57596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4:08:14Z</dcterms:created>
  <dc:creator>DNA7 X64</dc:creator>
  <dc:description/>
  <dc:language>en-US</dc:language>
  <cp:lastModifiedBy>DNA7 X64</cp:lastModifiedBy>
  <dcterms:modified xsi:type="dcterms:W3CDTF">2010-09-21T15:27:51Z</dcterms:modified>
  <cp:revision>3</cp:revision>
  <dc:subject/>
  <dc:title>Муниципальное общеобразовательное учреждение  «Средняя общеобразовательная школа  с. Терса Вольского района  Саратовской области»</dc:title>
</cp:coreProperties>
</file>