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F43-A3A2-45DB-8E59-314A0954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132-1066-49D9-92FA-5581F0C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0A6-BBB0-40D4-AFBD-5D8BEA6F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425-5F7F-4FAA-8D89-17FED7D5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0D7-A3A3-4D0B-B242-5D8E1AC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D5B-E7E8-4552-802F-16DF2E2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A92-52AF-4346-B9FF-0FD86AAC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C2C-CC2C-4C0D-B606-1CCCBECC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533-16CD-44F3-B68A-6BB799D1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E67-94D7-49A9-834B-8C2EDC2D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568-CD50-469E-888E-F2B81920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5BC-4913-4401-8D16-232E687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D12D-7805-44AE-A1F4-8136D9D2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133720"/>
            <a:ext cx="856944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92360" y="620640"/>
            <a:ext cx="5616360" cy="299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курс капит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132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67640" y="566100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625320" cy="71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076720" y="5157720"/>
            <a:ext cx="62568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411280" y="5229360"/>
            <a:ext cx="625680" cy="71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843280" y="83664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648320" cy="544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55640" y="260280"/>
            <a:ext cx="540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сбер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258920" y="1484280"/>
            <a:ext cx="684216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58920" y="198900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трой корабли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24720" y="5734080"/>
            <a:ext cx="4777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260280"/>
            <a:ext cx="73454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 на корабл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лдат на корабле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ар на корабле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андир на корабле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но на корабле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ната на корабле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бойники морей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ря на море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565200" cy="64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88000" y="3357720"/>
            <a:ext cx="5652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4360" y="765000"/>
            <a:ext cx="8064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груз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96360" y="5589720"/>
            <a:ext cx="626760" cy="72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88000" y="342900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003640" y="5300640"/>
            <a:ext cx="6271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 rot="20675400">
            <a:off x="1116000" y="1915920"/>
            <a:ext cx="7343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67640" y="566100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625320" cy="71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43280" y="5445000"/>
            <a:ext cx="625680" cy="71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484360" y="5229360"/>
            <a:ext cx="6256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9:50:32Z</dcterms:created>
  <dc:creator>User</dc:creator>
  <dc:description/>
  <dc:language>en-US</dc:language>
  <cp:lastModifiedBy>User</cp:lastModifiedBy>
  <dcterms:modified xsi:type="dcterms:W3CDTF">2012-02-21T20:26:46Z</dcterms:modified>
  <cp:revision>2</cp:revision>
  <dc:subject/>
  <dc:title>Слайд 1</dc:title>
</cp:coreProperties>
</file>