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3F2-593F-439C-9937-117FD5A9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9D1-1631-4BF0-A254-0096487E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E3C-4FA1-4613-951A-AE579B36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3E6-38DF-469C-B51D-207E643E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CF5C-E4D6-48B4-828C-78810010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A77A-A290-4D35-A495-A0D6191A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3E02-B1C0-4D3A-8D17-9203D0DC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070-1D30-4097-9CEE-D8995A61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0CA1-118C-47E8-A4BC-E1B4F15D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C8FF-93C9-4874-890C-6CE2C169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7674-2442-4810-80C6-3BA034A8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050-286A-46B8-A014-821E1A07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C061-B10C-48BC-8793-E3B34B8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7548-F460-4685-B454-1DB8D98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6F6F-FD8F-40D2-A2D9-1C42A2F1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6114-7296-44A1-83FB-5B6207C1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5B06-BA30-4C1D-BBD9-C3C502FA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F8D6-86F8-476A-B899-5E4A04B9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FB5E-597B-4CA5-AED0-5AB9DE58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A115-284C-4225-8655-60E570F9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CAD3-4236-4781-A9C5-6140A032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1372-BB62-47E2-8143-CBC6BEC7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5E1-D2BD-4EEB-9E9B-73500E68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C2CB-E0FA-4D34-8C2A-FA612181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6BD3-07A8-44EC-8B24-33BB147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34F4-48D4-40B5-B0D4-85CD496D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E2BD-83F9-4119-A17D-9EC91367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7DC1-7552-4918-B57D-7270A87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8C51-3BE2-4AD4-92EB-0FD5B3B3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4D0A-F6B6-4E82-9852-AF786332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55DD-3114-442C-B938-5F28E5BD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BB370-1D1C-49D9-B427-CAAD8CB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72A3-51D1-42A9-99E5-0CD0D713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3DD-A36C-4CF1-8EB5-B78367E8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34E4-1FD3-4518-A55A-7D0B43E8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2F51-EC55-4D39-A24E-5A8D921E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479B-D337-4B47-9441-0F8ABEE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ED492-D3AB-43BA-8201-2D8C3FB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24A8-553C-4058-86D2-9B7783A1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C6F4A-9E89-4A05-BC8C-478AAD75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071C0-F41C-46FF-9805-047C944F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CAE8-D59B-4E8E-A6EB-432DBF49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166C-782B-456A-89FE-4614DAD2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4AE62-A6F3-4A29-8754-1402FDA8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04E-80C7-4C09-82A1-103803C5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C70D-4727-4C12-A43F-EAD28062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E8C0-3F94-4CC3-B411-7E9A7FB9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78DFB-B474-4171-8FFD-1139BF0D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945B-32C0-49F4-B295-88D5335F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E35C7-5E76-43B1-9531-5C0B44D1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77AD4-D635-421D-A848-788880F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E4BB-4510-4636-B710-B7C6702E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2B658-B19F-4BCF-97A5-1901554B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53709-BB21-461C-9D0F-9717B6B9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90068-A99C-4079-99A5-F385E779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1BE-ED36-46AB-93A6-68B3321B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ADA06-213C-46DB-82E3-1767002E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CFBB2-D709-4B84-B646-946B9DA5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4644-4ECC-43DA-BB4D-F0DDC633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C933-E65B-4A24-A767-375E4865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92527-58BC-48B6-A1D3-1219D03D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D9E63-4A5F-4C6D-B292-2E62101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ED91-3D05-4F2D-9005-59E0B63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41110-3EF8-4E32-A285-AACCE58F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53955-B9E9-465D-BD16-C36E9BDC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81900-F1F1-4D38-BF5F-39C2320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3A1-F6AA-4A98-9E69-8AD420F9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86C9-1B03-454B-A646-48A0EE73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399EB-4763-4357-963B-175D427F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1D511-ED2B-4BA1-8458-DF23C441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D6F1-C79C-4F49-86A2-D3FEB454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13654-DD18-486C-8B9C-61A2F958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9C6C4-021E-46D1-B1D4-118B7674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53D4E-2C35-4E59-837D-CF9C7DF9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8EB50-801E-48CB-B3F1-8782C258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470D6-61DF-4BFF-AE1A-7E7007AC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4E83C-9C13-403F-A8E7-DBA8CAD3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1F7-74C1-4FD2-8BDF-EF22ABD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2B18-CED9-4A3D-BA43-EC00FC9D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763FF-237B-4200-AFA8-D0C366BD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C4F7-613F-4C49-87DA-5F8A12B0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5F2E0-3110-428F-AFFC-2D726C8F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D5A6-502E-469B-9B14-8278F410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C6D-299C-4B2E-80C5-4CF0475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E0EC-5B9A-4995-BB9A-2A29FBCA2E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3CD8-3261-43ED-B746-157E1896F2F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6207-BAC1-4F06-B58F-C3A2292C32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2FDB-D9AD-42F5-A237-1C27847717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EBCC-740E-4688-86BA-B71F8BEEF0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9511-05D4-45BC-AB3D-373D6858DDB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CDA2-A7FE-4536-9382-E834AD3790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kaspb.ru/?do=photo&amp;otherpixsize=1280&amp;q=50&amp;w=1&amp;id=023413200912116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&#1051;&#1077;&#1074;%20&#1051;&#1077;&#1097;&#1077;&#1085;&#1082;&#1086;%20-%20&#1056;&#1086;&#1076;&#1080;&#1090;&#1077;&#1083;&#1100;&#1089;&#1082;&#1080;&#1081;%20&#1076;&#1086;&#1084;1.mp3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93400" y="259920"/>
            <a:ext cx="7405560" cy="3481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i="1" lang="ru-RU" sz="4900" spc="-1" strike="noStrike">
                <a:solidFill>
                  <a:srgbClr val="ff0000"/>
                </a:solidFill>
                <a:latin typeface="Corbel"/>
              </a:rPr>
              <a:t>«Как хорошо, что есть семья, которая от бед любых всегда, везде хранит меня…»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Прямоугольник 4"/>
          <p:cNvSpPr/>
          <p:nvPr/>
        </p:nvSpPr>
        <p:spPr>
          <a:xfrm>
            <a:off x="2340000" y="245916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ru-RU" sz="9600" spc="-1" strike="noStrike">
                <a:solidFill>
                  <a:srgbClr val="7030a0"/>
                </a:solidFill>
                <a:latin typeface="Corbel"/>
              </a:rPr>
              <a:t>7 и я</a:t>
            </a: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  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C:\Users\учитель\Desktop\7.jpg"/>
          <p:cNvPicPr/>
          <p:nvPr/>
        </p:nvPicPr>
        <p:blipFill>
          <a:blip r:embed="rId1"/>
          <a:stretch/>
        </p:blipFill>
        <p:spPr>
          <a:xfrm>
            <a:off x="1979640" y="3068640"/>
            <a:ext cx="5832360" cy="36640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Содержимое 3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245360" cy="4014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МЬЯ</a:t>
            </a:r>
            <a:endParaRPr b="0" lang="en-US" sz="9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&amp;scy;&amp;iecy;&amp;mcy;&amp;softcy;&amp;yacy;&amp;scy;&amp;acy;&amp;rcy;&amp;acy;&amp;ncy;&amp;scy;&amp;kcy;"/>
          <p:cNvPicPr/>
          <p:nvPr/>
        </p:nvPicPr>
        <p:blipFill>
          <a:blip r:embed="rId1"/>
          <a:stretch/>
        </p:blipFill>
        <p:spPr>
          <a:xfrm>
            <a:off x="2786040" y="1773360"/>
            <a:ext cx="4572000" cy="3941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323" name="TextBox 4"/>
          <p:cNvSpPr/>
          <p:nvPr/>
        </p:nvSpPr>
        <p:spPr>
          <a:xfrm>
            <a:off x="3714840" y="5786280"/>
            <a:ext cx="29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мятник семье в Саранск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РУЖНАЯ СЕМЬЯ</a:t>
            </a:r>
            <a:br>
              <a:rPr sz="6000"/>
            </a:b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7" descr="Картинка 10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437000"/>
            <a:ext cx="3384360" cy="223200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326" name="Picture 12" descr="023413200912113"/>
          <p:cNvPicPr/>
          <p:nvPr/>
        </p:nvPicPr>
        <p:blipFill>
          <a:blip r:embed="rId3"/>
          <a:stretch/>
        </p:blipFill>
        <p:spPr>
          <a:xfrm>
            <a:off x="1255680" y="1365120"/>
            <a:ext cx="3774960" cy="28288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327" name="Picture 5" descr="C:\Users\учитель\Desktop\кл час Семья\43.jpg"/>
          <p:cNvPicPr/>
          <p:nvPr/>
        </p:nvPicPr>
        <p:blipFill>
          <a:blip r:embed="rId4"/>
          <a:stretch/>
        </p:blipFill>
        <p:spPr>
          <a:xfrm>
            <a:off x="1273320" y="4437000"/>
            <a:ext cx="3757320" cy="2232000"/>
          </a:xfrm>
          <a:prstGeom prst="rect">
            <a:avLst/>
          </a:prstGeom>
          <a:ln w="28440">
            <a:solidFill>
              <a:srgbClr val="3891a7"/>
            </a:solidFill>
            <a:miter/>
          </a:ln>
        </p:spPr>
      </p:pic>
      <p:pic>
        <p:nvPicPr>
          <p:cNvPr id="328" name="Picture 4" descr="a4c73279e816"/>
          <p:cNvPicPr/>
          <p:nvPr/>
        </p:nvPicPr>
        <p:blipFill>
          <a:blip r:embed="rId5"/>
          <a:stretch/>
        </p:blipFill>
        <p:spPr>
          <a:xfrm>
            <a:off x="5435640" y="1365120"/>
            <a:ext cx="3384360" cy="2770200"/>
          </a:xfrm>
          <a:prstGeom prst="rect">
            <a:avLst/>
          </a:prstGeom>
          <a:ln w="2844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0" y="-36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7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дружной семье                         хорошие дети расту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хорошей семье                            и в холод теп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5"/>
          <p:cNvSpPr/>
          <p:nvPr/>
        </p:nvSpPr>
        <p:spPr>
          <a:xfrm>
            <a:off x="3203640" y="1557360"/>
            <a:ext cx="2160360" cy="21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Прямая соединительная линия 7"/>
          <p:cNvSpPr/>
          <p:nvPr/>
        </p:nvSpPr>
        <p:spPr>
          <a:xfrm flipV="1">
            <a:off x="3203640" y="1557000"/>
            <a:ext cx="1944720" cy="21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2" descr="C:\Users\учитель\Desktop\2.jpg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68800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C:\Users\учитель\Desktop\PICT3974.JPG"/>
          <p:cNvPicPr/>
          <p:nvPr/>
        </p:nvPicPr>
        <p:blipFill>
          <a:blip r:embed="rId1"/>
          <a:srcRect l="3681" t="10779" r="3181" b="0"/>
          <a:stretch/>
        </p:blipFill>
        <p:spPr>
          <a:xfrm>
            <a:off x="179280" y="692280"/>
            <a:ext cx="3353040" cy="240984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334" name="Picture 3" descr="C:\Users\учитель\Desktop\PICT3976.JPG"/>
          <p:cNvPicPr/>
          <p:nvPr/>
        </p:nvPicPr>
        <p:blipFill>
          <a:blip r:embed="rId2"/>
          <a:srcRect l="5738" t="7416" r="6639" b="3485"/>
          <a:stretch/>
        </p:blipFill>
        <p:spPr>
          <a:xfrm>
            <a:off x="3203640" y="0"/>
            <a:ext cx="2592360" cy="280836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335" name="Picture 4" descr="C:\Users\учитель\Desktop\PICT3973.JPG"/>
          <p:cNvPicPr/>
          <p:nvPr/>
        </p:nvPicPr>
        <p:blipFill>
          <a:blip r:embed="rId3"/>
          <a:srcRect l="0" t="5197" r="0" b="0"/>
          <a:stretch/>
        </p:blipFill>
        <p:spPr>
          <a:xfrm>
            <a:off x="468360" y="3789360"/>
            <a:ext cx="3600360" cy="255888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336" name="Picture 5" descr="C:\Users\учитель\Desktop\PICT3972.JPG"/>
          <p:cNvPicPr/>
          <p:nvPr/>
        </p:nvPicPr>
        <p:blipFill>
          <a:blip r:embed="rId4"/>
          <a:srcRect l="2961" t="8741" r="7532" b="17628"/>
          <a:stretch/>
        </p:blipFill>
        <p:spPr>
          <a:xfrm>
            <a:off x="3603600" y="2525760"/>
            <a:ext cx="3222720" cy="19890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337" name="Picture 6" descr="C:\Users\учитель\Desktop\PICT3977.JPG"/>
          <p:cNvPicPr/>
          <p:nvPr/>
        </p:nvPicPr>
        <p:blipFill>
          <a:blip r:embed="rId5"/>
          <a:srcRect l="9452" t="14084" r="7502" b="8434"/>
          <a:stretch/>
        </p:blipFill>
        <p:spPr>
          <a:xfrm>
            <a:off x="5508720" y="260280"/>
            <a:ext cx="2989080" cy="209232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338" name="Picture 7" descr="C:\Users\учитель\Desktop\PICT3978.JPG"/>
          <p:cNvPicPr/>
          <p:nvPr/>
        </p:nvPicPr>
        <p:blipFill>
          <a:blip r:embed="rId6"/>
          <a:srcRect l="7582" t="9647" r="6421" b="6782"/>
          <a:stretch/>
        </p:blipFill>
        <p:spPr>
          <a:xfrm>
            <a:off x="5292720" y="4602240"/>
            <a:ext cx="3095640" cy="225576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339" name="Picture 8" descr="C:\Users\учитель\Desktop\PICT3971.JPG"/>
          <p:cNvPicPr/>
          <p:nvPr/>
        </p:nvPicPr>
        <p:blipFill>
          <a:blip r:embed="rId7"/>
          <a:srcRect l="23605" t="8181" r="17133" b="5290"/>
          <a:stretch/>
        </p:blipFill>
        <p:spPr>
          <a:xfrm>
            <a:off x="6802560" y="1897200"/>
            <a:ext cx="2133360" cy="233676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340" name="Picture 9" descr="C:\Users\учитель\Desktop\PICT3969.JPG"/>
          <p:cNvPicPr/>
          <p:nvPr/>
        </p:nvPicPr>
        <p:blipFill>
          <a:blip r:embed="rId8"/>
          <a:srcRect l="4421" t="6156" r="0" b="5690"/>
          <a:stretch/>
        </p:blipFill>
        <p:spPr>
          <a:xfrm>
            <a:off x="5686560" y="4443480"/>
            <a:ext cx="3441600" cy="23796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341" name="Picture 10" descr="C:\Users\учитель\Desktop\PICT3970.JPG"/>
          <p:cNvPicPr/>
          <p:nvPr/>
        </p:nvPicPr>
        <p:blipFill>
          <a:blip r:embed="rId9"/>
          <a:srcRect l="7652" t="8608" r="5391" b="12219"/>
          <a:stretch/>
        </p:blipFill>
        <p:spPr>
          <a:xfrm>
            <a:off x="1692360" y="4719600"/>
            <a:ext cx="3130560" cy="21384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342" name="Picture 11" descr="C:\Users\учитель\Desktop\PICT3975.JPG"/>
          <p:cNvPicPr/>
          <p:nvPr/>
        </p:nvPicPr>
        <p:blipFill>
          <a:blip r:embed="rId10"/>
          <a:srcRect l="5701" t="10953" r="0" b="8634"/>
          <a:stretch/>
        </p:blipFill>
        <p:spPr>
          <a:xfrm>
            <a:off x="3192480" y="1897200"/>
            <a:ext cx="3395520" cy="217008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b81088"/>
                </a:solidFill>
                <a:latin typeface="Corbel"/>
              </a:rPr>
              <a:t>Памятка для будущих пап и мам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Заголовок 1"/>
          <p:cNvSpPr/>
          <p:nvPr/>
        </p:nvSpPr>
        <p:spPr>
          <a:xfrm>
            <a:off x="2050920" y="1197000"/>
            <a:ext cx="187344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Добр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Собранн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Трудолюбив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Серьёзн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Честн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Скромн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Смел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Сильн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Заботлив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Верный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Хозяйственн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Мужественн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orbel"/>
              </a:rPr>
              <a:t>Шустрый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Заголовок 1"/>
          <p:cNvSpPr/>
          <p:nvPr/>
        </p:nvSpPr>
        <p:spPr>
          <a:xfrm>
            <a:off x="6012000" y="1766880"/>
            <a:ext cx="23540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Весёл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Остроум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Уверен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Решитель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Добр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Отзывчив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Доброжелатель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Заботлив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Вниматель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Умная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Ласков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Дружелюб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Требователь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Гостеприим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Щедр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Справедлив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Чест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Любящ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Неж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Чистоплот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Мил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Ответствен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Corbel"/>
              </a:rPr>
              <a:t>Самостоятельна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2" descr="C:\Users\учитель\Desktop\4.jpg"/>
          <p:cNvPicPr/>
          <p:nvPr/>
        </p:nvPicPr>
        <p:blipFill>
          <a:blip r:embed="rId1"/>
          <a:stretch/>
        </p:blipFill>
        <p:spPr>
          <a:xfrm>
            <a:off x="1763640" y="4338720"/>
            <a:ext cx="3457800" cy="2309760"/>
          </a:xfrm>
          <a:prstGeom prst="rect">
            <a:avLst/>
          </a:prstGeom>
          <a:ln w="28440">
            <a:solidFill>
              <a:srgbClr val="b8108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rbel"/>
              </a:rPr>
              <a:t>РОДИТЕЛИ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C:\Users\учитель\Desktop\3.jpg"/>
          <p:cNvPicPr/>
          <p:nvPr/>
        </p:nvPicPr>
        <p:blipFill>
          <a:blip r:embed="rId1"/>
          <a:stretch/>
        </p:blipFill>
        <p:spPr>
          <a:xfrm>
            <a:off x="1604880" y="2421000"/>
            <a:ext cx="6639120" cy="3529080"/>
          </a:xfrm>
          <a:prstGeom prst="rect">
            <a:avLst/>
          </a:prstGeom>
          <a:ln w="28440">
            <a:solidFill>
              <a:srgbClr val="3891a7"/>
            </a:solidFill>
            <a:miter/>
          </a:ln>
        </p:spPr>
      </p:pic>
      <p:sp>
        <p:nvSpPr>
          <p:cNvPr id="349" name="Прямоугольник 1"/>
          <p:cNvSpPr/>
          <p:nvPr/>
        </p:nvSpPr>
        <p:spPr>
          <a:xfrm>
            <a:off x="1085760" y="175896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ill Sans MT"/>
              </a:rPr>
              <a:t>РОД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430720" y="17589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ill Sans MT"/>
              </a:rPr>
              <a:t>ДЕТ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Прямоугольник 5"/>
          <p:cNvSpPr/>
          <p:nvPr/>
        </p:nvSpPr>
        <p:spPr>
          <a:xfrm>
            <a:off x="5796000" y="17701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ill Sans MT"/>
              </a:rPr>
              <a:t>ЕЛ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7238520" y="175896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ill Sans MT"/>
              </a:rPr>
              <a:t>ТИР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Прямоугольник 7"/>
          <p:cNvSpPr/>
          <p:nvPr/>
        </p:nvSpPr>
        <p:spPr>
          <a:xfrm>
            <a:off x="4056480" y="175896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ill Sans MT"/>
              </a:rPr>
              <a:t>ЛЕТ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Прямоугольник 8"/>
          <p:cNvSpPr/>
          <p:nvPr/>
        </p:nvSpPr>
        <p:spPr>
          <a:xfrm>
            <a:off x="6498360" y="6234120"/>
            <a:ext cx="226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Родительский до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32000" y="907920"/>
            <a:ext cx="75484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b81088"/>
                </a:solidFill>
                <a:latin typeface="Corbel"/>
              </a:rPr>
              <a:t>Наша дружная семья:</a:t>
            </a:r>
            <a:br>
              <a:rPr sz="4300"/>
            </a:br>
            <a:r>
              <a:rPr b="1" lang="ru-RU" sz="4300" spc="-1" strike="noStrike">
                <a:solidFill>
                  <a:srgbClr val="b81088"/>
                </a:solidFill>
                <a:latin typeface="Corbel"/>
              </a:rPr>
              <a:t>Мама, папа, брат и я.</a:t>
            </a:r>
            <a:br>
              <a:rPr sz="4300"/>
            </a:br>
            <a:r>
              <a:rPr b="1" lang="ru-RU" sz="4300" spc="-1" strike="noStrike">
                <a:solidFill>
                  <a:srgbClr val="b81088"/>
                </a:solidFill>
                <a:latin typeface="Corbel"/>
              </a:rPr>
              <a:t>Спортом любим заниматься,</a:t>
            </a:r>
            <a:br>
              <a:rPr sz="4300"/>
            </a:br>
            <a:r>
              <a:rPr b="1" lang="ru-RU" sz="4300" spc="-1" strike="noStrike">
                <a:solidFill>
                  <a:srgbClr val="b81088"/>
                </a:solidFill>
                <a:latin typeface="Corbel"/>
              </a:rPr>
              <a:t>И, конечно, закаляться.</a:t>
            </a:r>
            <a:br>
              <a:rPr sz="4300"/>
            </a:br>
            <a:r>
              <a:rPr b="1" lang="ru-RU" sz="4300" spc="-1" strike="noStrike">
                <a:solidFill>
                  <a:srgbClr val="b81088"/>
                </a:solidFill>
                <a:latin typeface="Corbel"/>
              </a:rPr>
              <a:t>Мы – счастливая семья, </a:t>
            </a:r>
            <a:br>
              <a:rPr sz="4300"/>
            </a:br>
            <a:r>
              <a:rPr b="1" lang="ru-RU" sz="4300" spc="-1" strike="noStrike">
                <a:solidFill>
                  <a:srgbClr val="b81088"/>
                </a:solidFill>
                <a:latin typeface="Corbel"/>
              </a:rPr>
              <a:t>Мама, папа,  брат и я.</a:t>
            </a: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C:\Users\учитель\Desktop\Tri-porosenka-16.jpg"/>
          <p:cNvPicPr/>
          <p:nvPr/>
        </p:nvPicPr>
        <p:blipFill>
          <a:blip r:embed="rId1"/>
          <a:srcRect l="31181" t="0" r="0" b="0"/>
          <a:stretch/>
        </p:blipFill>
        <p:spPr>
          <a:xfrm>
            <a:off x="250920" y="189000"/>
            <a:ext cx="3384360" cy="345924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357" name="Picture 4" descr="C:\Users\учитель\Desktop\i (1).jpg"/>
          <p:cNvPicPr/>
          <p:nvPr/>
        </p:nvPicPr>
        <p:blipFill>
          <a:blip r:embed="rId2"/>
          <a:stretch/>
        </p:blipFill>
        <p:spPr>
          <a:xfrm>
            <a:off x="3924360" y="189000"/>
            <a:ext cx="3952800" cy="387972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358" name="Picture 3" descr="C:\Users\учитель\Desktop\i.jpg"/>
          <p:cNvPicPr/>
          <p:nvPr/>
        </p:nvPicPr>
        <p:blipFill>
          <a:blip r:embed="rId3"/>
          <a:stretch/>
        </p:blipFill>
        <p:spPr>
          <a:xfrm>
            <a:off x="2484360" y="3068640"/>
            <a:ext cx="4619880" cy="35290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9:10:52Z</dcterms:created>
  <dc:creator>Алёна</dc:creator>
  <dc:description/>
  <dc:language>en-US</dc:language>
  <cp:lastModifiedBy>учитель</cp:lastModifiedBy>
  <dcterms:modified xsi:type="dcterms:W3CDTF">2013-05-01T08:00:38Z</dcterms:modified>
  <cp:revision>37</cp:revision>
  <dc:subject/>
  <dc:title>Первое сентября</dc:title>
</cp:coreProperties>
</file>