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992-A949-45E2-9243-0734B646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785-9B13-4730-AE73-CE253D72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7F3-BCEA-426F-A875-FBAF5397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5BC-818A-44F0-BDE3-FEDA673B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CE99-8045-48E1-854A-2CD2FC6D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03AC-24A6-406B-848F-62B697EC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7FFD-5114-493F-97D2-96DDB1A0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A469-05FC-4006-8E83-9E2A9F71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1B3C-2761-4037-A728-FB64E009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6A7-6FC3-452B-89EF-B34E6AA5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445E-93F9-4F5A-905D-018B46A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B31-84FA-4E36-A7E5-8B1A0AF2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455E-533A-480E-A8FC-8604F80A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D708-0CD6-4A49-BB5A-40A1BB83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0FF0-4DB1-4BB5-B7FB-F6979929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E7A8-61CA-4187-905A-1F6C4034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EA86-F15E-4BF5-90DE-963C4369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B46-D1BE-404B-ACA3-6245E183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09A-016E-44BC-8A5B-1FBAAEAA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2D9-9CFF-4FE8-9308-D39B855B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427-695C-4877-8A22-108280FF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1EE-462B-4C7B-ACDC-BB626753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315-947D-47A7-AC80-9CCF0546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961-360A-441E-BD6A-C46FD308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b9b9"/>
            </a:gs>
            <a:gs pos="50000">
              <a:srgbClr val="ccffff"/>
            </a:gs>
            <a:gs pos="100000">
              <a:srgbClr val="94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EA42-088E-4473-BCE9-31B50B220F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b9b9"/>
            </a:gs>
            <a:gs pos="50000">
              <a:srgbClr val="ccffff"/>
            </a:gs>
            <a:gs pos="100000">
              <a:srgbClr val="94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E620-DF9D-452F-A73E-33D6D9FEDA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vzsar.ru/images/news/vzsar_ru_5826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www.photo.ck.ua/data/media/65/transp3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002.radikal.ru/0803/89/e069fe6444db.jpg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www.kanal12.ru/january2008/3101/avariya-b-02.jpg" TargetMode="External"/><Relationship Id="rId10" Type="http://schemas.openxmlformats.org/officeDocument/2006/relationships/image" Target="../media/image7.jpeg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b9b9"/>
            </a:gs>
            <a:gs pos="50000">
              <a:srgbClr val="ccffff"/>
            </a:gs>
            <a:gs pos="100000">
              <a:srgbClr val="94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87280" y="404640"/>
            <a:ext cx="6516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гналы светофо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b9b9"/>
            </a:gs>
            <a:gs pos="50000">
              <a:srgbClr val="ccffff"/>
            </a:gs>
            <a:gs pos="100000">
              <a:srgbClr val="94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1765440" y="333360"/>
            <a:ext cx="1511280" cy="77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8 из 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549360"/>
            <a:ext cx="2363760" cy="1780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2003400" cy="2403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Картинка 26 из 26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8360" y="476280"/>
            <a:ext cx="2765160" cy="2074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Картинка 1 из 5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27280" y="429264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а 17 из 5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940360" y="2997360"/>
            <a:ext cx="2843280" cy="1990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3708360" y="1773360"/>
            <a:ext cx="973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b9b9"/>
            </a:gs>
            <a:gs pos="50000">
              <a:srgbClr val="ccffff"/>
            </a:gs>
            <a:gs pos="100000">
              <a:srgbClr val="94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878360" cy="576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95640" y="6165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Первый светофор в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b9b9"/>
            </a:gs>
            <a:gs pos="50000">
              <a:srgbClr val="ccffff"/>
            </a:gs>
            <a:gs pos="100000">
              <a:srgbClr val="94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2020680" cy="324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19640" y="333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Козырё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0920" y="476280"/>
            <a:ext cx="288000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Картинка 1 из 165"/>
          <p:cNvPicPr/>
          <p:nvPr/>
        </p:nvPicPr>
        <p:blipFill>
          <a:blip r:embed="rId2"/>
          <a:stretch/>
        </p:blipFill>
        <p:spPr>
          <a:xfrm>
            <a:off x="4140360" y="907920"/>
            <a:ext cx="4190760" cy="5589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03640" y="476280"/>
            <a:ext cx="360360" cy="208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82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2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b9b9"/>
            </a:gs>
            <a:gs pos="50000">
              <a:srgbClr val="ccffff"/>
            </a:gs>
            <a:gs pos="100000">
              <a:srgbClr val="94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3440" cy="6265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5219640" y="3860280"/>
            <a:ext cx="79236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48360" y="4149720"/>
            <a:ext cx="352728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050920" y="3933720"/>
            <a:ext cx="3168720" cy="790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476360" y="4149720"/>
            <a:ext cx="374328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b9b9"/>
            </a:gs>
            <a:gs pos="50000">
              <a:srgbClr val="ccffff"/>
            </a:gs>
            <a:gs pos="100000">
              <a:srgbClr val="94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6920" y="4869000"/>
            <a:ext cx="532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Пусть запомнят твёрдо де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Верно поступает то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877000"/>
            <a:ext cx="6049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Кто лишь при зелёном св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Через улицу идё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32720" y="3500280"/>
            <a:ext cx="1307880" cy="201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6337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22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74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38:14Z</dcterms:created>
  <dc:creator>Ниночка</dc:creator>
  <dc:description/>
  <dc:language>en-US</dc:language>
  <cp:lastModifiedBy>12345</cp:lastModifiedBy>
  <dcterms:modified xsi:type="dcterms:W3CDTF">2012-12-05T16:52:33Z</dcterms:modified>
  <cp:revision>18</cp:revision>
  <dc:subject/>
  <dc:title>Слайд 1</dc:title>
</cp:coreProperties>
</file>