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961F-F053-488B-8014-56F43C3F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3DB5-3A51-45C2-B1CC-8B1C55CE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8F9-5131-4030-A7C9-BACA2096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558-A781-433E-84A3-789A076A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F279-641D-4A2D-B792-618A2D0F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4DCE-E735-47BB-8090-63A36E54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23F-381A-4205-AD63-51A0C2E3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23C-5182-44E8-BE4B-63EA67DB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25C1-1576-4E11-9A1B-E5DD3ADE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EA78-D5C4-4246-85F3-47AA1489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DE59-8A14-430C-8858-268ED422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7B4E-4641-45D4-93F4-B82A0FBB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F0DA-8232-464D-A8A7-A2852113C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7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зобразительно-выразительные средства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ка к ЕГЭ. Задание В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йдите синекдоху в предлож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Где даже самый сильный сломается, там гибкий согнется, но выстои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Забыли русский штык и сне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Погребший славу их в пусты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ам нужна крыша над гол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Сто лет не виде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Его зарыли в шар земной, а был он лишь солд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Белеет парус одиноки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 было слышно до рассвета, как ликовал францу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Мильоны – вас. Нас – тьмы, и тьмы, и ть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Мы все глядим в Наполе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Это моя очередь, за мной стояла красная куртка, а передо мной вот этот белый бер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Он готов бегать за каждой юбкой. Подозрительные брюки были уже дале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 слышно было до рассвета, как ликовал францу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равнение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т прием заключается в уподоблении какого-либо явления друг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авнения выражаются различными способ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ворительным падеж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и с каждым днем уходит ды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ой сравнительной степени прилагательного или нареч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душа ее зефира ти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ротами со сравнительными союзами (как, как будто, точно, словно, что, будто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Безумных лет угасшее весел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Мне тяжело, как смутное                                                                 похмел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ксически (при помощи сло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добный, похож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Твои глаза подобны звез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Эпитет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 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художественное, образное определение,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цель которого не столько дать информацию, сколько создать образ, передать отношение  автор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питетами чаще всего бывают прилагательные, но нередко в качестве эпитетов выступают существительные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(волшебница-зима)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наречия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(на севере диком стоит одиноко)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деепричастия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(волны несутся, гремя и свер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питеты условно делят н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зобразительны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выделяют существенные стороны изображаемого)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лирически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выражается отношение автора к изображаемому):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«на мутном небе» и «мелькают образы бездушные люд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фольклоре встречаются постоянные эпитеты: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солнце красное, ветер буйный, добрый молоде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ерифра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перифраза) – оборот, состоящий в замене названия предмета или явления описанием их существенных признаков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царь зверей- лев, Петра творенье- Петербург, Поднебесная - Кита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Найдите перифраз, соответствующий указанным существительны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2590920"/>
            <a:ext cx="228600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666880"/>
            <a:ext cx="20574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у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м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в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б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у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кро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ю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2590920"/>
            <a:ext cx="449568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2666880"/>
            <a:ext cx="47242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аситель Капито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листающая ст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лнце русской поэ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сна человеческой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дая чарод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рнасская боги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томок викингов отваж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лшебный прибор Левенг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кованный к скале Ти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ессмертный творец «Илиа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Гипербол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образное выражение, содержащее непомерное преувеличение размера, силы, значения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итот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выражение, содержащее в противоположность гиперболе, непомерное преуменьшение размера, силы, значения какого-либо я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Определите, гипербола или литота перед 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Петя замолчал и до вечера был тише воды, ниже тра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Ниже тоненькой былиночки надо голову клон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Мальчик с пальч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В сто сорок солнц закат пыл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Я живу в двух шагах от мет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У него ни капли тала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Огурец, величиною с пизанскую башню, стоит на горизо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Редкая птица долетит до середины Днеп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Снег валил с неба пуд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Одни дома длиною до звезд, другие до лу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тилистические фигуры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риторический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риторическое восклиц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инв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парцелля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антит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анаф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эпиф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град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эллипсис…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нтитез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тилистическая фигура, служащая для усиления выразительности речи путем резкого противопоставления понятий, мыслей, образ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йдите антитезу в каждом из данных предложений</a:t>
            </a:r>
            <a:r>
              <a:rPr b="0" lang="en-US" sz="2400" spc="-1" strike="noStrike">
                <a:solidFill>
                  <a:srgbClr val="0b5395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) Кто создан из камня, кто создан из глины,- а я серебрюсь и сверка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2) Путь этот- светы и мраки, посвист разбойный в полян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3) И слезы ей- вода, и кровь- вода,- в крови, в слезах умылась! Не мать, а мачеха   Любовь: не ждите ни суда, ни мил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4) Смотрю в века, живу в минут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5) От других мне хвала- что зола, от тебя и хула- похвала</a:t>
            </a:r>
            <a:r>
              <a:rPr b="0" i="1" lang="en-US" sz="26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Градац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стилистическая фигура, состоящая в таком расположении частей высказывания, при котором каждая последующая заключает в себе усиливающееся или уменьшающееся смысловое или эмоционально- экспрессивное значение, благодаря чему создается нарастание или ослабление производимого ими впечат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дите градацию в предло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Осенью ковыльные степи совершенно изменяются и получают свой особенный, самобытный, ни с чем не сходный в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Я знал красавиц недоступных, холодных, чистых, как зима, неумолимых, неподкупных, непостижимых для у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Светились, горели, сияли огромные голубые гл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Надеюсь, верую: вовеки не придет ко мне позорное благоразум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ри одном предположении подобного случая вы бы должны…испустить ручьи…что я говорю! Реки, озера, океаны слез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версия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стилистическая фигура, состоящая в нарушении обычного порядка слов; перестановка частей фразы придает ей своеобразный выразительный отте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йдите инверсию в предлож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Ярем  он барщины старинной оброком легким замени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Любви безумную тревогу я безотрадно испыта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Обеды задавал он отличны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Руку мне подал на прощань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Сметливость его и тонкость чутья меня порази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Тут сгорел мой приятель со сты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8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04920"/>
            <a:ext cx="77724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иторический вопрос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стилистическая фигура, построение речи, при котором утверждение высказывается в форме вопроса. Риторический вопрос не предполагает ответа, он лишь усиливает эмоциональность высказывания, его выразительность: На кого не действует новизна? (А. Чехо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2209680"/>
            <a:ext cx="8076960" cy="1447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2209680"/>
            <a:ext cx="78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ногосоюзи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стилистическая фигура. Замедляя речь вынужденными паузами, многосоюзие подчеркивает отдельные слова, усиливает ее выразительность:  Я или зарыдаю, или закричу, или в обморок упаду. (А. Чехо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73392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80988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ксюморон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стилистическая фигура, состоящая в соединении двух понятий, противоречащих друг другу, логически исключающих одно другое: горькая радость, звонкая тишина, красноречивое молч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4952880"/>
            <a:ext cx="8153280" cy="1600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4952880"/>
            <a:ext cx="7772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йдите в следующих предложениях примеры оксюмор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И невозможное возможно, дорога долгая лег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Но красоты их безобразной я скоро таинство пости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Грохочет тишина, моих не слыша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Изобразительно-выразительные средства язы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44197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тро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4267080"/>
            <a:ext cx="3581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стилистические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312408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30481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араллелизм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одинаковое синтаксическое построение соседних предложений или отрезков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йдите в следующих предложениях примеры паралле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Эти бедные селенья, эта скудная природа- край родной долготерпенья, край ты русского на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Молятся звезды, мерцают и редеют, молится месяц, плывя по лазури, легкие тучки, свиваясь, не смеют с темной земли к ним притягивать бу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Лениво дышит полдень мглистый, лениво катиться река, и тверди пламенной и чистой лениво тают обл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Гляжу на будущность с боязнью, гляжу на прошлое с то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380880"/>
            <a:ext cx="815328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304920"/>
            <a:ext cx="7848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арцелляц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такое членение предложения, при котором содержание высказывания делится на несколько речевых единиц, следующих одна за другой после разделительной  паузы: С девушкой он скоро поссорился. И вот из-за чего. (Г. Успенский.)  Митрофанов усмехнулся, помешал кофе. Сощурился. (Н. Ильина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981080"/>
            <a:ext cx="8153280" cy="1371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981080"/>
            <a:ext cx="78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нафо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единоначалие ( схема А ... А ...), повтор слова или группы слов в начале некоторых стихов, строф или фраз. («Жара вставала стеной. Жара душила его своими горячими руками. Жара сводила с ума...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429000"/>
            <a:ext cx="8153280" cy="1523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429000"/>
            <a:ext cx="7543800" cy="23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пифор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втор в конце фразы, предложения, строки, строфы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илый друг, и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 этом тихом д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хорадка бьет ме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 найти мне мест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 тихом д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зле мирного огня.   (А.Бло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029200"/>
            <a:ext cx="8153280" cy="1371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181480"/>
            <a:ext cx="7924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надиплоси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дхва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повтор последнего слова (группы слов)  предыдущего предложения в начале следующего. («Тогда он тихонько запел песню. Песню, которой его научила мать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 В каком случае дано неправильное определение троп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Метафора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том, что слово или выражение употребляется в переносном значении на основе сходства двух предметов или явлений по какому-либо признаку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Б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Метоним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— это изобразительный прием, основанный на том, что слово или выражение употребляется в переносном значении на основе смежности двух предметов или явлений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В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Олицетворение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переносе признаков предмета или понятия на живое существо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Г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Сравнение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сопоставлении одного явления или понятия с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 В каком случае дано неправильное определение фигуры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Антитеза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резком противопоставлении противоположных понятий, положений, образов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Б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Анафора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повторении слова или группы слов в конце строк, строф или предложений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В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Инверсия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изменении обычного порядка слов в предложени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Г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Градация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изобразительный прием, основанный на последовательном расположении слов, выражений, тропов (эпитетов, метафор, сравнений) в порядке усиления (возрастания) или ослабления (убывания) призн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 В каком случае дано неправильное определение изобразительно-выразительного средств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Оксюморон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стилистическая фигура, в которой соединяются обычно несовместимые понятия, как правило, противоречащие друг другу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Б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Литота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образное выражение, содержащее непомерное преуменьшение какого-либо признака предмета, явления, действия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В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Парцелляц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— тождественное или сходное построение смежных частей текста: рядом стоящих предложений, стихотворных строк, строф, которые, соотносясь, создают единый образ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Г)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Перифраз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это оборот, который употребляется вместо какого-либо слова или словосоче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 Укажите, к какому типу тропов относится выражение «россыпь звезд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А) метафора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Б) перифраз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В) гипербола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Г) ли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 Укажите, какой троп используется в выражении «Кажется, вся Москва собралась на площади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А) метафора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Б) синекдоха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 В) эпитет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Г) мет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 Укажите, какой троп используется в выражении «не съел ни крош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А) метафора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Б) сравнение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В) гипербола 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Г) ли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Укажите, к какому типу тропов относится выражение «жрецы Фемиды» (о работниках системы правосуд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А) метафора   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Б) перифраз    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В) метонимия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Г) олицет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 Укажите, к какому типу тропов относится выражение «Страна восходящего солнц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А) метафора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Б) метонимия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В) перифраз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Г) гипер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ропам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зываются обороты речи, в которых слово или словосочетание употреблено в переносном значении в целях достижения большей художественной выраз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опами являю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эпит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срав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метаф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олицетвор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метоним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синекдох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перифра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гипербо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лит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 Укажите, какая фигура речи используется в выражении «Богатый и в будни пирует, а бедный и в праздник горюе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А) градация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Б) инверсия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В) оксюморон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 Г) анти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 Укажите, какая фигура речи используется в выражении М. Горького «Над седой равниной моря гордо реет буревестник, черной молнии подобны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  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А) метонимия   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   Б) сравнение    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   В) антитеза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      Г) оксюмо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пределите, какое средство выразительности исполь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471680"/>
            <a:ext cx="41148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мобиль, гудя и встряхиваясь, метался по…дорог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ешных солдат из царских конюхов, сокольничих и даже из юношей изящных фамилий было у Петр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еперь человек тр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ы! Он счастия не ищет и не от счастия бежи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епот, робкое дыханье, трели соловья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182880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А. истор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Б. Лексический по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В. Олиц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Г. Фразеолог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Д. 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4114800"/>
            <a:ext cx="17524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пределите, какое средство выразительности исполь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523880"/>
            <a:ext cx="39625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го зарыли в шар земной, а был он лишь солд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х! Лето красное! Любил бы я тебя, когда б не зной, да пыль, да комары, да мух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ойка! Птица тройка! Кто тебя выдума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гненочком кудрявым месяц гуляет в голубой тра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1523880"/>
            <a:ext cx="32004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А. Вопросо- ответная форма из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Б. Гиперб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В.Многосоюз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Г.Риторический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Д. С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4572000"/>
            <a:ext cx="1981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пределите, какое средство выразительности исполь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1752480"/>
            <a:ext cx="36576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вели лошадей, не понравились они м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жалею, не зову, не плачу, все пройдет, как с белых яблонь д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за свечку – свечка в печку. Я за книжк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а беж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теперь скупее стал в желаньях. Жизнь моя, иль ты приснилась мн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1828800"/>
            <a:ext cx="32004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А. Град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Б. Ин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В. Оксюм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Г. Риторическое обра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Д. Синтаксический паралле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4572000"/>
            <a:ext cx="1524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пределите, какое средство выразительности исполь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1371600"/>
            <a:ext cx="411480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десь барство дикое, без чувства, без Закона, присвоило себе насильственной лозой и труд, и собственность, и время земледель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юбви, надежды, тихой славы недолго нежил нас обман, исчезли юные забавы, как сон, как утренний тума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 вы, хранимые судьбами для сладостных любви наград; любви бесценными слезами благословится ль ваш возвр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свободою горим, пока сердца для чести живы, мой друг, отчизне посвятим души прекрасные порыв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1676520"/>
            <a:ext cx="25909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А.Анти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Б. Лексический по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В. Многосоюз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Г. Риторическое воскл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Д. 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4572000"/>
            <a:ext cx="1143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пределите, какое средство выразительности исполь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432080"/>
            <a:ext cx="441972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янет, вянет лето красно; улетают ясны дни; стелется туман ненастный ночи в дремлющей  т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вижу ль, о друзья! Народ неугнетенный и Рабство, падшее по манию царя, и над отечеством Свободы просвещенной Взойдет ли наконец прекрасная Зар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ра! В Россию скачет кочующий деспот. Спаситель горько плачет, а с ним и весь нар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Я твой  - я променял порочный двор Цирцей, роскошные пиры, забавы, заблужденья на мирный шум дубров, на тишину полей, на праздность вольную, подругу размышлен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1600200"/>
            <a:ext cx="26668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А. Ана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Б. Град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В. Лексический по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Г. Риторический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Д. Сарка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572000"/>
            <a:ext cx="1143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читайте фрагменты рецензии, составленной на основе предлагаемого текста. Вставьте на месте пропусков цифры, соответствующие номеру термина из списк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1) Одна из загадочных и, может быть, трагических особенностей жизни заключается в том, что, вырастая, мы поразительно быстро забываем душевное состояние детства, оттенки этих состояний. (2) В редкие высокие минуты детство в нас оживает. (3) Но ощущаем ли мы в будничном течении дней понимание детства как чего-то духовно близкого, совершенно родного? (4) Многие ли могут вслед за Сент-Экзюпери повторить: «Я из страны детства...»?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(5) «Дети — поэты, дети — философы», — утверждает Я. Корчак. (6) Поэты, потому что сильно радуются и сильно горюют; философы, потому что склонны глубоко вдумываться в жизнь.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(7) А потом? (8) Куда это уходит? (9) Почему, когда маленькие становятся большими, поэты и философы — редкость? (Е. Богат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новную тему данного отрывка прежде всего позволяют определить ______, которые неоднократно повторяются в первом абзаце. Текст Е. Богата пронизан сожалением о том, что люди, вырастая, теряют «душевное состояние детства». Призывая читателей задуматься над поднятыми проблемами, автор использует _______ (предложения 3, 4, 8, 9). Свои чувства Е. Богат пытается передать с помощью удачно подобранных ______ («загадочных и трагических особенностей жизни», «высокие минуты», «поразительно быстро» и др.). Для обоснования своей позиции автор прибегает к ________ (предложение 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Список терминов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метафора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2) фразеологизм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3) ключевые слова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4) синтаксический параллелизм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5) риторический вопрос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6) цитация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7) гипербола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8) инверсия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9) эпитеты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      10) сравнительный обор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етафор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это слово или выражение, употребленное в переносном значении. По существу, метафора – это свернутое сравнение, которое всегда можно «развернуть» в настоящий сравнительный оборот. В основу метафоризации может быть положено сходство самых разных призна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 расположению: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на груди утеса-великана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голова и хвост поезда, подошва г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 цвету: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золото волос, шоколадный заг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 размеру, количеству: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океан слез, гора книг, море р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 характеру звучания: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дождь барабанит, визг пилы, стоны сосны, вой ветра, заржал в ответ на шут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 степени ценности: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жемчужина поэзии, золотой работник, соль стат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 производимому впечатлению: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теплый прием, ледяной взгляд, кислая мина, сладкие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 форме: </a:t>
            </a: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луковка церквей, лента дор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афор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делает образ неожиданным, запоминающим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Найдите метафо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Догорит золотистым пламенем из телесного воска свеча, и луны часы деревянные прохрипят мой двенадцатый час.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(C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.Есен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Бродячая толпа облак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Барка жизни встала. (А.Бл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Весело пробираться по узкой дорожке, между двумя стенами высокой рж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Воспоминание безмолвно передо мной свой длинный развивает свит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Зима мягко и сыро лежала на крышах. (К. Паустовский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етоними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перенос названия с одного предмета на другой на основании смежност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перенесение свойств предмета на сам предм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Могут переноситься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Название помещения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, территории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на людей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, живущих, работающих там: </a:t>
            </a:r>
            <a:r>
              <a:rPr b="1" i="1" lang="en-US" sz="1900" spc="-1" strike="noStrike">
                <a:solidFill>
                  <a:srgbClr val="800000"/>
                </a:solidFill>
                <a:latin typeface="Times New Roman"/>
              </a:rPr>
              <a:t>Вся школа пришла на стадион поболеть за свою команду. Москва снова готова голосовать за своего мэра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Название сосуда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, емкости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на его содержимое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900" spc="-1" strike="noStrike">
                <a:solidFill>
                  <a:srgbClr val="800000"/>
                </a:solidFill>
                <a:latin typeface="Times New Roman"/>
              </a:rPr>
              <a:t>Съел две тарелки, попросил третью. Выпейте еще чашеч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Название вещества на изделие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из него: </a:t>
            </a:r>
            <a:r>
              <a:rPr b="1" i="1" lang="en-US" sz="1900" spc="-1" strike="noStrike">
                <a:solidFill>
                  <a:srgbClr val="800000"/>
                </a:solidFill>
                <a:latin typeface="Times New Roman"/>
              </a:rPr>
              <a:t>выставка старинного фарфора; дама вся в меха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Имя автора на его творения: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800000"/>
                </a:solidFill>
                <a:latin typeface="Times New Roman"/>
              </a:rPr>
              <a:t>люблю Чехова, выставка Сурикова; достать с полки Буни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Название географического пункта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на то,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что там производится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900" spc="-1" strike="noStrike">
                <a:solidFill>
                  <a:srgbClr val="800000"/>
                </a:solidFill>
                <a:latin typeface="Times New Roman"/>
              </a:rPr>
              <a:t>она коллекционирует гжель; запретили продажу боржом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Название орудия на действия, производимые им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900" spc="-1" strike="noStrike">
                <a:solidFill>
                  <a:srgbClr val="800000"/>
                </a:solidFill>
                <a:latin typeface="Times New Roman"/>
              </a:rPr>
              <a:t>Их села и нивы за буйный набег обрек он мечам и пожара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тонимические замены позволяют сделать мысль более яркой, лаконичной, выразительной, придают изображаемому предметную нагляд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айдите метоним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у, скушай же еще тарелочку, мой милы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Нет, не пошла Москва моя к нему с повинной голово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Янтарь на трубах Царегра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Фарфор и бронза на сто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, чувств изнеженных отра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Духи в граненом хруста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 едва ли кто в городе сп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очью пушечный гром грохот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е до сна! Вся столица молила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Чтоб Нева в берега вороти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Витрины были уставлены старинной бронз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Театр уж блеще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Аудитория внимала каждому слову лек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Читал охотно Апулея, а Цицерона не чита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ъясните, на чем основывается метонимический перенос в следующих предложени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Его ожидали скипетр и золотая ман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Лисья шуба взвизгнула тонко и пронзит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Весь зал оглушительно захлоп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Перо кипело стра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Истину нельзя добыть кула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Вернулся он старым, измученным человеком и бросил якорь у крутого океанского берега, где мирно дремала тихая дереву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Дрожал многоэтажный з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И, полный молодеж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Певцу раёк рукоплеск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Потом – партер и лож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66680" y="4495680"/>
            <a:ext cx="6553440" cy="1600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2438280"/>
            <a:ext cx="6477120" cy="1676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914400"/>
            <a:ext cx="6477120" cy="1219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838080"/>
            <a:ext cx="6629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екдох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разновидность метонимии, основанная на перенесении значения с одного явления на другое по признаку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личественного отноше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ежду ними: большее вместо меньшего, меньшее вместо большего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2362320"/>
            <a:ext cx="655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зывание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вместо целого предмета лишь его части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ли целого вместо части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ли единственного числа вместо множественного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ли определенного числа вместо неопределенного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4648320"/>
            <a:ext cx="5638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ычно в синекдохе употребляется единственное число вместо множественного:</a:t>
            </a:r>
            <a:br>
              <a:rPr sz="2000"/>
            </a:b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К нему и птица не летит,</a:t>
            </a:r>
            <a:br>
              <a:rPr sz="2000"/>
            </a:b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И зверь ней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r.Nice</cp:lastModifiedBy>
  <dcterms:modified xsi:type="dcterms:W3CDTF">2011-12-18T14:19:2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