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B8F-4772-469B-B549-6B861AED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994-51F0-413B-900E-FE50D5F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D70-AAFD-40F0-9DBC-918B8160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FC7-41FF-474E-ACBD-01B0C155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270E1-6374-4A4A-B38D-5FD80011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CE526-380A-41E1-8AD8-183FA615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9D064-CB35-4258-A062-2624B8B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C962B-7DAE-45B3-B9D4-B90D319B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3EC5A-D35E-4444-AEF2-FD26380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0EE75-4CF5-46B7-AA00-92DCA436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C17A5-E41B-4785-9C06-BAFA46F9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A89-ED58-43AF-92EA-6109BE2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67F1E-59D4-49FE-8D7C-A44118D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C556C-7B41-439D-8309-09D6137A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D3A2D-381F-49C0-9BB4-8E302B46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2E535-2F80-4694-942E-8158021A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22B4-32BE-4AA7-ADBE-ABD1A382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C8F-06A0-4867-A62E-3B09E490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65E-6207-45F9-9F36-7B0B390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BB5-FF66-4429-A62A-461D3A11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CF8-B169-4149-9CB6-DD85F1F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D22-64BC-4F60-B9A0-144E52C3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6B1-9F46-43B3-B0EE-42F4FCF6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1D2-28B2-4086-B759-22F43B6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F427-F9C7-44C9-9AC6-349602994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181-044D-4BDE-9563-92F237BD14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769080" cy="295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16"/>
                </a:solidFill>
                <a:latin typeface="Tahoma"/>
              </a:rPr>
              <a:t>Стили литературного языка.</a:t>
            </a:r>
            <a:br>
              <a:rPr sz="2800"/>
            </a:br>
            <a:r>
              <a:rPr b="1" i="1" lang="ru-RU" sz="2800" spc="-1" strike="noStrike">
                <a:solidFill>
                  <a:srgbClr val="161616"/>
                </a:solidFill>
                <a:latin typeface="Tahoma"/>
              </a:rPr>
              <a:t>Разговорно-бытовой стиль.</a:t>
            </a:r>
            <a:br>
              <a:rPr sz="2800"/>
            </a:br>
            <a:r>
              <a:rPr b="1" i="1" lang="ru-RU" sz="2800" spc="-1" strike="noStrike">
                <a:solidFill>
                  <a:srgbClr val="161616"/>
                </a:solidFill>
                <a:latin typeface="Tahoma"/>
              </a:rPr>
              <a:t>Письмо дру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789000"/>
            <a:ext cx="655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Tahoma"/>
              </a:rPr>
              <a:t>“</a:t>
            </a:r>
            <a:r>
              <a:rPr b="1" i="1" lang="ru-RU" sz="2400" spc="-1" strike="noStrike">
                <a:solidFill>
                  <a:srgbClr val="161616"/>
                </a:solidFill>
                <a:latin typeface="Tahoma"/>
              </a:rPr>
              <a:t>Хочу рассказать тебе о своем родном крае</a:t>
            </a:r>
            <a:r>
              <a:rPr b="1" i="1" lang="en-US" sz="2400" spc="-1" strike="noStrike">
                <a:solidFill>
                  <a:srgbClr val="16161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003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- В Алтайском крае много рек, большинство которых относится к системе Оби. Многие реки начинаются  высоко в горах и имеют стремительное течение, порожистые русла, глубоко врезанные долины. На уступах и перекатах, состоящих из прочных горных пород, образуются живописные водопады. </a:t>
            </a:r>
            <a:br>
              <a:rPr sz="1600"/>
            </a:b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  В нашем городе протекает река Бия – вторая по величине в крае. Начало она берет из Телецкого озе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6720" y="404640"/>
            <a:ext cx="2266920" cy="32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- Богат и разнообразен животный мир Алтайского края. Он представлен большим количеством видов млекопитающих, рыб и насекомых. Из хищников в степях обитает лисица-корсак. В лесных угодьях края, занимающих предгорья, нижний и средний пояс гор, встречаются бурый медведь, росомаха, рысь, волк и д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4408560"/>
            <a:ext cx="51832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Богат Алтай. Войди в тайгу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И лань застынет на бег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Проскачет заяц, и промчит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Как пламя, рыжая лиси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Сова когтит корявый сук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          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В траве разнежился барсук,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И в небе наподобье “Ту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Орел буравит высот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80808"/>
                </a:solidFill>
                <a:latin typeface="Tahoma"/>
              </a:rPr>
              <a:t>Г.Пак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796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- Привольно раскинулось старинное сибирское село Сростки между Чуйским трактом и зеленоглазой красавицей Катунью. Здесь родился и жил В.М.Шукшин.</a:t>
            </a:r>
            <a:br>
              <a:rPr sz="1400"/>
            </a:b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Прекрасны, привольны родные края Шукшина, столько в них дивной мощи. ”Малая родина ” Шукшина стала живительным источником всех видов искусства, присущих творчеству писателя, кинорежиссера, актера. Опыт и мудрость земляков, любовь к родной земле, впитанную с молоком матери, нес Шукшин в душе до последнего час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252360" y="5300640"/>
            <a:ext cx="6624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Родина… И почему же живет в сердце мысль, что когда-то я останусь там навсегда? Когда? Ведь непохоже по жизни-то… Отчего же? Может потому, что она и живет постоянно в сердце, и образ ее светлый погаснет со мной вместе. Видно так. Благослови тебя, моя родина, труд и разум человеческий! Будь счастлива, и я буду счастлив. 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516720" y="-360"/>
            <a:ext cx="262728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Шукшинские. Впервы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Затем Вторые… Пят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Десятые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из года в год-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полней и ши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несет нар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свою любов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сын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ahoma"/>
              </a:rPr>
              <a:t>В.Исае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96000" y="1052280"/>
            <a:ext cx="33480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- Г.Я.Солганик “ Стилистика русского языка”.Учеб. рособие для общеобразоват. Учеб. Заведений.- М:Дрофа, 1996г.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- С. Н. Иконников “Стилистика в курсе русского языка”:Пособие для учителей.- М: Просвещение, 1997г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ahoma"/>
              </a:rPr>
              <a:t>“</a:t>
            </a:r>
            <a:r>
              <a:rPr b="1" i="1" lang="ru-RU" sz="2400" spc="-1" strike="noStrike">
                <a:solidFill>
                  <a:srgbClr val="008000"/>
                </a:solidFill>
                <a:latin typeface="Tahoma"/>
              </a:rPr>
              <a:t>Несомый быстрыми конями рыцарь низвергся с     колесницы и расквасил себе сопатку</a:t>
            </a:r>
            <a:r>
              <a:rPr b="1" i="1" lang="ru-RU" sz="4000" spc="-1" strike="noStrike">
                <a:solidFill>
                  <a:srgbClr val="008000"/>
                </a:solidFill>
                <a:latin typeface="Tahoma"/>
              </a:rPr>
              <a:t>”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“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Восстань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, пророк, и 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виждь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внемли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!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А.С.Пушкин “Пророк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“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Восстань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, Петров!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Иванов! Я опять 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схватил пару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Боюсь, чтобы меня из лицея 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не вышибли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…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Я вынужден 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вышибить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вашего сына из лице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за постоянное </a:t>
            </a:r>
            <a:r>
              <a:rPr b="0" lang="ru-RU" sz="2000" spc="-1" strike="noStrike" u="sng">
                <a:solidFill>
                  <a:srgbClr val="008000"/>
                </a:solidFill>
                <a:uFillTx/>
                <a:latin typeface="Tahoma"/>
              </a:rPr>
              <a:t>хватание пар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…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95280" y="27975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38044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496800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Задан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писать в два столбика слова и словосочетания, которые вы употребили б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) в разговоре с друзьями 2) в деловых бумаг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делите известные орфограмм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В) следстви… указанного распол…ж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н…)чем (не) пронять, с беше(н,нн)ым нравом, город…шь чепуху, пр…бывание в командировк…, в соответстви… с пр…л…гаемой заявкой, (не)путевый парень, мотает(ть)ся по степ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был на совещание, св…ще(н,нн)ый дол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шустрый мальч…нка, расторгнуть соглашение, останься (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8"/>
          <p:cNvSpPr/>
          <p:nvPr/>
        </p:nvSpPr>
        <p:spPr>
          <a:xfrm>
            <a:off x="395280" y="549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971640" y="2924280"/>
            <a:ext cx="7704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Здравствуйте! В первых строках моего письма спешу сообщить, что письмо ваше мы получили, за что большое спасибо. Все живы, здоровы, чего и вам желаем. Насчет дела, о котором вы спрашивали, могу сообщить, что эти вахлаки с завода запчастей совсем перестали посылать шестереночки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Заместитель директора механического цеха А.П.Сидоров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50920" y="549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Я ускоренными темпами обеспечивала    восстановление     надлежащего порядка на жилой площади, а также в предназначенном для приготовления пищи подсобном помещении общего  пользования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00000" y="476280"/>
          <a:ext cx="6985080" cy="5473800"/>
        </p:xfrm>
        <a:graphic>
          <a:graphicData uri="http://schemas.openxmlformats.org/drawingml/2006/table">
            <a:tbl>
              <a:tblPr/>
              <a:tblGrid>
                <a:gridCol w="3494160"/>
                <a:gridCol w="349092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ы об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и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общение людей в бы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разговор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(обиходно-бытово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общение граждан с учреждениями и учрежден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между со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официально-делов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агитационно-массов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публицист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научная дея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нау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словесно-художественное твор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художественный сти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ahoma"/>
              </a:rPr>
              <a:t>Задание: определите, к какому стилю относится каждый из текс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83328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1.Степями принято называть большие равнинные пространства с травянистой растительностью, развившейся в условиях засушливого климата. Этим признаком- приспособленностью к недостатку воды - степная растительность отличается от лугов, которых много по берегам рек и в лесной зо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2. Степь чем дальше, тем становится прекраснее. Тогда весь юг, все то пространство, которое составляет нынешнюю Новороссию, до самого Черного моря было зеленою девственною пустыне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3. Знаете, прошлой весной в степи побывал. Первый раз. Ну и красота! Летом там все выгорает. А вот весной - другое дело! Куда ни глянешь – море пышной травы и цветов. А цветы! Каких только не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77564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1.</a:t>
            </a:r>
            <a:br>
              <a:rPr sz="1800"/>
            </a:b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Конкретность и разговорная образность.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(Эта стилевая черта обусловлена бытовой сферой общения,              неофициальной обстановкой и задачей речи – передать простое и конкретное содержание ( о жизни и быте людей, их внешности, поведении, о дружеских взаимоотношениях и т. д.).</a:t>
            </a:r>
            <a:br>
              <a:rPr sz="1800"/>
            </a:b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2.</a:t>
            </a: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Эмоциональность речи.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(В разговорной речи широко используется средства выражения чувств, оценок. Для выражения чувств используются самые разнообразные лексические, морфологические и синтаксические средства: междометия, частицы, эмоционально окрашенные слова и фразеологизмы, риторические вопросы, эмоционально окрашенные эпитеты, сравнения, метафоры, необычный порядок слов.)</a:t>
            </a:r>
            <a:br>
              <a:rPr sz="1800"/>
            </a:b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3.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 Простота и непринужденность речи.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(Темы разговора обычно близки собеседникам, обстановка  непринужденная. Господствуют короткие простые предложения. Сложные предложения также невелики по объему).</a:t>
            </a:r>
            <a:br>
              <a:rPr sz="1800"/>
            </a:b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4.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 Выражение волеизъявления.</a:t>
            </a:r>
            <a:br>
              <a:rPr sz="1800"/>
            </a:br>
            <a:r>
              <a:rPr b="0" i="1" lang="ru-RU" sz="1800" spc="-1" strike="noStrike">
                <a:solidFill>
                  <a:srgbClr val="080808"/>
                </a:solidFill>
                <a:latin typeface="Tahoma"/>
              </a:rPr>
              <a:t>(Выражение воли часто сопровождается различными эмоциями – гневом, досадой, раздражением, лаской, доброжелательств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71400" y="1785600"/>
            <a:ext cx="65293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16"/>
                </a:solidFill>
                <a:latin typeface="Tahoma"/>
              </a:rPr>
              <a:t>разговорная речь – это речь неподготовленная, непродуманная заранее. Для разговорной речи наиболее естественная устная форма. Но разговорно-бытовой стиль возможен и в письменной форме. Это прежде всего неофициальные письма, которыми обмениваются хорошо знакомые люди. Но когда  человек пишет письмо, он так или иначе обдумывает строй фраз – прежде чем написать начало предложения, он уже знает, как его закончить, подбирает слова и грамматические формы, наилучшие, по его мнению, для выражения мысли. Таковы требования к письменной речи.</a:t>
            </a:r>
            <a:br>
              <a:rPr sz="1400"/>
            </a:br>
            <a:r>
              <a:rPr b="1" lang="ru-RU" sz="1400" spc="-1" strike="noStrike">
                <a:solidFill>
                  <a:srgbClr val="161616"/>
                </a:solidFill>
                <a:latin typeface="Tahoma"/>
              </a:rPr>
              <a:t>Как писал А.С.Пушкин: “Письменный язык оживляется поминутно выражениями, рождающимися в разговоре, но не должен отрекаться от  приобретенного им  в течение веков. Писать единственно языком разговорным – значит не знать языка”.</a:t>
            </a:r>
            <a:r>
              <a:rPr b="0" lang="ru-RU" sz="1400" spc="-1" strike="noStrike">
                <a:solidFill>
                  <a:srgbClr val="16161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1636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16"/>
                </a:solidFill>
                <a:latin typeface="Tahoma"/>
              </a:rPr>
              <a:t>-  Есть на земле место, которое вам бесконечно дорого,- ваши родные края, где вы появились на свет, выросли, откуда уйдете в большую и интересную жизн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3080" y="4286160"/>
            <a:ext cx="4857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200" spc="-1" strike="noStrike">
                <a:solidFill>
                  <a:srgbClr val="161616"/>
                </a:solidFill>
                <a:latin typeface="Tahoma"/>
              </a:rPr>
              <a:t>“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161616"/>
                </a:solidFill>
                <a:latin typeface="Tahoma"/>
              </a:rPr>
              <a:t>Сибирь, Алтайский кра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1616"/>
                </a:solidFill>
                <a:latin typeface="Tahoma"/>
              </a:rPr>
              <a:t>         </a:t>
            </a:r>
            <a:r>
              <a:rPr b="1" lang="ru-RU" sz="1200" spc="-1" strike="noStrike">
                <a:solidFill>
                  <a:srgbClr val="161616"/>
                </a:solidFill>
                <a:latin typeface="Tahoma"/>
              </a:rPr>
              <a:t>Убежден, что среди самых красивейших, самобытных мест земного шара эта земля по красоте своей занимает не последнее место. Леса здесь богаты дичью, реки – рыбой, луга – неповторимым разнообразием цветов. Зимы суровые, с метелями и вьюгами, весны – быстрые, как горные потоки. Осень живописна и щедра дарами алтайской земли. И живут в этом краю спокойные и смелые, уважающие друг друга, любящие жизнь и землю люди. Это моя  родина”. (Г.С.Титов.)</a:t>
            </a:r>
            <a:r>
              <a:rPr b="1" lang="ru-RU" sz="1200" spc="-1" strike="noStrike">
                <a:solidFill>
                  <a:srgbClr val="16161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43120" y="2214720"/>
            <a:ext cx="3178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16"/>
                </a:solidFill>
                <a:latin typeface="Tahoma"/>
              </a:rPr>
              <a:t>- Алтай ( от монгольского “алтан”- “золотой”)- горная страна Азии. Геологическая история Алтая насчитывает почти 2 млрд.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2:57:35Z</dcterms:created>
  <dc:creator>Шабановы</dc:creator>
  <dc:description/>
  <dc:language>en-US</dc:language>
  <cp:lastModifiedBy>multimedia</cp:lastModifiedBy>
  <dcterms:modified xsi:type="dcterms:W3CDTF">2010-11-07T10:26:41Z</dcterms:modified>
  <cp:revision>25</cp:revision>
  <dc:subject/>
  <dc:title>Стили литературного языка. Разговорно-бытовой стиль. Письмо другу.</dc:title>
</cp:coreProperties>
</file>