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11E-7B00-4571-A707-E23DA451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8B3-95E6-4F64-91A9-F2D54863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706-330D-41D1-BBA0-45B8FE5F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6FD-75A8-4E1E-BBC1-106C9261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855-78CB-4EBE-913C-D260AF4A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718-A66C-4D15-8952-E708887F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861-A1A8-4BD0-8D5D-731827A2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E57-7CD4-4465-AD07-4B9A90E5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A39-4B0F-4342-B64B-6E162405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CC2-122F-4846-A82E-94739D79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454-A763-4E2A-8760-EDFC81A7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4C0-552B-4F6E-BC2A-8B024F68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F928-273B-4732-85AC-9C4EF2297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yaki.net/uploads/posts/2008-02/1203262002_1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g-fotki.yandex.ru/get/3107/vik61267271.3/0_2ab7d_41290302_XL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yaki.net/uploads/posts/2008-02/1203262002_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107/vik61267271.3/0_2ab7d_41290302_XL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16000" y="260280"/>
            <a:ext cx="7201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Русский язык</a:t>
            </a:r>
            <a:endParaRPr b="1" lang="en-US" sz="1800" spc="1" strike="noStrike">
              <a:ln w="284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1- класс</a:t>
            </a:r>
            <a:endParaRPr b="1" lang="en-US" sz="1800" spc="1" strike="noStrike">
              <a:ln w="284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403280" y="2492280"/>
            <a:ext cx="3457800" cy="4365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7451640" y="1628640"/>
            <a:ext cx="136044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Рисунок1"/>
          <p:cNvPicPr/>
          <p:nvPr/>
        </p:nvPicPr>
        <p:blipFill>
          <a:blip r:embed="rId4"/>
          <a:stretch/>
        </p:blipFill>
        <p:spPr>
          <a:xfrm>
            <a:off x="4788000" y="2924280"/>
            <a:ext cx="3139920" cy="370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5"/>
          <a:stretch/>
        </p:blipFill>
        <p:spPr>
          <a:xfrm>
            <a:off x="611280" y="1773360"/>
            <a:ext cx="136044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арик, шари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70DC-C117-4254-92C6-353223E674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B8A4-0FBE-4ED6-9A56-A047EBF24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0" y="5715000"/>
            <a:ext cx="328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шари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5286240" y="5715000"/>
            <a:ext cx="328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Шари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Картинка 1 из 1438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7160" y="2000160"/>
            <a:ext cx="2428920" cy="381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Картинка 1 из 782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14840" y="2143080"/>
            <a:ext cx="5076720" cy="38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067280" y="1052640"/>
            <a:ext cx="3744720" cy="2305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755640" y="3860640"/>
            <a:ext cx="70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зелёная Петрушка</a:t>
            </a:r>
            <a:endParaRPr b="1" lang="en-US" sz="1800" spc="1" strike="noStrike">
              <a:ln w="12600">
                <a:solidFill>
                  <a:srgbClr val="339966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11280" y="5013360"/>
            <a:ext cx="7273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попугай петрушка</a:t>
            </a:r>
            <a:endParaRPr b="1" lang="en-US" sz="1800" spc="1" strike="noStrike">
              <a:ln w="12600">
                <a:solidFill>
                  <a:srgbClr val="339966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Под нашим домом расцвела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(Роза, ро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Я и моя подруга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(Роза, роза) учимся в перв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Мою подругу зовут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(Лилия, лил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В пруду растёт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Лилия, лил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В высоте парил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(Орёл, орё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Город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(Орёл, орёл) очень крас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7200720" cy="4105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900000" y="5300640"/>
            <a:ext cx="770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вам, ребята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857160" y="785880"/>
            <a:ext cx="77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30 марта</a:t>
            </a:r>
            <a:r>
              <a:rPr b="0" i="1" lang="en-US" sz="4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643040" y="1500120"/>
            <a:ext cx="66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Constantia"/>
              </a:rPr>
              <a:t>Классная работ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1619280" y="692280"/>
            <a:ext cx="5761080" cy="511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76280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0" spc="-1" strike="noStrike">
                <a:solidFill>
                  <a:srgbClr val="333399"/>
                </a:solidFill>
                <a:latin typeface="Propisi"/>
              </a:rPr>
              <a:t>Э</a:t>
            </a:r>
            <a:r>
              <a:rPr b="0" i="1" lang="en-US" sz="20000" spc="-1" strike="noStrike">
                <a:solidFill>
                  <a:srgbClr val="333399"/>
                </a:solidFill>
                <a:latin typeface="Propisi"/>
              </a:rPr>
              <a:t> </a:t>
            </a:r>
            <a:r>
              <a:rPr b="0" i="1" lang="en-US" sz="9600" spc="-1" strike="noStrike">
                <a:solidFill>
                  <a:srgbClr val="333399"/>
                </a:solidFill>
                <a:latin typeface="Propisi"/>
              </a:rPr>
              <a:t>   </a:t>
            </a:r>
            <a:r>
              <a:rPr b="0" i="1" lang="en-US" sz="35000" spc="-1" strike="noStrike">
                <a:solidFill>
                  <a:srgbClr val="333399"/>
                </a:solidFill>
                <a:latin typeface="Propisi"/>
              </a:rPr>
              <a:t>э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4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7"/>
          <p:cNvSpPr/>
          <p:nvPr/>
        </p:nvSpPr>
        <p:spPr>
          <a:xfrm>
            <a:off x="0" y="47973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2232000" cy="3024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3860640"/>
            <a:ext cx="6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558972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630864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3933720"/>
            <a:ext cx="10792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omic Sans MS"/>
              </a:rPr>
              <a:t>С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4797360"/>
            <a:ext cx="107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omic Sans MS"/>
              </a:rPr>
              <a:t>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4221000"/>
            <a:ext cx="1079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omic Sans MS"/>
              </a:rPr>
              <a:t>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5373720"/>
            <a:ext cx="1079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omic Sans MS"/>
              </a:rPr>
              <a:t>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1640" y="3500280"/>
            <a:ext cx="1079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omic Sans MS"/>
              </a:rPr>
              <a:t>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4581360"/>
            <a:ext cx="1079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omic Sans MS"/>
              </a:rPr>
              <a:t>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77080" y="3716280"/>
            <a:ext cx="107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omic Sans MS"/>
              </a:rPr>
              <a:t>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5373720"/>
            <a:ext cx="1079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omic Sans MS"/>
              </a:rPr>
              <a:t>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708280"/>
            <a:ext cx="107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omic Sans MS"/>
              </a:rPr>
              <a:t>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3645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08360" y="3573360"/>
            <a:ext cx="287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32720" y="3645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908000" y="1628280"/>
            <a:ext cx="14292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932360" y="1699920"/>
            <a:ext cx="14436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885080" y="1773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1628640"/>
            <a:ext cx="842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Comic Sans MS"/>
              </a:rPr>
              <a:t>собака, корова, ворон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Comic Sans MS"/>
              <a:ea typeface="Comic Sans MS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4968720" cy="5472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443640" y="549360"/>
            <a:ext cx="936720" cy="93492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42" h="21600">
                <a:moveTo>
                  <a:pt x="0" y="0"/>
                </a:moveTo>
                <a:lnTo>
                  <a:pt x="21642" y="0"/>
                </a:lnTo>
                <a:lnTo>
                  <a:pt x="21642" y="21600"/>
                </a:lnTo>
                <a:lnTo>
                  <a:pt x="0" y="21600"/>
                </a:lnTo>
                <a:close/>
              </a:path>
              <a:path fill="lightenLess" w="21642" h="21600">
                <a:moveTo>
                  <a:pt x="0" y="0"/>
                </a:moveTo>
                <a:lnTo>
                  <a:pt x="21642" y="0"/>
                </a:lnTo>
                <a:lnTo>
                  <a:pt x="20242" y="1400"/>
                </a:lnTo>
                <a:lnTo>
                  <a:pt x="1400" y="1400"/>
                </a:lnTo>
                <a:close/>
              </a:path>
              <a:path fill="darken" w="21642" h="21600">
                <a:moveTo>
                  <a:pt x="21642" y="0"/>
                </a:moveTo>
                <a:lnTo>
                  <a:pt x="21642" y="21600"/>
                </a:lnTo>
                <a:lnTo>
                  <a:pt x="20242" y="20200"/>
                </a:lnTo>
                <a:lnTo>
                  <a:pt x="20242" y="1400"/>
                </a:lnTo>
                <a:close/>
              </a:path>
              <a:path fill="darkenLess" w="21642" h="21600">
                <a:moveTo>
                  <a:pt x="21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2" y="20200"/>
                </a:lnTo>
                <a:close/>
              </a:path>
              <a:path fill="lighten" w="21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2" h="21600">
                <a:moveTo>
                  <a:pt x="108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42" h="21600">
                <a:moveTo>
                  <a:pt x="11926" y="14281"/>
                </a:moveTo>
                <a:lnTo>
                  <a:pt x="11926" y="12323"/>
                </a:lnTo>
                <a:cubicBezTo>
                  <a:pt x="11926" y="11496"/>
                  <a:pt x="12257" y="10800"/>
                  <a:pt x="12857" y="10800"/>
                </a:cubicBezTo>
                <a:cubicBezTo>
                  <a:pt x="13989" y="10800"/>
                  <a:pt x="14885" y="9434"/>
                  <a:pt x="14885" y="7849"/>
                </a:cubicBezTo>
                <a:cubicBezTo>
                  <a:pt x="14885" y="5534"/>
                  <a:pt x="13032" y="3794"/>
                  <a:pt x="10821" y="3794"/>
                </a:cubicBezTo>
                <a:cubicBezTo>
                  <a:pt x="8610" y="3794"/>
                  <a:pt x="6939" y="5534"/>
                  <a:pt x="6939" y="7849"/>
                </a:cubicBezTo>
                <a:lnTo>
                  <a:pt x="8793" y="7849"/>
                </a:lnTo>
                <a:cubicBezTo>
                  <a:pt x="8793" y="6709"/>
                  <a:pt x="9715" y="5821"/>
                  <a:pt x="10821" y="5821"/>
                </a:cubicBezTo>
                <a:cubicBezTo>
                  <a:pt x="11926" y="5821"/>
                  <a:pt x="12857" y="6709"/>
                  <a:pt x="12857" y="7849"/>
                </a:cubicBezTo>
                <a:cubicBezTo>
                  <a:pt x="12857" y="8589"/>
                  <a:pt x="12387" y="9320"/>
                  <a:pt x="11926" y="9320"/>
                </a:cubicBezTo>
                <a:cubicBezTo>
                  <a:pt x="10821" y="9320"/>
                  <a:pt x="9715" y="10800"/>
                  <a:pt x="9715" y="12323"/>
                </a:cubicBezTo>
                <a:lnTo>
                  <a:pt x="9715" y="14281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21000"/>
            <a:ext cx="936720" cy="93672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5080" y="3429000"/>
            <a:ext cx="934920" cy="9367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1600" h="21642">
                <a:moveTo>
                  <a:pt x="0" y="0"/>
                </a:moveTo>
                <a:lnTo>
                  <a:pt x="21600" y="0"/>
                </a:lnTo>
                <a:lnTo>
                  <a:pt x="21600" y="21642"/>
                </a:lnTo>
                <a:lnTo>
                  <a:pt x="0" y="21642"/>
                </a:lnTo>
                <a:close/>
              </a:path>
              <a:path fill="lightenLess" w="21600" h="216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2">
                <a:moveTo>
                  <a:pt x="21600" y="0"/>
                </a:moveTo>
                <a:lnTo>
                  <a:pt x="21600" y="21642"/>
                </a:lnTo>
                <a:lnTo>
                  <a:pt x="20200" y="20242"/>
                </a:lnTo>
                <a:lnTo>
                  <a:pt x="20200" y="1400"/>
                </a:lnTo>
                <a:close/>
              </a:path>
              <a:path fill="darkenLess" w="21600" h="21642">
                <a:moveTo>
                  <a:pt x="21600" y="21642"/>
                </a:moveTo>
                <a:lnTo>
                  <a:pt x="0" y="21642"/>
                </a:lnTo>
                <a:lnTo>
                  <a:pt x="1400" y="20242"/>
                </a:lnTo>
                <a:lnTo>
                  <a:pt x="20200" y="20242"/>
                </a:lnTo>
                <a:close/>
              </a:path>
              <a:path fill="lighten" w="21600" h="21642">
                <a:moveTo>
                  <a:pt x="0" y="216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2"/>
                </a:lnTo>
                <a:close/>
              </a:path>
              <a:path fill="darken" w="21600" h="21642">
                <a:moveTo>
                  <a:pt x="10800" y="1482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42">
                <a:moveTo>
                  <a:pt x="11905" y="14302"/>
                </a:moveTo>
                <a:lnTo>
                  <a:pt x="11905" y="12344"/>
                </a:lnTo>
                <a:cubicBezTo>
                  <a:pt x="11905" y="11517"/>
                  <a:pt x="12236" y="10821"/>
                  <a:pt x="12837" y="10821"/>
                </a:cubicBezTo>
                <a:cubicBezTo>
                  <a:pt x="13968" y="10821"/>
                  <a:pt x="14865" y="9454"/>
                  <a:pt x="14865" y="7870"/>
                </a:cubicBezTo>
                <a:cubicBezTo>
                  <a:pt x="14865" y="5555"/>
                  <a:pt x="13011" y="3814"/>
                  <a:pt x="10800" y="3814"/>
                </a:cubicBezTo>
                <a:cubicBezTo>
                  <a:pt x="8589" y="3814"/>
                  <a:pt x="6918" y="5555"/>
                  <a:pt x="6918" y="7870"/>
                </a:cubicBezTo>
                <a:lnTo>
                  <a:pt x="8772" y="7870"/>
                </a:lnTo>
                <a:cubicBezTo>
                  <a:pt x="8772" y="6730"/>
                  <a:pt x="9695" y="5842"/>
                  <a:pt x="10800" y="5842"/>
                </a:cubicBezTo>
                <a:cubicBezTo>
                  <a:pt x="11905" y="5842"/>
                  <a:pt x="12837" y="6730"/>
                  <a:pt x="12837" y="7870"/>
                </a:cubicBezTo>
                <a:cubicBezTo>
                  <a:pt x="12837" y="8610"/>
                  <a:pt x="12367" y="9341"/>
                  <a:pt x="11905" y="9341"/>
                </a:cubicBezTo>
                <a:cubicBezTo>
                  <a:pt x="10800" y="9341"/>
                  <a:pt x="9695" y="10821"/>
                  <a:pt x="9695" y="12344"/>
                </a:cubicBezTo>
                <a:lnTo>
                  <a:pt x="9695" y="143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43640" y="465300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56720" y="1413000"/>
            <a:ext cx="936360" cy="863640"/>
          </a:xfrm>
          <a:custGeom>
            <a:avLst/>
            <a:gdLst>
              <a:gd name="textAreaLeft" fmla="*/ 55800 w 936360"/>
              <a:gd name="textAreaRight" fmla="*/ 880560 w 93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18" h="21600">
                <a:moveTo>
                  <a:pt x="0" y="0"/>
                </a:moveTo>
                <a:lnTo>
                  <a:pt x="23418" y="0"/>
                </a:lnTo>
                <a:lnTo>
                  <a:pt x="23418" y="21600"/>
                </a:lnTo>
                <a:lnTo>
                  <a:pt x="0" y="21600"/>
                </a:lnTo>
                <a:close/>
              </a:path>
              <a:path fill="lightenLess" w="23418" h="21600">
                <a:moveTo>
                  <a:pt x="0" y="0"/>
                </a:moveTo>
                <a:lnTo>
                  <a:pt x="23418" y="0"/>
                </a:lnTo>
                <a:lnTo>
                  <a:pt x="22018" y="1400"/>
                </a:lnTo>
                <a:lnTo>
                  <a:pt x="1400" y="1400"/>
                </a:lnTo>
                <a:close/>
              </a:path>
              <a:path fill="darken" w="23418" h="21600">
                <a:moveTo>
                  <a:pt x="23418" y="0"/>
                </a:moveTo>
                <a:lnTo>
                  <a:pt x="23418" y="21600"/>
                </a:lnTo>
                <a:lnTo>
                  <a:pt x="22018" y="20200"/>
                </a:lnTo>
                <a:lnTo>
                  <a:pt x="22018" y="1400"/>
                </a:lnTo>
                <a:close/>
              </a:path>
              <a:path fill="darkenLess" w="23418" h="21600">
                <a:moveTo>
                  <a:pt x="23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8" y="20200"/>
                </a:lnTo>
                <a:close/>
              </a:path>
              <a:path fill="lighten" w="23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18" h="21600">
                <a:moveTo>
                  <a:pt x="117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18" h="21600">
                <a:moveTo>
                  <a:pt x="12814" y="14281"/>
                </a:moveTo>
                <a:lnTo>
                  <a:pt x="12814" y="12323"/>
                </a:lnTo>
                <a:cubicBezTo>
                  <a:pt x="12814" y="11496"/>
                  <a:pt x="13145" y="10800"/>
                  <a:pt x="13746" y="10800"/>
                </a:cubicBezTo>
                <a:cubicBezTo>
                  <a:pt x="14877" y="10800"/>
                  <a:pt x="15774" y="9434"/>
                  <a:pt x="15774" y="7849"/>
                </a:cubicBezTo>
                <a:cubicBezTo>
                  <a:pt x="15774" y="5534"/>
                  <a:pt x="13920" y="3794"/>
                  <a:pt x="11709" y="3794"/>
                </a:cubicBezTo>
                <a:cubicBezTo>
                  <a:pt x="9498" y="3794"/>
                  <a:pt x="7827" y="5534"/>
                  <a:pt x="7827" y="7849"/>
                </a:cubicBezTo>
                <a:lnTo>
                  <a:pt x="9681" y="7849"/>
                </a:lnTo>
                <a:cubicBezTo>
                  <a:pt x="9681" y="6709"/>
                  <a:pt x="10604" y="5821"/>
                  <a:pt x="11709" y="5821"/>
                </a:cubicBezTo>
                <a:cubicBezTo>
                  <a:pt x="12814" y="5821"/>
                  <a:pt x="13746" y="6709"/>
                  <a:pt x="13746" y="7849"/>
                </a:cubicBezTo>
                <a:cubicBezTo>
                  <a:pt x="13746" y="8589"/>
                  <a:pt x="13276" y="9320"/>
                  <a:pt x="12814" y="9320"/>
                </a:cubicBezTo>
                <a:cubicBezTo>
                  <a:pt x="11709" y="9320"/>
                  <a:pt x="10604" y="10800"/>
                  <a:pt x="10604" y="12323"/>
                </a:cubicBezTo>
                <a:lnTo>
                  <a:pt x="10604" y="14281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Картинка 1 из 1438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692280"/>
            <a:ext cx="475128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Картинка 1 из 78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1341360"/>
            <a:ext cx="5508720" cy="424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6:51:12Z</dcterms:created>
  <dc:creator>Димон</dc:creator>
  <dc:description/>
  <dc:language>en-US</dc:language>
  <cp:lastModifiedBy>Андрей</cp:lastModifiedBy>
  <dcterms:modified xsi:type="dcterms:W3CDTF">2011-10-09T13:52:43Z</dcterms:modified>
  <cp:revision>30</cp:revision>
  <dc:subject/>
  <dc:title>Ь</dc:title>
</cp:coreProperties>
</file>